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30225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Garrulity and Fluff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64134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arsten Borman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6197760" cy="39625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6564240" y="-88920"/>
            <a:ext cx="654228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urrent approach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2387520"/>
            <a:ext cx="1046484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ome protocols can be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fix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Zapf Dingbats"/>
              </a:rPr>
              <a:t>ND ➼ 6LoWPAN-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ome protocols can be re-used after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removing sources of complex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.g., DTLS without X.509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architectures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can be re-used with more appropriate protoco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.g., reincarnate HTTP’s REST in CoAP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 rot="20382000">
            <a:off x="8847000" y="2097000"/>
            <a:ext cx="299736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Gill Sans"/>
              </a:rPr>
              <a:t>= retargeted for 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Gill Sans"/>
              </a:rPr>
              <a:t>less generality, 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Gill Sans"/>
                <a:ea typeface="Gill Sans"/>
              </a:rPr>
              <a:t>more austerity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your protocol </a:t>
            </a:r>
            <a:br>
              <a:rPr sz="8400"/>
            </a:b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y be nex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0794960" cy="637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unless it only runs on aircraft carriers and up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f not, start thinking about ways to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duce garrul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ctively get rid of fluff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ttp://www.iab.org/wp-content/IAB-uploads/2011/04/Bormann.pd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 decade of sensor network research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744200" cy="612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9992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verything has to be done in a different wa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9988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ternet protocols use too much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00200" indent="-514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nerg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00200" indent="-514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pectr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00200" indent="-514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ates 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9992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reenfield architectures, future internet, etc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problems are re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onstrained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nod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little power (~ µW), lots of sleep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little ROM (code space), RAM (stat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onstrained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network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igh los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ot an Ethernet (multicast, reliability, ...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ait, </a:t>
            </a:r>
            <a:br>
              <a:rPr sz="8400"/>
            </a:b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e heard this befo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ttempts at redoing everything for some 10x quantitative reason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lightweight protocols” (XTP and friend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A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T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hy did WAP&amp;co fail?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insert reason here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) +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oore’s la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6648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 the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time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you need to get 10x performance out of a new architecture,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oore’s law gives you 10x performance with the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old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architec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"/>
              </a:rPr>
              <a:t>in constrained node/networks, </a:t>
            </a:r>
            <a:r>
              <a:rPr b="1" lang="en-US" sz="6000" spc="-1" strike="noStrike">
                <a:solidFill>
                  <a:srgbClr val="000000"/>
                </a:solidFill>
                <a:latin typeface="Gill Sans"/>
              </a:rPr>
              <a:t>Moore’s law barely applies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 the low-power, low-cost area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ains from Moore’s law are us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o save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ow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o save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cos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erformance, ROM, RAM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row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very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slowl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eanwhile...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eople are </a:t>
            </a:r>
            <a:r>
              <a:rPr b="1" i="1" lang="en-US" sz="4200" spc="-1" strike="noStrike">
                <a:solidFill>
                  <a:srgbClr val="000000"/>
                </a:solidFill>
                <a:latin typeface="Gill Sans"/>
              </a:rPr>
              <a:t>building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the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Internet of Thing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26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cus on what we can do while maintaining much of the Internet architec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mbedded Internet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hat hurt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rchitectural issu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arrul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luf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lease re-calibrate your </a:t>
            </a:r>
            <a:r>
              <a:rPr b="1" lang="en-US" sz="8400" spc="-1" strike="noStrike">
                <a:solidFill>
                  <a:srgbClr val="000000"/>
                </a:solidFill>
                <a:latin typeface="Gill Sans"/>
              </a:rPr>
              <a:t>complexity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meter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642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code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is expens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900" spc="-1" strike="noStrike">
                <a:solidFill>
                  <a:srgbClr val="000000"/>
                </a:solidFill>
                <a:latin typeface="Gill Sans"/>
              </a:rPr>
              <a:t>class 1” = 100 KiB, “class 2” = 250 KiB</a:t>
            </a:r>
            <a:endParaRPr b="0" lang="en-US" sz="39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state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is expens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900" spc="-1" strike="noStrike">
                <a:solidFill>
                  <a:srgbClr val="000000"/>
                </a:solidFill>
                <a:latin typeface="Gill Sans"/>
              </a:rPr>
              <a:t>class 1” = 10 KiB, “class 2” = 50 KiB</a:t>
            </a:r>
            <a:endParaRPr b="0" lang="en-US" sz="39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ackets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are expens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listening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is even more expens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nd multicast doesn’t 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