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322717-6AEC-488F-A16A-22D8CE11466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5790C3-1971-4867-9B00-26A1FAD3AE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DB9EA1-C395-41DE-9517-E287974B5A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73694C-B7CC-4393-9F83-BF44D99679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08B49A-DFC6-49D8-9980-F4648A0F28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2C1EFB-CB78-4FB4-9E92-05CD782419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9270B4-8BB5-4C90-B411-76851E4F2D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B6C397-B831-4E66-B385-2D2B2CB8BE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499646-A65A-4D19-86CA-C8C807A7DD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263E5F-EF22-4C5A-BBFA-6AB27FBD25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9CA5-331C-4B26-854A-E4927B8EE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8972-2A54-4B80-BBBD-0F2EED1FB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BC70-241F-4782-9308-DE68F740C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8736-E470-47C9-951B-CD01F51F8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5C398-F47F-4E58-80DD-7B15B5719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E7579-7DDA-421B-B358-DA7F7044E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71660-C999-48E1-9E7C-125E77F82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C9152-002C-4EE0-B47C-94C969B70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589E4-8CDB-41BA-8BE9-BCC5DA14F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22400"/>
            <a:ext cx="68580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3C4C7-B68A-4B99-AAAA-40C28D1FE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06571-9DAA-4769-9F5A-444142B38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7000-27E9-4ECB-ADC6-09989F175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98993-90E4-4656-917F-C2E3AC60F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C8AAB-B2B6-4554-9C76-E7D21FD98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5151B-02D9-44EB-B129-329CEEC83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915F8-E1A3-4558-A2A9-8D4BF5FBB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F1233-9EBB-4969-A34F-F80BEDEA8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3505-4090-4CB4-9716-760C66D66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1B2A-9D79-4D97-8898-DE8B762CC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AE2B-F7DB-4176-A5AF-6B007CE15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22400"/>
            <a:ext cx="68580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D611-C55A-4351-8B3C-6BD98DA71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DC64-3C27-4CBB-A28B-1323430FC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EE73-8207-4320-82E0-8E2A99C6B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D717-F967-4016-B356-1996F1634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9"/>
          <p:cNvGraphicFramePr/>
          <p:nvPr/>
        </p:nvGraphicFramePr>
        <p:xfrm>
          <a:off x="7481880" y="317520"/>
          <a:ext cx="1368360" cy="725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481880" y="317520"/>
                    <a:ext cx="1368360" cy="72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Line 2"/>
          <p:cNvSpPr/>
          <p:nvPr/>
        </p:nvSpPr>
        <p:spPr>
          <a:xfrm>
            <a:off x="7391520" y="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0000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B71F1-DDB7-40E3-8B2B-541E298E6A1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8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Object 10"/>
          <p:cNvGraphicFramePr/>
          <p:nvPr/>
        </p:nvGraphicFramePr>
        <p:xfrm>
          <a:off x="7481880" y="3135240"/>
          <a:ext cx="1368360" cy="725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7" name="Object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481880" y="3135240"/>
                    <a:ext cx="1368360" cy="72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0000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A411E-B31D-4D74-9F5C-A759F9ED616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trustee.ietf.org/docs/IETF-Trust-License-Policy.pdf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4400" spc="-1" strike="noStrike">
                <a:solidFill>
                  <a:srgbClr val="330066"/>
                </a:solidFill>
                <a:latin typeface="Arial"/>
              </a:rPr>
              <a:t>IETF Trust Chair Report</a:t>
            </a:r>
            <a:br>
              <a:rPr sz="4400"/>
            </a:b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shall Euba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Marshall.eubanks@gmail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vember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200" spc="-1" strike="noStrike">
                <a:solidFill>
                  <a:srgbClr val="330066"/>
                </a:solidFill>
                <a:latin typeface="Arial"/>
              </a:rPr>
              <a:t>The IETF Trust is 5, going on 6, years old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5341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171288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IETF Trust was founded December 15, 2005, so it is now  almost 6 years ol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171288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any thanks to CNRI and the Internet Society for their contribution of IPR to found the Tru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171288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  <a:ea typeface="Arial"/>
              </a:rPr>
              <a:t>Thanks to everyone who has contributed to making the Trust work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171288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  <a:ea typeface="Arial"/>
              </a:rPr>
              <a:t>And, as always, thanks to our scribes.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28C2E-4D28-4F75-89B2-33668E5ACA2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200" spc="-1" strike="noStrike">
                <a:solidFill>
                  <a:srgbClr val="330066"/>
                </a:solidFill>
                <a:latin typeface="Arial"/>
              </a:rPr>
              <a:t>IETF Trust : Accomplishments since IETF 81 (Quebec City)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34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171288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NewRomanPSMT"/>
              </a:rPr>
              <a:t>The Minutes are complete through July 14th,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171288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NewRomanPSMT"/>
              </a:rPr>
              <a:t>There have been some minor issues addres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171288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NewRomanPSMT"/>
              </a:rPr>
              <a:t>Publishing RFCs as derivative works (i.e., with a wrapper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71288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NewRomanPSMT"/>
              </a:rPr>
              <a:t>This will need a license, and the issue is still ope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171288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NewRomanPSMT"/>
              </a:rPr>
              <a:t>Updates and errata to Cop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ght FAQ 2010-06-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71288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71288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71288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1A1F2-3155-4192-96DC-29BBCF5FFE5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200" spc="-1" strike="noStrike">
                <a:solidFill>
                  <a:srgbClr val="330066"/>
                </a:solidFill>
                <a:latin typeface="Arial"/>
              </a:rPr>
              <a:t>IETF Trust Actions : Response to Subpoenas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86800" cy="48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7160" indent="-227160">
              <a:lnSpc>
                <a:spcPct val="95000"/>
              </a:lnSpc>
              <a:spcBef>
                <a:spcPts val="561"/>
              </a:spcBef>
              <a:spcAft>
                <a:spcPts val="56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Arial"/>
              </a:rPr>
              <a:t>The IETF and the IETF Trust receive subpeonas from time to time as part of evidence gathering in patent ca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7612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Primarily, show abuse of the patent process (i.e., participation in the IETF without filing of IPR discussions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ct val="95000"/>
              </a:lnSpc>
              <a:spcBef>
                <a:spcPts val="561"/>
              </a:spcBef>
              <a:spcAft>
                <a:spcPts val="56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Arial"/>
              </a:rPr>
              <a:t>We thus have to respond to requests for documents, physical proof of attendance at IETF meetings (and even occassionally depositions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76120">
              <a:lnSpc>
                <a:spcPct val="95000"/>
              </a:lnSpc>
              <a:spcBef>
                <a:spcPts val="561"/>
              </a:spcBef>
              <a:spcAft>
                <a:spcPts val="224"/>
              </a:spcAft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Arial"/>
              </a:rPr>
              <a:t>These are for blue sheets, email archives, and other mate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ct val="95000"/>
              </a:lnSpc>
              <a:spcBef>
                <a:spcPts val="587"/>
              </a:spcBef>
              <a:spcAft>
                <a:spcPts val="238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We have received three subpoenas and various informal requests potentially requiring a Trust response in 2011 to date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76120">
              <a:lnSpc>
                <a:spcPct val="95000"/>
              </a:lnSpc>
              <a:spcBef>
                <a:spcPts val="524"/>
              </a:spcBef>
              <a:spcAft>
                <a:spcPts val="213"/>
              </a:spcAft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One was settled by the principals before it really involved the IETF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76120">
              <a:lnSpc>
                <a:spcPct val="95000"/>
              </a:lnSpc>
              <a:spcBef>
                <a:spcPts val="524"/>
              </a:spcBef>
              <a:spcAft>
                <a:spcPts val="213"/>
              </a:spcAft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One required two declarations by Alexa Morris of AM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76120">
              <a:lnSpc>
                <a:spcPct val="95000"/>
              </a:lnSpc>
              <a:spcBef>
                <a:spcPts val="524"/>
              </a:spcBef>
              <a:spcAft>
                <a:spcPts val="213"/>
              </a:spcAft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e last is quiescent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ct val="95000"/>
              </a:lnSpc>
              <a:spcBef>
                <a:spcPts val="561"/>
              </a:spcBef>
              <a:spcAft>
                <a:spcPts val="224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have agreed to publish new subpoenas as they come in. There have, however, to date been no new ones to publis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B7E3B-344D-4A19-AA55-EFB701A26D8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200" spc="-1" strike="noStrike">
                <a:solidFill>
                  <a:srgbClr val="330066"/>
                </a:solidFill>
                <a:latin typeface="Arial"/>
              </a:rPr>
              <a:t>IETF Trust Status : Insurance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7160" indent="-227160">
              <a:lnSpc>
                <a:spcPct val="95000"/>
              </a:lnSpc>
              <a:spcBef>
                <a:spcPts val="561"/>
              </a:spcBef>
              <a:spcAft>
                <a:spcPts val="56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Arial"/>
                <a:ea typeface="Arial"/>
              </a:rPr>
              <a:t>Until recently, the IETF Trust and Trustees were insured as part of the general ISOC / IETF / IAOC insurance (which covers the IAOC, IESG, etc.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ct val="95000"/>
              </a:lnSpc>
              <a:spcBef>
                <a:spcPts val="561"/>
              </a:spcBef>
              <a:spcAft>
                <a:spcPts val="56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Arial"/>
                <a:ea typeface="Arial"/>
              </a:rPr>
              <a:t>For various reasons, the insurance underwriter has expressed an unwillingless to continue without a specific policy for the Tru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ct val="95000"/>
              </a:lnSpc>
              <a:spcBef>
                <a:spcPts val="561"/>
              </a:spcBef>
              <a:spcAft>
                <a:spcPts val="56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Arial"/>
                <a:ea typeface="Arial"/>
              </a:rPr>
              <a:t>Greg Kapfers of ISOC worked with us to get insurance for the Trust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76120">
              <a:lnSpc>
                <a:spcPct val="95000"/>
              </a:lnSpc>
              <a:spcBef>
                <a:spcPts val="561"/>
              </a:spcBef>
              <a:spcAft>
                <a:spcPts val="561"/>
              </a:spcAft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$4 million Commercial Insurance package covering General Liability, with a small amount for Employee Dishonesty. Also includes a $1 million umbrella cover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76120">
              <a:lnSpc>
                <a:spcPct val="95000"/>
              </a:lnSpc>
              <a:spcBef>
                <a:spcPts val="561"/>
              </a:spcBef>
              <a:spcAft>
                <a:spcPts val="561"/>
              </a:spcAft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$1 million Professional Liability policy, including copyright and trademark infringement cover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76120">
              <a:lnSpc>
                <a:spcPct val="95000"/>
              </a:lnSpc>
              <a:spcBef>
                <a:spcPts val="561"/>
              </a:spcBef>
              <a:spcAft>
                <a:spcPts val="561"/>
              </a:spcAft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$1 million D&amp;O Polic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ct val="95000"/>
              </a:lnSpc>
              <a:spcBef>
                <a:spcPts val="561"/>
              </a:spcBef>
              <a:spcAft>
                <a:spcPts val="56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l were purchased effective May 31(except Professional Liability was bought as of 8/1) and are renewable annual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lide Number Placeholder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2A711-F89D-4201-99FF-B7F47A97D55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200" spc="-1" strike="noStrike">
                <a:solidFill>
                  <a:srgbClr val="330066"/>
                </a:solidFill>
                <a:latin typeface="Arial"/>
              </a:rPr>
              <a:t>Termination of Copyright Grants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7160" indent="-22716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atutory Termination of US Copyright Grants is coming up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7612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ction 203 of the US 1976 Copyright A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uthors who assign or license their copyrighted works (including standards-related documents) may terminate 35 years lat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7612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is ability to terminate is inalienab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is will affect SDOs, including the IET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first termination of rights come into place Jan. 1, 2013, so we need to think of possible solutions, maybe in conjunction with other SD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lide Number Placeholder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5F97F-E849-41A0-AEB1-25519C7EF4B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600" spc="-1" strike="noStrike">
                <a:solidFill>
                  <a:srgbClr val="330066"/>
                </a:solidFill>
                <a:latin typeface="Arial"/>
              </a:rPr>
              <a:t>Questions?</a:t>
            </a:r>
            <a:br>
              <a:rPr sz="3600"/>
            </a:b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1" name="Slide Number Placeholder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9BDDB-84E4-4654-895B-EE38E529966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Thank You 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0" y="236232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600" spc="-1" strike="noStrike">
                <a:solidFill>
                  <a:srgbClr val="330066"/>
                </a:solidFill>
                <a:latin typeface="Arial"/>
              </a:rPr>
              <a:t>Auxillary Information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Slide Number Placeholder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A4DE1-DEC6-4327-B0E7-45A48BAACB1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200" spc="-1" strike="noStrike">
                <a:solidFill>
                  <a:srgbClr val="330066"/>
                </a:solidFill>
                <a:latin typeface="Arial"/>
              </a:rPr>
              <a:t>What is the IETF Trust ? 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5341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171288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ETF Trust was founded by CNRI and the Internet Society (AKA the Settlors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3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171288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iaoc.ietf.org/docs/IETF-Trust-Agreement-Executed-12-15-05.p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171288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see BCP 78 / RFC 5378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171288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exists to hold intellectual and other property of the IETF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the advancement of the science and technology associated with the Internet and related technology.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171288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t has a legal existence as a Trust in the Commonwealth of Virgini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171288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re are 9 Trustees, the members of the IAO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171288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Trustees have a fiduciary duty to protect the IETF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 propert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71288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BF62A-AF28-46B9-9BB0-79727EEE05F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200" spc="-1" strike="noStrike">
                <a:solidFill>
                  <a:srgbClr val="330066"/>
                </a:solidFill>
                <a:latin typeface="Arial"/>
              </a:rPr>
              <a:t>The IETF Trust Legal Provisions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240" y="1752480"/>
            <a:ext cx="89154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171288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IETF Trust  is currently operating under Trust Legal Provisions (TLP) 4.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171288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ffective Date: December 15,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171288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se can be found 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71288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ourier New"/>
                <a:hlinkClick r:id="rId1"/>
              </a:rPr>
              <a:t>http://trustee.ietf.org/docs/IETF-Trust-License-Policy.p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ACBDB-A799-450C-94BA-B13E4D6AE5D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05:41:50Z</dcterms:created>
  <dc:creator>Marshall Eubanks</dc:creator>
  <dc:description>Summary of Trustee actions between March and July, 2009 </dc:description>
  <cp:keywords/>
  <dc:language>en-US</dc:language>
  <cp:lastModifiedBy>Russell Housley</cp:lastModifiedBy>
  <cp:lastPrinted>2009-11-11T06:30:24Z</cp:lastPrinted>
  <dcterms:modified xsi:type="dcterms:W3CDTF">2011-11-15T23:54:55Z</dcterms:modified>
  <cp:revision>297</cp:revision>
  <dc:subject>IETF 75 ISOC BoT</dc:subject>
  <dc:title>PowerPoint Presentation  -  IETF Trust Report</dc:title>
</cp:coreProperties>
</file>