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87816-2B1C-4601-B9DE-20D22343A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1BD35-6E5A-4708-AD74-3F06BE0F7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E6BCB-5864-43E0-8F12-D9087A056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B7256-47A3-4246-B558-D96FD30BC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D6D6E-46FB-4B3E-8068-F00E0AB08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4A110-4CB2-42AC-BB20-10262CCD2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02F08-D8DD-4E98-96E9-A73D45A8A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36E8F-B4B4-4E83-A47E-C8B418019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6D7EC-9723-4FC2-A2FA-B6A10C3CE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A1CF0-2796-4015-9985-38CE14FAC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D15-88AD-42FE-B932-DB4A713D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098-DC11-4A7E-9E11-B96ED4A6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6A3-F220-4FC2-B4CA-57C43C5A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7DC3-B0BE-4232-A6FC-C65E15B4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6C97-4941-4315-A4F6-EB6BE978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DEA1-3263-4467-9EFC-FD4A548F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8956-F0DF-4DC4-B75C-9567E9DE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501B-21F2-4213-BE10-09810D6A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7176-7197-4451-9EDC-59C9CA4A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DE83-8D68-4755-AB24-F3BC1A2A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884F-F320-4E14-8EEC-BBF58B9C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E63-2E69-49E9-A6AC-F4035DB2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45AD-67BA-43F8-AE9C-EFEAC32C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B138-1F74-4A03-A6AA-0E1D6848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737D-5262-4AE6-8963-34323AB2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DC40-543F-48A6-9A34-2CF1D26B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4B73-8E56-48F1-A9C4-E097FD55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EBD-858C-4B31-9997-2293FC95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823-8C44-4F64-A787-CBD4BB62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A80-27B5-4473-BAA7-5BB9345D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F85-7D50-4D07-AC55-9BA17463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8DD6-F8AC-4B24-A54C-88EEE23C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B36-60CC-4F34-A5D7-DE0195D5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E10-439D-428A-B8F1-8019B34A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9"/>
          <p:cNvGraphicFramePr/>
          <p:nvPr/>
        </p:nvGraphicFramePr>
        <p:xfrm>
          <a:off x="7481880" y="31752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1752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F765-6454-46B3-BA83-EC0E7710FE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7481880" y="313524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13524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1D4B-170C-4358-877A-B6CE3B8813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rustee.ietf.org/docs/IETF-Trust-License-Policy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330066"/>
                </a:solidFill>
                <a:latin typeface="Arial"/>
              </a:rPr>
              <a:t>IETF Trust Chair Report</a:t>
            </a:r>
            <a:br>
              <a:rPr sz="4400"/>
            </a:b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ll Eu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rshall.eubanks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330066"/>
                </a:solidFill>
                <a:latin typeface="Arial"/>
              </a:rPr>
              <a:t>The IETF Trust is 5, going on 6, years old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IETF Trust was founded December 15, 2005, so it is now  almost 6 years 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thanks to CNRI and the Internet Society for their contribution of IPR to found the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Thanks to everyone who has contributed to making the Trust work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And, as always, thanks to our scribes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F984-13D8-4AD4-9E49-D171E22597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330066"/>
                </a:solidFill>
                <a:latin typeface="Arial"/>
              </a:rPr>
              <a:t>IETF Trust : Accomplishments since IETF 81 (Quebec City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The Minutes are complete through July 14th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There have been some minor issues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Publishing RFCs as derivative works (i.e., with a wrapp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NewRomanPSMT"/>
              </a:rPr>
              <a:t>This will need a license, and the issue is still op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Updates and errata to 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FAQ 2010-06-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49A7-3C47-4BC9-9A36-64B7EB474A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330066"/>
                </a:solidFill>
                <a:latin typeface="Arial"/>
              </a:rPr>
              <a:t>IETF Trust Actions : Response to Subpoena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he IETF and the IETF Trust receive subpeonas from time to time as part of evidence gathering in patent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Primarily, show abuse of the patent process (i.e., participation in the IETF without filing of IPR discussion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We thus have to respond to requests for documents, physical proof of attendance at IETF meetings (and even occassionally deposi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lnSpc>
                <a:spcPct val="95000"/>
              </a:lnSpc>
              <a:spcBef>
                <a:spcPts val="561"/>
              </a:spcBef>
              <a:spcAft>
                <a:spcPts val="224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hese are for blue sheets, email archives, and other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5000"/>
              </a:lnSpc>
              <a:spcBef>
                <a:spcPts val="587"/>
              </a:spcBef>
              <a:spcAft>
                <a:spcPts val="238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 have received three subpoenas and various informal requests potentially requiring a Trust response in 2011 to dat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lnSpc>
                <a:spcPct val="95000"/>
              </a:lnSpc>
              <a:spcBef>
                <a:spcPts val="524"/>
              </a:spcBef>
              <a:spcAft>
                <a:spcPts val="213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e was settled by the principals before it really involved the IET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lnSpc>
                <a:spcPct val="95000"/>
              </a:lnSpc>
              <a:spcBef>
                <a:spcPts val="524"/>
              </a:spcBef>
              <a:spcAft>
                <a:spcPts val="213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e required two declarations by Alexa Morris of A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lnSpc>
                <a:spcPct val="95000"/>
              </a:lnSpc>
              <a:spcBef>
                <a:spcPts val="524"/>
              </a:spcBef>
              <a:spcAft>
                <a:spcPts val="213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last is quiescen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5000"/>
              </a:lnSpc>
              <a:spcBef>
                <a:spcPts val="561"/>
              </a:spcBef>
              <a:spcAft>
                <a:spcPts val="22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greed to publish new subpoenas as they come in. There have, however, to date been no new ones to publ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451A-9A41-48C8-9F2C-FE716DD60D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330066"/>
                </a:solidFill>
                <a:latin typeface="Arial"/>
              </a:rPr>
              <a:t>IETF Trust Status : Insuranc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Arial"/>
              </a:rPr>
              <a:t>Until recently, the IETF Trust and Trustees were insured as part of the general ISOC / IETF / IAOC insurance (which covers the IAOC, IESG, etc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Arial"/>
              </a:rPr>
              <a:t>For various reasons, the insurance underwriter has expressed an unwillingless to continue without a specific policy for the Tr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Arial"/>
              </a:rPr>
              <a:t>Greg Kapfers of ISOC worked with us to get insurance for the Trus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$4 million Commercial Insurance package covering General Liability, with a small amount for Employee Dishonesty. Also includes a $1 million umbrella cove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$1 million Professional Liability policy, including copyright and trademark infringement cove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$1 million D&amp;O Poli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were purchased effective May 31(except Professional Liability was bought as of 8/1) and are renewable annu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CB78-FD25-4A21-8697-9ADAD51609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330066"/>
                </a:solidFill>
                <a:latin typeface="Arial"/>
              </a:rPr>
              <a:t>Termination of Copyright Grant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tory Termination of US Copyright Grants is coming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tion 203 of the US 1976 Copyright 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hors who assign or license their copyrighted works (including standards-related documents) may terminate 35 years l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ability to terminate is inalien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ffect SDOs, including the IE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irst termination of rights come into place Jan. 1, 2013, so we need to think of possible solutions, maybe in conjunction with other S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6754-3BC1-48AC-A20D-B03BC35937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330066"/>
                </a:solidFill>
                <a:latin typeface="Arial"/>
              </a:rPr>
              <a:t>Questions?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ED78-B0A4-486C-878F-F39EF2A48E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0" y="23623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330066"/>
                </a:solidFill>
                <a:latin typeface="Arial"/>
              </a:rPr>
              <a:t>Auxillary Inform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0460-F19A-486E-AA26-B48A224F73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330066"/>
                </a:solidFill>
                <a:latin typeface="Arial"/>
              </a:rPr>
              <a:t>What is the IETF Trust ?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ETF Trust was founded by CNRI and the Internet Society (AKA the Settlor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iaoc.ietf.org/docs/IETF-Trust-Agreement-Executed-12-15-05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ee BCP 78 / RFC 537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xists to hold intellectual and other property of the IET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advancement of the science and technology associated with the Internet and related technology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has a legal existence as a Trust in the Commonwealth of Virgi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9 Trustees, the members of the IA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rustees have a fiduciary duty to protect the IET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proper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706C-06EA-45DA-9257-3105036F22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330066"/>
                </a:solidFill>
                <a:latin typeface="Arial"/>
              </a:rPr>
              <a:t>The IETF Trust Legal Provision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IETF Trust  is currently operating under Trust Legal Provisions (TLP) 4.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ffective Date: December 15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se can be found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ourier New"/>
                <a:hlinkClick r:id="rId1"/>
              </a:rPr>
              <a:t>http://trustee.ietf.org/docs/IETF-Trust-License-Policy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42E9-AC5F-4464-8834-AFDB4947C4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5:41:50Z</dcterms:created>
  <dc:creator>Marshall Eubanks</dc:creator>
  <dc:description>Summary of Trustee actions between March and July, 2009 </dc:description>
  <cp:keywords/>
  <dc:language>en-US</dc:language>
  <cp:lastModifiedBy>Russell Housley</cp:lastModifiedBy>
  <cp:lastPrinted>2009-11-11T06:30:24Z</cp:lastPrinted>
  <dcterms:modified xsi:type="dcterms:W3CDTF">2011-11-15T23:54:55Z</dcterms:modified>
  <cp:revision>297</cp:revision>
  <dc:subject>IETF 75 ISOC BoT</dc:subject>
  <dc:title>PowerPoint Presentation  -  IETF Trust Report</dc:title>
</cp:coreProperties>
</file>