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640" y="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1D7B-5A72-429B-88F9-F3B0BADBB344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Candidate Solutions to Reveal the Origin IP Address in Shared Address Deployments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boucadair-intarea-nat-reveal-analysis-0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AREA WG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Boucadair, J. Touch, P. Levis and R. Pe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P servers need source IP address of incoming traffic for specific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ress sharing environments (RFC 6269) the sole IPv4 address for unambiguous host identification is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may also arise in IPv6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analyzes various candidate solutions to address this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option, TCP (HOST_ID) option, ID field of IP header, application laye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document recommenda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FC 63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as a WG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items covered by the WG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s issues raised by both translation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h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tunneling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ftw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work can be seen as a follow-up to RFCs 6269 and 6302 as it discusses “address space issues and basic IP layer functiona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document with clea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 a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solution landscape needs to include performance and privacy impact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TF has documented the issues and has analyzed candidate solutions but IETF believes CGN should remain the exception and never become a rule for the sake of IPv6 deploymen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solutions may then emerge at the risk of jeopardizing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Pv6 will solve 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itigate service disruption to be experienced by Internet users when address sharing designs are deployed at large scale during transitio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sues remain valid for NAT64 any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JACQUENET</cp:lastModifiedBy>
  <dcterms:modified xsi:type="dcterms:W3CDTF">2011-11-08T09:09:1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1280342640</vt:r8>
  </property>
  <property fmtid="{D5CDD505-2E9C-101B-9397-08002B2CF9AE}" pid="4" name="_AuthorEmail">
    <vt:lpwstr>christian.jacquenet@orange.com</vt:lpwstr>
  </property>
  <property fmtid="{D5CDD505-2E9C-101B-9397-08002B2CF9AE}" pid="5" name="_AuthorEmailDisplayName">
    <vt:lpwstr>JACQUENET Christian OLNC/NAD/TIP</vt:lpwstr>
  </property>
  <property fmtid="{D5CDD505-2E9C-101B-9397-08002B2CF9AE}" pid="6" name="_EmailSubject">
    <vt:lpwstr>[Int-area] Call for agenda items (SLIDES)</vt:lpwstr>
  </property>
  <property fmtid="{D5CDD505-2E9C-101B-9397-08002B2CF9AE}" pid="7" name="_NewReviewCycle">
    <vt:lpwstr/>
  </property>
  <property fmtid="{D5CDD505-2E9C-101B-9397-08002B2CF9AE}" pid="8" name="_PreviousAdHocReviewCycleID">
    <vt:r8>-1405237169</vt:r8>
  </property>
</Properties>
</file>