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9336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8"/>
          </p:nvPr>
        </p:nvSpPr>
        <p:spPr>
          <a:xfrm>
            <a:off x="392904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86920" y="684360"/>
            <a:ext cx="4559400" cy="34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9"/>
          </p:nvPr>
        </p:nvSpPr>
        <p:spPr>
          <a:xfrm>
            <a:off x="0" y="8662680"/>
            <a:ext cx="3005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30"/>
          </p:nvPr>
        </p:nvSpPr>
        <p:spPr>
          <a:xfrm>
            <a:off x="3929040" y="8662680"/>
            <a:ext cx="3005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F242-664E-4DF0-B4C8-9808BE467743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29040" y="8663040"/>
            <a:ext cx="3005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123B-F786-4BD5-9B06-AD4250C345B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728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56ED-BEBE-4011-9524-B5F07F8C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D2C3-448D-4657-8096-005B17F9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FF94B-ED12-43BB-868B-0A9987AA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58B97-1CE4-4A6C-B1EB-B092D213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122FC-1669-476E-A273-C3355EFC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13D9D-3B9A-43E0-BD66-DB061CFB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757A2-7B6E-4DD8-A74F-1C152184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5DA10-A1B4-4C77-9307-61E9E08D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840FF-36C4-4BEE-A055-0A5C986B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6064E-7899-404C-BFEA-7F3B419A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790E7-37AE-4F42-8619-63EE996C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5D6E-9578-4135-BB71-8346B875D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E8A5-7A73-438B-9D1E-9433BBAA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5BEF-2C7A-4E4F-BC28-E36229C3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7AC1-C727-468F-A57B-A78A3AD7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0642-1A7C-4632-B2D7-EA2E0314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E25D-9ABB-48CE-B0B0-05E21FB5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8D78-E75F-4D3F-8D35-F38B5A74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7B07-D10C-4A44-A4C6-13563232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4FCB-D001-464D-A3DC-36364596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E72A-C8AD-4136-86EE-42BF0F69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2EBD-4E78-48AB-A2FC-B09B4C3D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FB48-1C0B-498A-B69F-CF393004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1968-E384-4D4C-9260-23A1A5B4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FDD8-52DC-4E74-9F43-AC8E6002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1003-5D13-4DFA-9A98-7DB05EB6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28571-0D21-4162-86AE-C3366257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4C262-22AC-486A-BD0C-3242E5B8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064EA-3C2A-4350-921B-4C66C418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FFAB5-D327-49FE-943D-579A6691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258F0-E3E8-4EB8-A36A-E49624DE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A51F-32AA-441D-9C30-C66A16D1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4AA5B-7654-49B8-8E9E-311F46A2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BB156-FC5E-4666-A703-B67E4368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21A4E-1569-405B-A666-3676570B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9E846-8EAD-420E-9332-1BC2DECC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93652-DF07-4591-A6E5-EF2EEA60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FA1FE-F8C6-40B2-BB35-5777024BD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222BD-E814-48BC-B118-E4B2444D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BFCA8-C502-42BF-A0B8-9234414A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302A0-11E2-42F2-B7A7-86F8055B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1B1D4-A8C3-4166-8A61-044FCDD7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5BAB-8036-499F-A9CB-ED404024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6B7A3-52C4-4B9D-BC66-3A851BE8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56CA0-B417-4406-B28A-B4B44A87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A0D16-7AEA-4496-81CC-3805C71E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4E9E7-068C-4F06-B8ED-95B1596B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30058-0D63-49A8-9C0C-8A973A4B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F9AFC-71D3-4AA7-BAD4-7EDAD113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7A648-696E-46A7-B516-9C94B841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38089-E016-4373-AE99-14186449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234E1-66BA-4A73-A1EE-A7CC1871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41060-D26E-4356-AB1A-505E83C4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C05D-BAEA-4070-A66B-A34B7327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4F6F7-5C3B-487B-B8DF-61628603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2820B-5B98-4D04-9759-5480237B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135C0-B257-4390-A6CA-C74534E7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B740B-6B97-4566-8F68-957282C9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87A6D-024A-4BD3-A891-25C1A5B1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D2F6D-91C9-4258-AEA3-32DA683A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249CE-D1A6-492D-A578-EAB7BB86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25CD9-ABCC-4402-914F-5C042479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90D1B-88DC-4548-B41A-00568836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D5FA3-CB87-4F87-B594-F3C4AC85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4FB2-3A62-457F-B701-2E8E7B97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4F39E-0C33-4D99-BC51-CB14E360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C7BB9-1A90-4E8B-B16D-3EEBEDD5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22A38-2AE5-40A7-9308-7F3AC999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8FAF1-D147-4F45-9F4F-2A97E2AF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F0E9D-E124-49F4-A4D1-4A70EDC3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799B7-8471-43B9-B865-F74BD197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FD60C-0DB7-47EF-9E54-E3D7433C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A68F5-9DDD-4381-A45C-24180929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07A32-2593-49E5-95CE-EB3185C0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C70BE-1B3E-4DA5-ACF7-E7545664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AB33-6FF5-4497-83D2-F2F7693C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48B0B-1858-4E83-8D6D-6EFBA003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4D292-CE17-4DA3-9947-1B931F5A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EBE65-9E46-426D-8794-42EB12F3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F8911-D798-49BB-8A84-DC6EA602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42BAC-5D9E-48F4-99C4-C9CCBFE5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E853C-805C-4525-97B7-0AA54CDB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CFD32-37AD-4DA9-994F-DFB0BD20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6FABF-1FA0-456D-93A0-A5F53CB3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2E1E2-56EB-446F-86EE-AF9FBD0A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6F160-D779-4CAB-913A-C6CBD373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CAB9-BAD9-4FA9-A636-D34BA99D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88402-9C9A-4F46-8E9B-7B3C37B2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27AFB-7DF4-4B30-B6E8-4E7E8552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82F47-F604-4633-B50A-A0529E54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4B3BB-A389-4A89-9CB8-8768AC27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38FE1-4E42-4F37-B254-F2FF775B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A2D3F-06AF-4B42-AF5E-D92F89CA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9C731-A3A4-41E0-83E1-FB153442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3721F-1EF1-4558-8EF1-F9E19D6C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68F3E-D2B3-4586-81F5-DC5D9918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A7E94-3520-4B9B-836A-828AE4B2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F7B3-8B9A-41E8-9EF2-385C4887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5DCAF-5A11-4EF1-B8A5-5A79E00E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7A6A8-C999-45D1-B42B-69CBC3EC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AB2DB-B9F4-467F-B8D2-A8558490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24045-2E06-40EA-93EF-AC8E789D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B2273-AA3A-4869-9018-C19582AA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4E9D2-A723-46DA-A9BA-C29268D2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DCF94-2254-4BE9-943B-036573A5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0EF39-1ABF-431F-9DE4-94BBB0BA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3BC73-6A63-4422-9045-E406C9FE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236D0-3E8B-43A0-A2E0-F2EA654F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A42F-0F2E-449D-80CA-50158F107BC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752480" y="1600200"/>
            <a:ext cx="739152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9972-422D-4639-8FA6-6DD72A6FC22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31B8-DEF0-4A5C-9348-01D1981C7DD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89AB-287C-43CE-9BB3-8CE4BCE4E24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D9E1-DCA9-48A7-8ECA-5561765EDCD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7B75-382B-4AE2-B0E7-B71228A32D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944F-3F17-48F7-BB24-F97F82510A0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8BFF-FF31-4A9E-AF55-393DC96DEDC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33F2-532E-44C1-9E98-0BC88C285C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en.mackcrane@huawei.com" TargetMode="External"/><Relationship Id="rId2" Type="http://schemas.openxmlformats.org/officeDocument/2006/relationships/hyperlink" Target="mailto:lucy.yong@huawei.com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3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95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8" name="Rectangle 96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326B-DCA0-4C2A-BF7D-2259811D9AA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SPB over MPLS </a:t>
            </a:r>
            <a:br>
              <a:rPr sz="3200"/>
            </a:br>
            <a:br>
              <a:rPr sz="1200"/>
            </a:br>
            <a:r>
              <a:rPr b="1" i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draft-mack-crane-l2vpn-spb-o-mpls-00.txt</a:t>
            </a:r>
            <a:br>
              <a:rPr sz="2400"/>
            </a:b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2362320" y="4571640"/>
            <a:ext cx="5867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Ben Mack-Crane                                 </a:t>
            </a:r>
            <a:r>
              <a:rPr b="0" lang="pt-BR" sz="1400" spc="-1" strike="noStrike" u="sng">
                <a:solidFill>
                  <a:srgbClr val="e5d093"/>
                </a:solidFill>
                <a:uFillTx/>
                <a:latin typeface="Times New Roman"/>
                <a:hlinkClick r:id="rId1"/>
              </a:rPr>
              <a:t>ben.mackcrane@huawei.com</a:t>
            </a: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Lucy Yong                                           </a:t>
            </a:r>
            <a:r>
              <a:rPr b="0" lang="pt-BR" sz="1400" spc="-1" strike="noStrike" u="sng">
                <a:solidFill>
                  <a:srgbClr val="e5d093"/>
                </a:solidFill>
                <a:uFillTx/>
                <a:latin typeface="Times New Roman"/>
                <a:hlinkClick r:id="rId2"/>
              </a:rPr>
              <a:t>lucy.yong@huawei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C665-0F3D-486E-A252-8856D43A961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16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About This Draft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use cases for SPT sites interconnected by an IP/MPLS network to form one STP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-to-Point  P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W mesh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e a new Hierarchical L2VPN architecture with SPT Bridge and IP/MP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al dra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hortest Path Bridging (SPB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0520" y="106632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standard: 802.1aq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timal pair-wise data frame forwarding with arbitrary topolog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istic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atible with existing VLAN hardwar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B enabled device is called an SPT Bri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cause it computes Shortest Path Trees (SP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BV (SPB – VID mode) provides SPB with no configuration for customer LANs (e.g., home or small offi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BM (SPB – MAC mode) provides a SPB backbone LAN for connected customer bridges or end stations (multi-te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 to support multipathing in progress (802.1Qb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249"/>
              </a:spcBef>
              <a:buSzPct val="32901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E100-748D-4E24-B202-E3BA8D4278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se Cas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0880" y="91440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-to-Point Inter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78720" indent="-1454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Ethernet or PPP encapsulated PW in IP/MP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78720" indent="-1454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Ethernet or PPP mode on Bridge port at A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78720" indent="-1454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T Bridge and PE can be separate devices or one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4960" indent="-17496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Site Inter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78720" indent="-14544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PW mesh to interconnect SPT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78720" indent="-1454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be full or partial me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9320-82D4-4717-B3E7-0A5AF5A4F5A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1290600" y="3738600"/>
          <a:ext cx="6494400" cy="2674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90600" y="3738600"/>
                    <a:ext cx="649440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erarchical L2VP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90360" y="91440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T Bridge at low-tier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/MPLS at top-tier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calable solution for L2VP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4B95-8B82-462A-BA64-04535F8E018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00" name="Object 1"/>
          <p:cNvGraphicFramePr/>
          <p:nvPr/>
        </p:nvGraphicFramePr>
        <p:xfrm>
          <a:off x="1290600" y="2886120"/>
          <a:ext cx="6494400" cy="313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1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0600" y="2886120"/>
                    <a:ext cx="649440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cknowledgemen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052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hors thank Donald Eastlake 3rd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e Hares, Sam Aldrin for their valuable contrib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03BF-3634-4570-B805-892BA55D9DE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Next Step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0520" y="15235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he review and feedba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osal to add VPLS interconnection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39C2-B366-437E-82D4-08B7546456D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0:54:37Z</dcterms:created>
  <dc:creator>VPN-o-CS Authors</dc:creator>
  <dc:description/>
  <dc:language>en-US</dc:language>
  <cp:lastModifiedBy>y73674</cp:lastModifiedBy>
  <dcterms:modified xsi:type="dcterms:W3CDTF">2011-11-10T22:18:12Z</dcterms:modified>
  <cp:revision>230</cp:revision>
  <dc:subject/>
  <dc:title>IET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3)jWxYbZKhm6x4VmmiN/olMcRDauEX2rHy3r4irrDCcqC96CSpQkYC4qAkTRB1t8ifUgPBWTro
ZY5sc3Rr3q9CWwrT9PJRfd4oPqL/GRaRO2lCCx/sTbSzvrXHWgSBS1G6zrCcKgEOnEaWjgV1
x6RLy8tmsA23V5VomFj7xPyiODS86JOYIQwkj0pYTj/efyCZNDB3/hId2Pj8uQiJ7tkXDS+I
3xj2M1pk8F6juO/vayXId</vt:lpwstr>
  </property>
  <property fmtid="{D5CDD505-2E9C-101B-9397-08002B2CF9AE}" pid="3" name="_ms_pID_7253431">
    <vt:lpwstr>I1/Xcc0iM7igR29UtI9HVD6+b4fOo5r6kxRaIgIgb4z3ZJqdbV4
+WlpF6WVMJ4PrBY1rpIhGdEc2HanEhAaQcNpfkN/bf+BJ9TUg6rkR586C2M2FL8N3H0kfC7S
0ubukDzb8YV5CxI7tbO0ESiPp3tKfu0tOlbRyGJuC6b3wzh/q5syE766DHcvN97J+4TBabhY
HbnWKYQbIJ721K3SCF9TOtVZHnf+9WYVp3bPtAh2fy</vt:lpwstr>
  </property>
  <property fmtid="{D5CDD505-2E9C-101B-9397-08002B2CF9AE}" pid="4" name="_ms_pID_7253432">
    <vt:lpwstr>tF17pTlJbYMj3LXVABp4ejsazFa/W1
2mXgbTReqgtfz4d1TPVPRqlM+k4lIv0oAq2TKUCqG0gK2B56sGRlUrqxlyxS9yEMatrAJ3vL</vt:lpwstr>
  </property>
  <property fmtid="{D5CDD505-2E9C-101B-9397-08002B2CF9AE}" pid="5" name="sflag">
    <vt:lpwstr>1319553267</vt:lpwstr>
  </property>
</Properties>
</file>