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9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30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3A2-47D5-42FE-9240-3B6EED76C99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3F3F-F5E5-49A1-9057-84258953846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0CA-9071-421B-8680-5A6AF5B0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4F1-2E30-47E4-A91A-403C2B93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55CD1-6884-4BB7-8999-73B3B1D6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0DDE6-3303-40BE-B644-B20BCCDB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F5441-CA21-458E-AD17-E2DEF026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CF921-7015-42AF-908C-D507F8A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A3CEB-C96E-446F-BF67-E34FCC1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15DBE-BCE1-4F42-A321-5C70CE51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6D7D1-0A96-421B-8094-3E2037D4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EEC76-B619-401B-A2DA-F1334DE0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29F38-F7D7-4401-A8EB-60CEEBB7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8D9-2B3B-409C-9971-91C40C72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201-2EB8-4360-9957-A3F3B27C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ED16-3214-4584-B01F-BA8D81A6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6E58-1686-4A20-9962-E9D43031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DC6C-2FB5-485D-B5C0-CF7E7F26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766C-55D0-4DF0-BE74-799A257D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4380-9693-4603-9E25-D4313CB7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65B9-3D2B-4996-B614-F7F09288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C0CD-65D5-4E8C-B978-92F7944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44E-CFF1-4807-9714-1F0E78DB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4115-1715-4FDB-8D20-BB7E3841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1914-4D63-47AA-8C0D-9D17470C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AC85-027C-4721-82FE-58960C4C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1FDD-67ED-4FA0-AE5F-EF8D9CD2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989D-DBAF-4EDD-9BD8-E09910EB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F9C6-2C97-4718-AA8B-3D55B474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459F-8E8E-4A0C-AB6C-E4F4F243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C40F-810C-4962-9109-7B6971F6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4CDA7-1B68-4B40-AE29-C8214697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5EFE2-B63B-494C-8A6A-D2251A5F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8B3-7A16-4236-8CA3-74FADE06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5636-924D-4E59-9400-00F93659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FB4F-82BA-4829-8279-AD154C5B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FF9B1-2119-44E2-8162-4295192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49B3-BD90-4E86-A734-D17A3B2D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DFEA-D2B7-4FC7-9773-A3C2D62B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4ED3-D951-4E1A-8A43-0DA3E5AD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9E42-14F1-4D47-BF2F-074BFBAC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1FC83-888E-4DC7-8012-5EFF0E0D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A12BF-085A-4B8F-9F0C-D68E0DAE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ABFA0-9276-4AB6-9EDF-A80D0184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1C6-4D20-479E-89DD-EE53A0BB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EFF47-1C43-48F7-B658-39B3483E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47EC-A5B8-4144-B26F-340ED5F2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BB03-3015-463A-91F8-4EC7A971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B710-9C87-434B-AB7E-F00BC54F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24D37-657B-477F-8695-0D3DC4E1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8E6EB-9450-4E1C-8075-779C150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9689-1E28-439D-9C9D-E0FF2B39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8A7A-3BBE-46D7-95ED-3064DBAD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BD3B0-3633-469A-B7B6-0F32F4C0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6F994-6002-4FB4-A930-3200EC2A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D50-85B5-43FF-B87E-5CBBF792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C7DD2-1668-42C6-B70B-21F59FAA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2A45-00CD-4494-A619-0F9547AF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B37B-7E3B-457C-9477-CFDD0002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1A17-3369-4E1B-8D28-66B8FF90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AB485-1CC9-4A8F-8DFF-24B08FC8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6F831-0FD7-4C6D-B9A9-4E3B97D1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9DFF6-6218-4012-BCEB-19AA0F01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38B07-C9B3-45AA-AE38-F9C324F7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8909E-FCBF-4C82-BC72-20EBD216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FF67-CC25-41E2-9609-8CFC0CC4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A3C-9482-4769-90C2-32550F29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592E5-4FAD-43B1-8713-8EECF8B4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87A94-F193-491F-900B-7C95779B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BC260-8B7C-45EB-996F-16A77761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61D97-E46F-4D2D-9B56-7EDA3423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BFE79-0461-4225-A532-3E8EC3CD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C1FDE-7C2D-4E53-BE57-385176D4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E36FD-7A48-41CF-8B27-F27B28A5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1E03-69D2-41A0-8008-5AD081BD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0993B-9243-4FA9-9A31-F9B3DB61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29FA9-369D-46E3-B5D5-558AF5AD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D22-08FD-431F-BC96-366616D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00B1A-0D5A-4117-97D9-88666387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669D4-6337-4001-AD24-D3AD5080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E6FDD-435E-486A-9131-DCE0D177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FBA97-2D0C-433F-A80D-DAFCB19A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1F3CC-6F9F-4FF3-8B82-0002C450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205E0-A235-4B68-9A32-6F34DD22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AABCF-75C3-454C-9F3B-5DFAA334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779D2-2AB6-474F-943B-4D3ED99E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07718-9060-4837-B63A-6AF5D1B1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8AFD6-E55A-45A8-B24A-F2CDCE5D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F8E-EDE0-4217-9BD2-FC29AAB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8E6E9-8F8C-4454-9B4D-60EF42A5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03660-A4FE-4EC9-9E9B-AD1748A4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42084-FD41-478D-9FA9-D6F810F4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CDCCA-7D0A-4679-9FA3-3810AF32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56F3B-D199-4A50-BB04-D488928C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2F793-F61D-4AD6-BC44-BC708A84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AC0E7-83C7-40FB-AAA0-F6783B17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CAF7E-DF7E-463C-B107-5E16B53D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FE54-5D62-4C6D-8CC9-99F199A5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4DF7D-A4F3-4862-A5A2-8F93151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CE0-E121-4228-B4FC-73836A6C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ABCAC-E081-4C97-BC8D-EAB439BD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014A3-E7B7-4A03-9145-26A8D08A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9C376-CA0A-49E5-A445-03BF194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FC0E2-8124-4BF6-AA16-AF63AC8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029D0-5E66-42E5-9AB9-8A1B1D6E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A6556-3404-48FA-821D-25645975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153D9-F845-445D-A488-27A4C82A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006C8-60FA-4DDE-9218-BF4793E6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DA56C-48BA-4319-B210-CB2CFCE7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2E034-B8BD-4C0B-80CD-75D5E28C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03A3-B7D7-4106-B459-EB9EA22DF1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AC8D-7287-44E1-96FD-757F5E50AF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81D2-B105-4BBD-8D57-6E6D262EBE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2ABC-6494-4C01-B31A-DAE68F4AB9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1EE3-D142-4EC0-A059-D1E465D957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EB34-15FA-4EE0-AA2A-2F915DBBDF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6BC6-9CA7-4BC4-96D8-46E3D49C7A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63AD-9433-4DA3-A4DF-212311B0B8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4C6B-9D4C-419E-AD3E-1FDE0F4251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en.mackcrane@huawei.com" TargetMode="External"/><Relationship Id="rId2" Type="http://schemas.openxmlformats.org/officeDocument/2006/relationships/hyperlink" Target="mailto:lucy.yong@huawei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23D9-EB86-4764-8BC4-1A27B69FDB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SPB over MPLS 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raft-mack-crane-l2vpn-spb-o-mpls-00.txt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Ben Mack-Crane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ben.mackcrane@huawei.com</a:t>
            </a: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Lucy Yong  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lucy.yong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89C-1C6C-4CB6-9735-22BF8AADA7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About This Draf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use cases for SPT sites interconnected by an IP/MPLS network to form one STP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  P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W mes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new Hierarchical L2VPN architecture with SPT Bridge and IP/M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al dra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hortest Path Bridging (SPB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standard: 802.1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al pair-wise data frame forwarding with arbitrary topolo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stic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tible with existing VLAN hardwar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 enabled device is called an SPT Bri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it computes Shortest Path Trees (SP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V (SPB – VID mode) provides SPB with no configuration for customer LANs (e.g., home or small offi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M (SPB – MAC mode) provides a SPB backbone LAN for connected customer bridges or end stations (multi-te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to support multipathing in progress (802.1Qb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buSzPct val="32901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E182-61A0-4A27-B9DF-95AA19F75D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914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-to-Poin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encapsulated PW in IP/MP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mode on Bridge port at 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T Bridge and PE can be separate devices or one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4960" indent="-1749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Site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PW mesh to interconnect SPT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be full or partial me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1F40-55F4-4A67-B565-69775D66DD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1290600" y="3738600"/>
          <a:ext cx="6494400" cy="26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0600" y="3738600"/>
                    <a:ext cx="649440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erarchical L2VP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90360" y="914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T Bridge at low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/MPLS at top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calable solution for L2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4704-4A2C-4ED4-8857-767926123B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1290600" y="2886120"/>
          <a:ext cx="6494400" cy="313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0600" y="2886120"/>
                    <a:ext cx="64944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knowledg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 thank Donald Eastlake 3rd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e Hares, Sam Aldrin for their valuable con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FA19-ED9F-44FB-B146-58CFB10D2F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he review and feed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al to add VPLS interconnection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B0F6-09E3-4529-8296-F65ED68142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PN-o-CS Authors</dc:creator>
  <dc:description/>
  <dc:language>en-US</dc:language>
  <cp:lastModifiedBy>y73674</cp:lastModifiedBy>
  <dcterms:modified xsi:type="dcterms:W3CDTF">2011-11-10T22:18:12Z</dcterms:modified>
  <cp:revision>230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jWxYbZKhm6x4VmmiN/olMcRDauEX2rHy3r4irrDCcqC96CSpQkYC4qAkTRB1t8ifUgPBWTro
ZY5sc3Rr3q9CWwrT9PJRfd4oPqL/GRaRO2lCCx/sTbSzvrXHWgSBS1G6zrCcKgEOnEaWjgV1
x6RLy8tmsA23V5VomFj7xPyiODS86JOYIQwkj0pYTj/efyCZNDB3/hId2Pj8uQiJ7tkXDS+I
3xj2M1pk8F6juO/vayXId</vt:lpwstr>
  </property>
  <property fmtid="{D5CDD505-2E9C-101B-9397-08002B2CF9AE}" pid="3" name="_ms_pID_7253431">
    <vt:lpwstr>I1/Xcc0iM7igR29UtI9HVD6+b4fOo5r6kxRaIgIgb4z3ZJqdbV4
+WlpF6WVMJ4PrBY1rpIhGdEc2HanEhAaQcNpfkN/bf+BJ9TUg6rkR586C2M2FL8N3H0kfC7S
0ubukDzb8YV5CxI7tbO0ESiPp3tKfu0tOlbRyGJuC6b3wzh/q5syE766DHcvN97J+4TBabhY
HbnWKYQbIJ721K3SCF9TOtVZHnf+9WYVp3bPtAh2fy</vt:lpwstr>
  </property>
  <property fmtid="{D5CDD505-2E9C-101B-9397-08002B2CF9AE}" pid="4" name="_ms_pID_7253432">
    <vt:lpwstr>tF17pTlJbYMj3LXVABp4ejsazFa/W1
2mXgbTReqgtfz4d1TPVPRqlM+k4lIv0oAq2TKUCqG0gK2B56sGRlUrqxlyxS9yEMatrAJ3vL</vt:lpwstr>
  </property>
  <property fmtid="{D5CDD505-2E9C-101B-9397-08002B2CF9AE}" pid="5" name="sflag">
    <vt:lpwstr>1319553267</vt:lpwstr>
  </property>
</Properties>
</file>