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</p:sldIdLst>
  <p:sldSz cx="9144000" cy="6858000"/>
  <p:notesSz cx="69342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9336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05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8"/>
          </p:nvPr>
        </p:nvSpPr>
        <p:spPr>
          <a:xfrm>
            <a:off x="3929040" y="0"/>
            <a:ext cx="3005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86920" y="684360"/>
            <a:ext cx="4559400" cy="34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923400" y="4330440"/>
            <a:ext cx="50864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9"/>
          </p:nvPr>
        </p:nvSpPr>
        <p:spPr>
          <a:xfrm>
            <a:off x="0" y="8662680"/>
            <a:ext cx="3005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30"/>
          </p:nvPr>
        </p:nvSpPr>
        <p:spPr>
          <a:xfrm>
            <a:off x="3929040" y="8662680"/>
            <a:ext cx="3005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C87F1-560A-4C40-95F2-B9B36CDC28A4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929040" y="8663040"/>
            <a:ext cx="30052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72823-74A3-4E45-8E5E-3BB4FFF1E538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8728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23400" y="4330440"/>
            <a:ext cx="50864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4CA7-EFD8-4240-8F18-EA7E3FC54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79C2-E523-4BB9-BD72-1FDC5AFBF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42166F-33D4-4EE8-AA1C-C5E5675F7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1AA212-1E41-4466-A928-0DBF18D5C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0" y="20160"/>
            <a:ext cx="9144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C36D07-66BD-41B7-84C2-DC0912F9D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CD7936-EC3D-4B77-81C0-494CFCED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618464-7083-4AA5-A65F-8F9A5958E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D04198-45FD-4053-9439-BFC758488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0BDE9A-C30C-4846-ADE6-4B8D85DA3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A1213D-0D61-463B-B21C-EF80CE5E9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662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1516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38052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662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1516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B6683C-3AA5-42D2-BDD7-4DA1C503A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FA16-5BE2-4890-A606-5EB66BF48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62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16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62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16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2585-F57A-415B-8A5B-374FE44E1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4588C-BD7B-4179-A586-93ABEAC9A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641BD-83FD-4631-A73F-033E998E3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46E2C-4E04-4E08-9909-7158D3726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2C1A8-0838-457D-B3DB-B09AABE11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60EC3-F505-4A95-A512-D16AA18A5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20160"/>
            <a:ext cx="9144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1670A-3D4B-49E9-854B-1F1561F8B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B3126-E1D9-4BD6-847D-36F695FC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8177-6DAC-4169-A75B-CDDF6C214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2C535-4847-4EA0-8129-8DD394ECB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8E7E7-AD5C-4A0C-83ED-21F48393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28233-4BE6-45EA-ABDE-90498A76E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79A87-CB25-42A8-B049-079F58860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62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516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8052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62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516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0F934-EA8A-4E85-AFC8-B5C9FBD31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C7E05-6AB4-4EEE-8992-1BA1C987C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99E0C-6596-46C6-88E1-4E31BE679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E7132-9B35-4C57-B9AF-4894A0D7F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8CF3F-8167-4F88-9350-6379719BB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E53EA-994D-42A6-B4D9-B2BFC8BEC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5C55-0F5A-49F8-891F-BF2608BFE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0" y="20160"/>
            <a:ext cx="9144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B8C61-B1DC-4DFA-869E-97F0A4E75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B4F13-57C3-4D86-BB02-7166EC1B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30E9D-EBC7-45D3-87C7-2BEF4E54A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1622B-4A81-4E27-A120-8950BFA6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6D7AA-B3F0-4470-BE07-5646F1612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2AB97-C4AD-406C-9CA5-8DDACC036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662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516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662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1516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80B53-DB6D-442E-90F0-FDCAB493B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21989-E14E-41AB-B780-2C635F62B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670AB-6DF0-4586-ACE3-E5FCDEAA0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B4DD9-8C30-4B91-854C-AF600534D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EF36-3813-4344-AA4D-F555F4232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2E667-9308-457F-87D8-E170379FF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07464-F14A-4297-A1EF-68C4AF197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0" y="20160"/>
            <a:ext cx="9144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878A5-84E0-4C44-83AC-406C5C7F5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1F6FF-0952-4A01-BCAC-8A4DF8435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221E9-E1DF-4569-818D-FC912BCF0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A364A-862F-42B3-9007-0231E2780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590F9-FF9E-4D36-87DC-2DCFA4EB9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728F2-E58B-42BB-A6D9-0A550A554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662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1516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38052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662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1516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252C4-184C-4BC7-8AA4-BA52652EC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FAB87-03D0-4496-8EC9-8FF63E47D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FE87-8CE8-4E9C-A12A-8658B462C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77876-AE74-4A19-9870-7128A830A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F91AC-4F79-4527-88DB-4AA72EDBD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4602C7-88D7-48AC-9038-BA5956581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FEC31-F418-4AB6-810D-C720AD1E4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0" y="20160"/>
            <a:ext cx="9144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C5E577-E232-4383-BDAA-127E465E6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0E4C8-739F-4864-9D72-E403D246D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B2EFA8-2DF5-42CB-8B2D-348B8FB9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2AFD6-FA8E-43B0-ACA4-9851E60F4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1542FC-C404-4CEA-88FA-6DA3FA2B4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838587-CD29-4146-A611-A9C44A25C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20160"/>
            <a:ext cx="9144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1051-6AD2-4D13-B430-3EF5A5052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662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516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8052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662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1516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F8C05B-5ECA-4C4F-8740-83F66B948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3806D1-F99B-493E-ADBD-4D948D116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FAE846-66D3-45DD-B544-44FEC5B16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2C886B-B4CA-4AAD-BB2F-A88F77A24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6316BC-29A3-4D9E-814D-9FF048DAC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965CC4-1FCD-426F-AA2B-37E511599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0" y="20160"/>
            <a:ext cx="9144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347050-15C6-488C-A939-5324C2B6B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83B8D3-159C-4CB6-AF88-D6D04EF9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F3AA4F-4439-4296-961F-D85B9ADE9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211692-4933-44CC-934E-2C7C48CDC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6A1F-4C09-4768-8E2F-585F6730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64BFF1-3009-4263-81FA-029B3E90E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6C6016-A9E8-4F2C-A98C-A6BD83244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662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1516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38052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662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1516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03D15-D37C-41A8-8598-CBC7B138B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D74815-33E6-4D21-912B-DEE874B2E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52A8C1-7ECA-444A-9BC8-2B854F0B1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942FF3-482B-4FE4-92A1-EC836E6CD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39305F-945A-42E5-A2B7-943E9A0B5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5402BA-ED4C-4BBE-BE9A-D30FAA8F7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0" y="20160"/>
            <a:ext cx="9144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551457-D01C-4948-84A2-5F24C537B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C29DDC-78EB-4139-A362-232298A3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D834-7A77-41BD-9DC0-DBC77E4AE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F07C3D-5427-4541-8BE5-D3F97A2F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7B3954-82E8-4613-B592-E3D3FE91D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561F4D-8621-4C50-B026-2757ABCD7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AFF67A-C4F9-4887-AEFD-C9F948060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662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1516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38052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662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1516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973E4F-1D64-4496-83D0-3E8D61446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3EA2ED-1876-449A-B3EB-0267CDB3E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D9D2E0-9A4A-444F-868D-C210D538C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AACA32-239B-40D7-8AC1-3F82DEBEF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23D6CE-DE22-486B-A325-67A4062A4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6D181B-BC81-42B6-AACC-DE6D34463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5ECB-AC54-4FB0-9D0A-A8BD4ABF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0" y="20160"/>
            <a:ext cx="9144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FCB0D3-8FF7-4C47-A7CB-DB355E321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795B2C-91AE-4567-B927-8B6E7A59F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E51CCB-245E-486C-9A05-B5357CAB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CF2F2D-BE99-46B1-A877-054E59D95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435506-ECFF-41DD-9E03-9F0726104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E942CF-9032-4C34-B53F-3ADFB5DB6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662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1516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38052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662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1516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B463BB-CBC5-4281-85DE-1649BEDA6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54F93D-7964-4841-98FA-9811EE41D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EDAC64-0732-44B2-96BF-4595890CC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8AE32E-186F-4F66-8F24-FE9380CEC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IET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Taipe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EA72D-7B11-4318-BDC6-A806C0DD1C4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752480" y="1600200"/>
            <a:ext cx="7391520" cy="5257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IETF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Taipe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358AA-8EDB-4574-9183-BE7C44C0874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0th IETF Prague Cze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CB7E9-39EF-4DB7-84B1-12BC4E2C05C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0th IETF Prague Cze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7A53D-2050-48E0-AAC2-0DC6269BC6E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0th IETF Prague Cze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646D8-FDB2-4603-8BD1-295D0249157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0th IETF Prague Cze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D82E9-79EA-4BB5-9438-A879440F4D7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0th IETF Prague Cze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785D5-4DB2-4F0F-9AB8-C99C1EBB779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0th IETF Prague Cze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D8FF0-C21C-49E3-A02A-6F1332D4432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0th IETF Prague Cze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A2F97-8F08-4C46-8EF1-EA902E71236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lucy.yong@huawei.com" TargetMode="External"/><Relationship Id="rId2" Type="http://schemas.openxmlformats.org/officeDocument/2006/relationships/hyperlink" Target="mailto:donald.eastlake@huawei.com" TargetMode="External"/><Relationship Id="rId3" Type="http://schemas.openxmlformats.org/officeDocument/2006/relationships/hyperlink" Target="mailto:sam.aldrin@huawei.com" TargetMode="External"/><Relationship Id="rId4" Type="http://schemas.openxmlformats.org/officeDocument/2006/relationships/hyperlink" Target="mailto:jon.hudson@brocade.com" TargetMode="External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3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3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95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IET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Taipei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8" name="Rectangle 96"/>
          <p:cNvSpPr/>
          <p:nvPr/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00BD0-B4D3-4969-B848-802BE170AA5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91720" cy="403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6600"/>
                </a:solidFill>
                <a:latin typeface="Times New Roman"/>
                <a:ea typeface="宋体"/>
              </a:rPr>
              <a:t>TRILL over MPLS </a:t>
            </a:r>
            <a:br>
              <a:rPr sz="3200"/>
            </a:br>
            <a:br>
              <a:rPr sz="1200"/>
            </a:br>
            <a:r>
              <a:rPr b="1" i="1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draft-yong-trill-trill-o-mpls-00</a:t>
            </a:r>
            <a:br>
              <a:rPr sz="2400"/>
            </a:b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2362320" y="4571640"/>
            <a:ext cx="5867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ff"/>
                </a:solidFill>
                <a:latin typeface="Times New Roman"/>
              </a:rPr>
              <a:t>Lucy Yong                                           </a:t>
            </a:r>
            <a:r>
              <a:rPr b="0" lang="pt-BR" sz="1400" spc="-1" strike="noStrike" u="sng">
                <a:solidFill>
                  <a:srgbClr val="e5d093"/>
                </a:solidFill>
                <a:uFillTx/>
                <a:latin typeface="Times New Roman"/>
                <a:hlinkClick r:id="rId1"/>
              </a:rPr>
              <a:t>lucy.yong@huawei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ff"/>
                </a:solidFill>
                <a:latin typeface="Times New Roman"/>
              </a:rPr>
              <a:t>Donald Eastlake 3rd                            </a:t>
            </a:r>
            <a:r>
              <a:rPr b="0" lang="pt-BR" sz="1400" spc="-1" strike="noStrike" u="sng">
                <a:solidFill>
                  <a:srgbClr val="e5d093"/>
                </a:solidFill>
                <a:uFillTx/>
                <a:latin typeface="Times New Roman"/>
                <a:hlinkClick r:id="rId2"/>
              </a:rPr>
              <a:t>donald.eastlake@huawei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ff"/>
                </a:solidFill>
                <a:latin typeface="Times New Roman"/>
              </a:rPr>
              <a:t>Sam.Aldrin  </a:t>
            </a:r>
            <a:r>
              <a:rPr b="0" lang="pt-BR" sz="1400" spc="-1" strike="noStrike">
                <a:solidFill>
                  <a:srgbClr val="ffc000"/>
                </a:solidFill>
                <a:latin typeface="Times New Roman"/>
              </a:rPr>
              <a:t>                                         </a:t>
            </a:r>
            <a:r>
              <a:rPr b="0" lang="pt-BR" sz="1400" spc="-1" strike="noStrike" u="sng">
                <a:solidFill>
                  <a:srgbClr val="e5d093"/>
                </a:solidFill>
                <a:uFillTx/>
                <a:latin typeface="Times New Roman"/>
                <a:hlinkClick r:id="rId3"/>
              </a:rPr>
              <a:t>sam.aldrin@huawei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ff"/>
                </a:solidFill>
                <a:latin typeface="Times New Roman"/>
              </a:rPr>
              <a:t>John Hudson                                        </a:t>
            </a:r>
            <a:r>
              <a:rPr b="0" lang="pt-BR" sz="1400" spc="-1" strike="noStrike" u="sng">
                <a:solidFill>
                  <a:srgbClr val="e5d093"/>
                </a:solidFill>
                <a:uFillTx/>
                <a:latin typeface="Times New Roman"/>
                <a:hlinkClick r:id="rId4"/>
              </a:rPr>
              <a:t>jon.hudson@brocad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IETF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Taipei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3FE69-A016-417E-A943-77CDE5A8A20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16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6600"/>
                </a:solidFill>
                <a:latin typeface="Times New Roman"/>
              </a:rPr>
              <a:t>About This Draft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9246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use cases for RBridge sites interconnected by an IP/MPLS network to form one RBridge campus using eith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int-to-Point  TRILL Lin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Access  TRILL Link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roduce a new Hierarchical L2VPN architecture with RBridge and IP/MP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an informational draft because it requires no changes to the TRILL or MPL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Transparent Interconnect of Lots of Links (TRILL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TF base standard: RFC6325 and RFC632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499"/>
              </a:spcBef>
              <a:buSzPct val="107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 optimal pair-wise data frame forwarding with arbitrary topology and without configu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499"/>
              </a:spcBef>
              <a:buSzPct val="10785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multi-pathing for both unicast and multicast traff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499"/>
              </a:spcBef>
              <a:buSzPct val="10785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arbitrary link technolog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thernet: RFC 632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PP: RFC 636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implementing TRILL are called RBridges (Routing Bridg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499"/>
              </a:spcBef>
              <a:buSzPct val="10785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cause they are IS-IS routers used to provide a transparent bridge-like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Bridge Campus provides a bridged LAN service for connected customer bridges, end stations, 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601"/>
              </a:spcBef>
              <a:buSzPct val="13712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601"/>
              </a:spcBef>
              <a:buSzPct val="13712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499"/>
              </a:spcBef>
              <a:buSzPct val="10785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249"/>
              </a:spcBef>
              <a:buSzPct val="329017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Footer Placeholder 3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IET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Taipei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9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C2AC0-8D4B-491B-976C-7D499B503D2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Use Case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380520" y="9140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-to-Point Inter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Ethernet or PPP encapsulating PW in IP/MP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Ethernet or PPP RBridge ports at A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PP recommended for point-to-point as it saves ~16 bytes per fr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Bridge and PE can be separated devices or one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Footer Placeholder 3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IET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Taipei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3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117DA-7003-42C7-8BE5-EDBE0316B7D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4" name="Rectangle 6"/>
          <p:cNvSpPr/>
          <p:nvPr/>
        </p:nvSpPr>
        <p:spPr>
          <a:xfrm>
            <a:off x="304920" y="2819520"/>
            <a:ext cx="78483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----------TRILL Link----------&gt;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-------*    &lt;----------PW----------&gt;    *-------*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       | AC +----+    +---+   +----+ AC |       |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  RB   +----| PE |----| P |---| PE |----+ RB    |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Site A |    +----+    +---+   +----+    |Site B |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       |    {        PSN           }    |       |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-------*                                *-------*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              One RBridge Campus                }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Use Case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80520" y="914400"/>
            <a:ext cx="84582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-Access Link Inter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SzPct val="107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MPLS/VPLS to provide a bridged LAN between RBridge ports at different si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SzPct val="107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ILL supports Ethernet multi-access link  (default mo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Footer Placeholder 3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IET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Taipei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8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D34E4-16BF-4CD4-A7F9-A4F6A3FFA58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9" name="Rectangle 6"/>
          <p:cNvSpPr/>
          <p:nvPr/>
        </p:nvSpPr>
        <p:spPr>
          <a:xfrm>
            <a:off x="0" y="2438280"/>
            <a:ext cx="91440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-------*      ...........................    *-------*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   |      .             MPLS/VPLS   .    |       |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RB    |AC +----+       PW           +----+AC| RB    |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Site 1+---|VSI ********************** VSI|--+ Site 2|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   |   | PE *****            ***** PE |  |       |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   |   +----+    ****    ****    +----+  |       |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   |      .         +*--*+          .    *-------*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-------*      ..........|VSI |...........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PE |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+----+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AC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---------*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     |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RB Site 3|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     |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---------*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Hierarchical L2VPN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990360" y="914400"/>
            <a:ext cx="784836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Bridges at low-tier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/MPLS at top-tier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calable solution for L2VP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Footer Placeholder 3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IET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Taipei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66AA4-3D97-47A7-B5F0-ADBAB071818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4" name="Rectangle 6"/>
          <p:cNvSpPr/>
          <p:nvPr/>
        </p:nvSpPr>
        <p:spPr>
          <a:xfrm>
            <a:off x="1143000" y="2309760"/>
            <a:ext cx="746748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+---------+      ...........................    +--------+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|         |      .       IP/MPLS Core      .    |        |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|         |      .                         .    |        +--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E--+         |Eth+----+        PW          +----+  |        |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| RBridge +---| RB/|********************| RB/|--+RBridge |CE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 --+         +-+ | PE |****            ****| PE |\ |        +--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   |  Site 1 | | +----+    ****    ****    +----+ -+ Site 2 |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 --+         | |    .         +*--*+          .    |        |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|         | |    ..........| RB/|...........    +--------+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E--+         | +--------------| PE |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|         |   Eth. Itfc    +----+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+---------+                  |Eth. Itfc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+---------+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| RBrdige |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|         |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|  Site 3 |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+-+----+--+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|... |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E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Acknowledgemen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380520" y="13716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hors thank Ben Mack-Crane, Sue Hares, for their valuable contribu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Footer Placeholder 3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IET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Taipei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8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BE909-026B-447E-990F-DC922BC4D3E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Next Step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380520" y="15235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he review and feedba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rk on auto-configuration for Hierarchical L2VP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Footer Placeholder 3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IET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Taipei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2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A85F9-DF57-4656-97F3-706BF62207C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0T00:54:37Z</dcterms:created>
  <dc:creator>VPN-o-CS Authors</dc:creator>
  <dc:description/>
  <dc:language>en-US</dc:language>
  <cp:lastModifiedBy>y73674</cp:lastModifiedBy>
  <dcterms:modified xsi:type="dcterms:W3CDTF">2011-11-10T22:13:21Z</dcterms:modified>
  <cp:revision>231</cp:revision>
  <dc:subject/>
  <dc:title>IETF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s_pID_725343">
    <vt:lpwstr>(3)2C4dms71Wb+v6gGfu/X1PTamMD1u2SqupLpkusdCrFiSAQFNzzuw3MtDB+PsTIYW+55Kk2xI
e0o3phlhyLxIQcSmBPI6gwbZGx0Ck6cCpWYIfdd2bA63NY5/5zCeQhMGOI1SDQdh5pDKF17V
RA70iEckMEUV3UOD4WyzmGBHjy59xIoUUdkDRXR11NRzOzErNf73NJaGnkRmtllevnKfReG/
Px3vIqCByza4hbJtFmU9p</vt:lpwstr>
  </property>
  <property fmtid="{D5CDD505-2E9C-101B-9397-08002B2CF9AE}" pid="3" name="_ms_pID_7253431">
    <vt:lpwstr>bD4NJl1XR+32Z48Ek+5BY+hA56ziv5qs4uOpbXDRPxkha3w/Wcx
mtLe3jAdO/LNasoro7ujZX0F+1PuW9VKr17KhhbSh82rQhHMlIBjFvC945B+3i2jFShcr3dH
chkdr6B+WY3ROcWfUEiiu6AQEhX/75YPkIn0mqOxOqS5OMAc4jzOIICUF6BgU5clptOTlr7G
98jam2JQgoGqql/Pwmm0Lqzpeeo/eT2/BhDxisZ9qg</vt:lpwstr>
  </property>
  <property fmtid="{D5CDD505-2E9C-101B-9397-08002B2CF9AE}" pid="4" name="_ms_pID_7253432">
    <vt:lpwstr>Sk8ryF5eFveMSeGDQhulyrX6vi6r1m
2k3UOD7ucvtngZq5dZ/5w+PWc0dAfjxN/l0GQmLE3jCGXZZYuw4CsgRzlIeapOmwTlgGoyev</vt:lpwstr>
  </property>
  <property fmtid="{D5CDD505-2E9C-101B-9397-08002B2CF9AE}" pid="5" name="sflag">
    <vt:lpwstr>1320173501</vt:lpwstr>
  </property>
</Properties>
</file>