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93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8"/>
          </p:nvPr>
        </p:nvSpPr>
        <p:spPr>
          <a:xfrm>
            <a:off x="392904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86920" y="684360"/>
            <a:ext cx="4559400" cy="34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9"/>
          </p:nvPr>
        </p:nvSpPr>
        <p:spPr>
          <a:xfrm>
            <a:off x="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30"/>
          </p:nvPr>
        </p:nvSpPr>
        <p:spPr>
          <a:xfrm>
            <a:off x="392904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9EA2-FAEB-484E-B53F-F4D0106F533D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29040" y="8663040"/>
            <a:ext cx="3005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3FAF-CE7F-445B-A1DB-E473F170B76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A6A0-DFC2-459B-BB8F-DA44F194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AED-ED03-462E-BDBD-A336E10E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1C3D5-7C9F-4167-9B5E-2247CA6F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B8B3D-B106-4601-A663-3E8BFBD5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FDCDB-8E47-4DB9-8609-DBEA8C23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D6F0A-E9AF-4E1D-803A-40688D06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8831F-F4F7-45FB-B371-A5DBF19D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12088-1516-48D4-842D-EA7438DC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596C5-AEC8-4CDD-A519-FF0ED742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AF59E-00EB-48EF-9EA9-08D8935B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00CBB-F2D5-4E6C-88A6-07E424CE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9BD1-62E0-4A17-A200-16259E17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8A6-42A2-4E3D-8299-C3D31CD2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AFCC-B470-46E1-BEF0-DEFFFA27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38D9-9CC2-4595-BF8A-D84FE96E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4016-625C-42F0-ACE0-235FF1B0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6E3D-7D03-4B96-847B-1ECBA202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4FC5-775E-437D-B403-F754689D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FFF2-E0F8-465C-AE30-27BF26D7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1301-FF51-440B-A2C6-5DE11223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77D6-8496-40DC-9E6D-D1BBD477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9394-9252-4483-B147-A9EE6C5E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F6CB-D6AB-4A6D-AB82-B3D7BCD1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A6EC-5CE9-4D66-833A-8E5A6230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AD5B-2905-4FCB-A9C0-54B8C04F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5F70-FD7F-407D-AF49-258CEE0E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EE1CE-12B5-49CC-9011-EEFE9BCC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2DA8C-5DF5-475F-BD1F-EDBDA676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7AEDE-81B4-4FE6-8697-989AF8BA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21B79-A7D3-49D6-900C-49ADDD63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B9A3C-951C-4B6D-9A65-F07B60EE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F58-FAD0-4B7F-8356-37BE1789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71ED3-C110-4DA2-A3D5-679DE0D5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96347-EDF2-4E58-B517-2EBD0F39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3D50-7A16-4212-88CB-373E515B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C0400-4A86-49C5-AEF6-60DA07D9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1CB23-7188-42DD-A7A1-BD38EEFA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4C502-AB94-4A0E-B4C1-668787C7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5A2FF-137D-4546-83B4-1747A362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F6F35-EC71-49BB-A2A3-29598817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41537-508F-41BA-88DA-05EC09C2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400B7-5921-4F33-B5B0-D79318F0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645-B6B1-427A-AE6A-1D8F6525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A9B26-E4BE-4B79-9B41-BF6F6B34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A1B64-74D9-4883-87CA-02768C39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87BBD-A232-46E2-872D-123CAAF7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604C3-F669-44B4-81FA-BE79B10E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97C13-2F43-43EE-A9D9-FC65FF60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B0F5E-A27B-4140-84AA-9B1AEE8D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62F6B-431C-4402-825D-CB8D9634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D042C-BBD9-42AE-A2A4-1BECF328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9EB26-4D5C-46FA-BD47-EDF029C7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F2779-E002-4C57-87E4-A3E10AA6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BA1-E62E-45A6-B9F5-557D4B05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5B8C4-2792-4093-88E8-577C743E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402F0-A176-4EFC-A301-78C0BF14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482ED-18A2-4BBD-9E97-DB32B97A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7E650-1CBE-4414-9770-0EF527F2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5FE3F-E3E3-47C8-ADFD-86A22D69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A6635-1E13-4000-8956-F5DEC122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58510-BF0D-48D5-9129-69FA3256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AE70B-AC93-4648-9F21-EC6C5A73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EA06C-AA00-440A-A4AA-D349525B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0E9FB-EFBC-405F-8CC1-3154A07D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18D-1779-4218-95B6-978E8B2E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9E256-8144-4BB3-9ACF-89F9F40A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2214E-C3CA-46FA-B62F-0146A2B0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BE2CC-6517-45DA-9C90-64A2D878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DB6F6-2CDB-48A7-A9D1-40941EA2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03E33-7871-4876-86DF-4A8460E0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95D74-F90C-4A87-A144-03CE2B79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3839C-9F0A-403B-A43B-2402E0A6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A5033-8F27-45F9-ADCB-0CD89AF5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4492E-32D8-4F90-8FE1-D2B1C963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00DC4-135E-4303-8896-24A84DC8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E8D4-D53D-4A76-BAD5-D6AADA61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1351C-716D-406F-AB50-0AFB241F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7132E-EBD0-4E20-AB79-B467F83C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BC314-F6BB-4A30-A7B8-DF832E49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1A4D3-F2D2-4252-AC54-955F776F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25BA4-B106-40FB-8597-4F0C5B12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40AAE-AAD7-4539-AA2D-B3FBAA58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D92E3-26BD-43DF-82A5-5F0CACA3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2E059-7A8E-462A-9718-12D21B9D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2D2E6-625A-4DF0-A9CC-7E4698B4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A2608-F814-4BA0-AD8C-D8DA9352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497-F2C5-4007-B026-A0902C7B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B283A-8045-43BB-BBC8-3E4FDA0D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48985-BBA6-4A2F-8F42-5B684E2F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9DD48-F085-4A47-9E56-BB8C0B3D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CD2D7-9BE2-40A4-B2A1-EBF3E7FC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24DAE-E62D-42BF-BD6C-E6276DC7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CF7B5-6B63-40AF-A52B-8504110E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A5570-1BAB-4576-9B49-406969EB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EE3EC-61A8-40B9-88D0-5CD82250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8B5EB-FB7B-444E-BED7-948A52EA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26FC7-0A77-4BB3-B2D5-69C1D437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E13C-271C-4230-9D34-BFB230D0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0" y="201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5B064-A557-4D81-9D4B-1679E2AC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97454-6B95-490A-949F-11A3D70B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92846-B5FB-4E2A-A0D2-E8CF5F66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6E659-0DC8-409C-AFC4-62751B9D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80520" y="38127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53785-80A7-4E51-A576-86BFDFE2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4160" y="10663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8052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4160" y="38127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FA7A4-DA13-4BBC-AF61-3BCCC2C0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662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51680" y="10663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8052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662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51680" y="38127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D0AAE-9685-4077-9973-D8242631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A0638-1F12-4D7A-A1C2-2E3FD1B2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C473E-C253-4A3F-88DF-D61C772B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65A13-AD1C-4EB3-B401-86160602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933E-B70A-4F66-B42A-C38D613607C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7916-33E7-4E38-BAAB-9DD4433BA61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6FDF-F9ED-49ED-ADBA-FA23591200C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F9FD-A57C-4BF2-B6E3-0C9DCD5099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D91D-4CCB-48BB-90B0-233186215F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B37B-67FC-4884-9EE8-C7ACDCF08F6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A69D-503C-460D-8749-143B245CCD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FF0A-A852-4FA0-817E-30DA47713C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th IETF Prague Cz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70C4-B667-40AB-966F-9E6142F1E3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ucy.yong@huawei.com" TargetMode="External"/><Relationship Id="rId2" Type="http://schemas.openxmlformats.org/officeDocument/2006/relationships/hyperlink" Target="mailto:donald.eastlake@huawei.com" TargetMode="External"/><Relationship Id="rId3" Type="http://schemas.openxmlformats.org/officeDocument/2006/relationships/hyperlink" Target="mailto:sam.aldrin@huawei.com" TargetMode="External"/><Relationship Id="rId4" Type="http://schemas.openxmlformats.org/officeDocument/2006/relationships/hyperlink" Target="mailto:jon.hudson@brocade.com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9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Rectangle 9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274A-E284-4DA7-B67F-376E4D9C71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  <a:ea typeface="宋体"/>
              </a:rPr>
              <a:t>TRILL over MPLS </a:t>
            </a:r>
            <a:br>
              <a:rPr sz="3200"/>
            </a:br>
            <a:br>
              <a:rPr sz="12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draft-yong-trill-trill-o-mpls-00</a:t>
            </a:r>
            <a:br>
              <a:rPr sz="2400"/>
            </a:b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2362320" y="4571640"/>
            <a:ext cx="5867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Lucy Yong          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1"/>
              </a:rPr>
              <a:t>lucy.yong@huawei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Donald Eastlake 3rd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2"/>
              </a:rPr>
              <a:t>donald.eastlake@huawei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Sam.Aldrin  </a:t>
            </a:r>
            <a:r>
              <a:rPr b="0" lang="pt-BR" sz="1400" spc="-1" strike="noStrike">
                <a:solidFill>
                  <a:srgbClr val="ffc000"/>
                </a:solidFill>
                <a:latin typeface="Times New Roman"/>
              </a:rPr>
              <a:t>        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3"/>
              </a:rPr>
              <a:t>sam.aldrin@huawei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Times New Roman"/>
              </a:rPr>
              <a:t>John Hudson                                        </a:t>
            </a:r>
            <a:r>
              <a:rPr b="0" lang="pt-BR" sz="1400" spc="-1" strike="noStrike" u="sng">
                <a:solidFill>
                  <a:srgbClr val="e5d093"/>
                </a:solidFill>
                <a:uFillTx/>
                <a:latin typeface="Times New Roman"/>
                <a:hlinkClick r:id="rId4"/>
              </a:rPr>
              <a:t>jon.hudson@brocad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B225-83AF-477E-952D-2D7DE44D74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6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About This Draft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use cases for RBridge sites interconnected by an IP/MPLS network to form one RBridge campus using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-to-Point  TRILL Li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Access  TRILL Link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e a new Hierarchical L2VPN architecture with RBridge and IP/MP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an informational draft because it requires no changes to the TRILL or MPL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ransparent Interconnect of Lots of Links (TRILL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TF base standard: RFC6325 and RFC632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 optimal pair-wise data frame forwarding with arbitrary topology and without configu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multi-pathing for both unicast and multicast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arbitrary link technolog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: RFC 632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PP: RFC 636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implementing TRILL are called RBridges (Routing Bridg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cause they are IS-IS routers used to provide a transparent bridge-like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Bridge Campus provides a bridged LAN service for connected customer bridges, end stations, 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249"/>
              </a:spcBef>
              <a:buSzPct val="32901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4875-398C-48E8-AFAF-BE357398D7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e Ca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0520" y="914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-to-Point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Ethernet or PPP encapsulating PW in IP/MP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Ethernet or PPP RBridge ports at A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P recommended for point-to-point as it saves ~16 bytes per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Bridge and PE can be separated devices or one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2035-8D97-4F12-B313-E87A21C87C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304920" y="2819520"/>
            <a:ext cx="7848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----------TRILL Link----------&gt;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-------*    &lt;----------PW----------&gt;    *-------*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| AC +----+    +---+   +----+ AC |      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RB   +----| PE |----| P |---| PE |----+ RB   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Site A |    +----+    +---+   +----+    |Site B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|    {        PSN           }    |       |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-------*                                *-------*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              One RBridge Campus                }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e Ca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520" y="9144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Access Link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MPLS/VPLS to provide a bridged LAN between RBridge ports at different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LL supports Ethernet multi-access link  (default mo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7597-75B8-4AEE-9FB5-F01A4037B3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2438280"/>
            <a:ext cx="9144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*      ...........................    *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   .             MPLS/VPLS   .    |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RB    |AC +----+       PW           +----+AC| RB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Site 1+---|VSI ********************** VSI|--+ Site 2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| PE *****            ***** PE |  |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+----+    ****    ****    +----+  |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|      .         +*--*+          .    *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*      ..........|VSI |..........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E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----+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AC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RB Site 3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     |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---------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erarchical L2VP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90360" y="914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Bridges at low-ti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/MPLS at top-ti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calable solution for L2VP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558A-F645-413B-B352-83D414436FE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1143000" y="2309760"/>
            <a:ext cx="74674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--------+      ...........................    +----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     .       IP/MPLS Core      .    |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     .                         .    |        +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--+         |Eth+----+        PW          +----+  |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RBridge +---| RB/|********************| RB/|--+RBridge |C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--+         +-+ | PE |****            ****| PE |\ |        +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  |  Site 1 | | +----+    ****    ****    +----+ -+ Site 2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--+         | |    .         +*--*+          .    |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|    ..........| RB/|...........    +----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--+         | +--------------| PE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   Eth. Itfc    +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--------+                  |Eth. Itfc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------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RBrdige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      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 Site 3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-+----+--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...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cknowledgemen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s thank Ben Mack-Crane, Sue Hares, for their valuable contrib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B5AA-EB5F-4FF7-A311-3DA3CC97BA0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ext Step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052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he review and feedba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on auto-configuration for Hierarchical L2VP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ET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ipe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D595-3073-418C-970E-888A40C64E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0:54:37Z</dcterms:created>
  <dc:creator>VPN-o-CS Authors</dc:creator>
  <dc:description/>
  <dc:language>en-US</dc:language>
  <cp:lastModifiedBy>y73674</cp:lastModifiedBy>
  <dcterms:modified xsi:type="dcterms:W3CDTF">2011-11-10T22:13:21Z</dcterms:modified>
  <cp:revision>231</cp:revision>
  <dc:subject/>
  <dc:title>IET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2C4dms71Wb+v6gGfu/X1PTamMD1u2SqupLpkusdCrFiSAQFNzzuw3MtDB+PsTIYW+55Kk2xI
e0o3phlhyLxIQcSmBPI6gwbZGx0Ck6cCpWYIfdd2bA63NY5/5zCeQhMGOI1SDQdh5pDKF17V
RA70iEckMEUV3UOD4WyzmGBHjy59xIoUUdkDRXR11NRzOzErNf73NJaGnkRmtllevnKfReG/
Px3vIqCByza4hbJtFmU9p</vt:lpwstr>
  </property>
  <property fmtid="{D5CDD505-2E9C-101B-9397-08002B2CF9AE}" pid="3" name="_ms_pID_7253431">
    <vt:lpwstr>bD4NJl1XR+32Z48Ek+5BY+hA56ziv5qs4uOpbXDRPxkha3w/Wcx
mtLe3jAdO/LNasoro7ujZX0F+1PuW9VKr17KhhbSh82rQhHMlIBjFvC945B+3i2jFShcr3dH
chkdr6B+WY3ROcWfUEiiu6AQEhX/75YPkIn0mqOxOqS5OMAc4jzOIICUF6BgU5clptOTlr7G
98jam2JQgoGqql/Pwmm0Lqzpeeo/eT2/BhDxisZ9qg</vt:lpwstr>
  </property>
  <property fmtid="{D5CDD505-2E9C-101B-9397-08002B2CF9AE}" pid="4" name="_ms_pID_7253432">
    <vt:lpwstr>Sk8ryF5eFveMSeGDQhulyrX6vi6r1m
2k3UOD7ucvtngZq5dZ/5w+PWc0dAfjxN/l0GQmLE3jCGXZZYuw4CsgRzlIeapOmwTlgGoyev</vt:lpwstr>
  </property>
  <property fmtid="{D5CDD505-2E9C-101B-9397-08002B2CF9AE}" pid="5" name="sflag">
    <vt:lpwstr>1320173501</vt:lpwstr>
  </property>
</Properties>
</file>