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34213" cy="933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34400" cy="9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84120" y="0"/>
            <a:ext cx="304956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4400" y="699840"/>
            <a:ext cx="4667040" cy="35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65720"/>
            <a:ext cx="304956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84120" y="8865720"/>
            <a:ext cx="304956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65C82BE-D477-416F-924B-7BD67C61664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AF4929E-B7BF-4867-A00B-3B145B1DF97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EE32675-CB64-4BF3-85B0-AD4E1726751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y IETF develop a different E-Tree approach which is incompatible with the existing VPLS, and cannot interwork with other net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3440" y="4433760"/>
            <a:ext cx="5628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577FEE7-9250-4DE0-BE4F-287A5D14E4E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84480" y="8866080"/>
            <a:ext cx="3049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FF7ED60-09D6-4A20-B127-3D77D2F9A3C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8160" y="4435200"/>
            <a:ext cx="515952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B38-141A-4AB6-AC44-2E7C5654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B27-C066-4D7E-B19A-D494246A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BC3-3588-4376-9626-4A38F9D5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98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98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A1F-CB62-4C95-B454-789D306E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92DD-B336-4EF3-AAD5-0B58BB94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9847-7486-4E2C-93DB-D93B8625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95EA-6539-43BB-8019-9282E882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009A-1317-4B69-8521-34C1E829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4EAA-4106-4D72-B501-4F48F9DC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69600" y="95400"/>
            <a:ext cx="7924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7CE7-C21C-443D-B904-AFCB8210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5ED3-0E2F-4A0C-BF66-CF674993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B18-18F5-4265-B5AC-74CB9D50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B1A2-EC6C-4DC8-B717-E6C3BB88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F43F-3AA3-4E38-83DF-7A0AFF6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CA55-8ECB-4F7A-B583-0F3DA632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AE94-67B3-4C01-8809-2D8AE11F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8736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98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8736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98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A9D0-7AEE-4A14-B647-EAF186C4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E70-3BA9-473F-885E-963CA67F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6C8-5F7D-460D-9C55-0248BD99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EC8-3F47-4C7B-BDF5-4353CD54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69600" y="95400"/>
            <a:ext cx="7924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698-77D2-4D89-A26C-D4CFF1D2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5B2-7D7E-4780-8EC7-5BCEEACA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196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2A0-28CD-47D5-BB34-35065AE4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196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855-BB13-4B40-B8D8-897B540A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7934400" y="6662880"/>
            <a:ext cx="12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4C93-816A-4AC8-B7F2-DAC0BEFF132E}" type="slidenum">
              <a:rPr b="0" lang="zh-CN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15840" y="6662880"/>
            <a:ext cx="881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286680"/>
                <a:tab algn="r" pos="863136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Copyright © 2004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www.juniper.net </a:t>
            </a:r>
            <a:endParaRPr b="1" lang="en-US" sz="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Line 10"/>
          <p:cNvSpPr/>
          <p:nvPr/>
        </p:nvSpPr>
        <p:spPr>
          <a:xfrm>
            <a:off x="770040" y="988920"/>
            <a:ext cx="7634160" cy="0"/>
          </a:xfrm>
          <a:prstGeom prst="line">
            <a:avLst/>
          </a:prstGeom>
          <a:ln w="4428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CE11-7047-44CD-9B2A-B47C6535B71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8BD5-688B-4C8F-96FF-0107AFB327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6578640"/>
            <a:ext cx="808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29200"/>
                <a:tab algn="ctr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Copyright © 2004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Franklin Gothic Book"/>
              </a:rPr>
              <a:t>www.juniper.net </a:t>
            </a:r>
            <a:endParaRPr b="1" lang="en-US" sz="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7924680" y="657216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DE63-C0D5-4952-947A-3F5A0DF179DB}" type="slidenum">
              <a:rPr b="0" lang="zh-CN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6046-E7CE-4550-B9C4-71444A48647D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E129-0367-4153-921D-450D65F719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iangyuanlong@huawei.com" TargetMode="External"/><Relationship Id="rId2" Type="http://schemas.openxmlformats.org/officeDocument/2006/relationships/hyperlink" Target="mailto:lucyyong@huawei.com" TargetMode="External"/><Relationship Id="rId3" Type="http://schemas.openxmlformats.org/officeDocument/2006/relationships/hyperlink" Target="mailto:manuel.paul@telekom.de" TargetMode="External"/><Relationship Id="rId4" Type="http://schemas.openxmlformats.org/officeDocument/2006/relationships/hyperlink" Target="mailto:frederic.jounay@orange-ftgroup.com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5297-391D-43AA-8244-DD3C867975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173b"/>
                </a:solidFill>
                <a:latin typeface="Franklin Gothic Heavy"/>
                <a:ea typeface="宋体"/>
              </a:rPr>
              <a:t>VPLS PE Model with E-Tree Support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52480" y="3719520"/>
            <a:ext cx="6096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Yuanlong Jiang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1"/>
              </a:rPr>
              <a:t>jiangyuanlong@huawei.co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Lucy Yong 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2"/>
              </a:rPr>
              <a:t>lucyyong@huawei.co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anuel Paul 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3"/>
              </a:rPr>
              <a:t>manuel.paul@telekom.d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rederic Jounay (</a:t>
            </a:r>
            <a:r>
              <a:rPr b="0" lang="en-US" sz="1800" spc="-1" strike="noStrike" u="sng">
                <a:solidFill>
                  <a:srgbClr val="f1ab00"/>
                </a:solidFill>
                <a:uFillTx/>
                <a:latin typeface="Franklin Gothic Book"/>
                <a:ea typeface="宋体"/>
                <a:hlinkClick r:id="rId4"/>
              </a:rPr>
              <a:t>frederic.jounay@orange-ftgroup.co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lorin Balus (florin.balus@alcatel-lucent.com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Wim Henderickx (wim.henderickx@alcatel-lucent.com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47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475280" y="2819520"/>
            <a:ext cx="63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draft-jiang-l2vpn-vpls-etree-pe-05.tx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B54A-D03B-4E7D-8E01-E444920543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hanges in draft-05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dd the support of PBB VPLS, so that we have two options for the support of S-tag access in E-Tre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Either translate S-VLAN to another S-VLAN ta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Or add a B-VLAN tag  per PBB VPL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For the support of E-Tree in H-VPLS, a new PE model is  described in Appendix A.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pply to both PW and Q-in-Q spok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lso compatible with E-NNI specification in MEF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larifications on the usage of tagged PW and raw PW mode, and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a few other improvements on tex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DDD0-2C2A-4E34-B54F-CA047341FF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E-Tree Progress in Other SDO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EF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pecifications for the E-Tree service: MEF 6.1,</a:t>
            </a:r>
            <a:r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EF 10.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ual S-VLAN mechanism are required for an E-NNI with E-Tree support: MEF 26.1 draft, in progres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E-Tree can be deployed acro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bitrary number of Operator MEN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IEE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symmetric VLAN is generalized to support E-Tre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ITU-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symmetric  VLANs" mechanism was incorporated in ITU-T G.8021, which was approved in  Oct. 2010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762120" y="54100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  <a:ea typeface="宋体"/>
              </a:rPr>
              <a:t>All these SDOs are developing the E-Tree solutions fully compatible with the IEEE  asymmetric VLAN mechanism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7306-F896-405C-9C1B-FC842E9D32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scussion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Three different approaches proposed for E-Tree support in VPLS hitherto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ual VLAN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ual PW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Control Word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ual VLAN approach works in all scenarios, while the other two need extra workarounds or a redesign of the forwarding plane for the following use cas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H-VPLS with Q-in-Q spoke per RFC 4762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PE with multi-stage of bridge modules inside per RFC 6246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If  asymmetric VLAN is supported in the bridge module within a PE, the dual VLAN solution is almost gratuitous for VPLS to support E-Tre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E31A-F037-4F7D-9991-E7FF99D8CE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scussions (cont.)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When Access Circuit (AC) is untagged or tagged with C-VLAN ta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VLAN based mechanism is quite simpl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When AC is S-VLAN tagge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This use case is still out of scope of both MEF and draft-l2vpn-vpls-etree-req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-VLAN is only required in E-NNI, not in UNI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Two options are for the WG consider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728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-VLAN transla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728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Use of PBB VPLS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Do we really need any more options – dual flow labels, dual PWs, CW, etc.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ore complexity in implementation and interwork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1ab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More costs with doubtful benefi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6CC9-AF84-4039-90A6-073A5CC5CA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9600" y="954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Solicit the consensus of the WG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Progressing as a WG draft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1E3F-B6BB-4934-A8D5-67F4CEBB7A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2523960" y="2346480"/>
            <a:ext cx="4419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Times New Roman"/>
                <a:ea typeface="黑体"/>
              </a:rPr>
              <a:t>     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190680" y="235908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93173b"/>
                </a:solidFill>
                <a:latin typeface="FrutigerNext LT Medium"/>
                <a:ea typeface="MS PGothic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页脚占位符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2nd IETF - Taipei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23:56:14Z</dcterms:created>
  <dc:creator>JYL</dc:creator>
  <dc:description/>
  <cp:keywords>E-Tree</cp:keywords>
  <dc:language>en-US</dc:language>
  <cp:lastModifiedBy>china</cp:lastModifiedBy>
  <dcterms:modified xsi:type="dcterms:W3CDTF">2011-11-13T12:34:22Z</dcterms:modified>
  <cp:revision>1346</cp:revision>
  <dc:subject/>
  <dc:title>PE Model for E-T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INn20c1hKUudFfu+YIhGBkSy4N/hu45yVTWIcWtmykOXOVNiJ5K3CmDo9XYC/WW00DTzZ69f
wGaXa3jqyNRknwEx0HPOls7b9nsbXPk6pP4Urtb04kthXGCMVLMivY3S2nRNI4PDj5aIBzO7
lGKJcL7XZXXZlYxLy3s82mAZY4TwKkqEFsgwX+fJ438EyMqGoACrIPcyo/CVv80zsYmYwyn3
m2xJfp1xEze2oNKQmyuz5</vt:lpwstr>
  </property>
  <property fmtid="{D5CDD505-2E9C-101B-9397-08002B2CF9AE}" pid="3" name="_ms_pID_7253431">
    <vt:lpwstr>TwLd85d7E3F9ix6Vs9feznO6MZiIgvJtXJ0josNwLciq6DZmAEp
gFAiaB/sQevFbvvhB1MN0lqpCKBNUOJwWxOhJ3mLxifMkC4XwlmEgzRZ0SKEEHHJCjJVOac3
qE8=</vt:lpwstr>
  </property>
  <property fmtid="{D5CDD505-2E9C-101B-9397-08002B2CF9AE}" pid="4" name="sflag">
    <vt:lpwstr>1321064992</vt:lpwstr>
  </property>
</Properties>
</file>