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34213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34400" cy="9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8412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8412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1F71DE9-1D91-41F2-A4E8-DC03B649616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B4BFDBE-14EC-4FCE-A973-74BB849ACEE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B84C078-EC3E-45D4-94CF-9496F4C6759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y IETF develop a different E-Tree approach which is incompatible with the existing VPLS, and cannot interwork with other net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9743985-CAFB-49C4-8FC1-C2ED3F4D013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4C61F78-36A8-421D-8073-DD44D3D8B7E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8160" y="4435200"/>
            <a:ext cx="515952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9FE-6109-473E-A3DD-FE79F28A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06A-C81A-46D9-8BAD-67B8DABA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168-F317-4152-A05E-319BD108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3C8-C508-4278-A18E-5CE6CBE8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57D9-DE28-429E-AB92-DAEDEC0E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734B-FA7A-481D-9CFF-6CD1DC5E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ADCC-1598-4785-91FB-1992EAC5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8879-664F-4282-B0D7-A701B898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3426-024B-4684-8AD0-3EBDE76B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BAE9-3C34-4759-B489-E4BE9D8E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EC7A-F229-4DFF-B33B-FCA76AB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010-3A3D-4577-AD5A-7FF8FF76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EED6-736B-415D-BDF8-BC843B29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6CA8-D260-48FC-BAF3-6DB808A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22EF-9CC1-4B49-9EAE-E97C86E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5493-83F6-430C-9CB6-6EE055E5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FE54-3AB5-4A6C-A0D0-001C036D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683-7508-46CF-9606-8E7B22B7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D76-65D7-42D6-8E14-25312507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639-010E-4752-9B2D-0753BB76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DF9-4601-4B5C-B6E1-26D89129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BA1-7B97-4848-B333-6AD3BBC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7E0-450F-4FED-8FB1-BE0823B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5F1-5EE6-4167-9996-C343B6E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A372-8D88-42A4-95A0-3B0A0582B45D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Line 10"/>
          <p:cNvSpPr/>
          <p:nvPr/>
        </p:nvSpPr>
        <p:spPr>
          <a:xfrm>
            <a:off x="770040" y="988920"/>
            <a:ext cx="7634160" cy="0"/>
          </a:xfrm>
          <a:prstGeom prst="line">
            <a:avLst/>
          </a:prstGeom>
          <a:ln w="4428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CCA1-9E85-41E3-AA4B-C36844C8DE4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34E7-EF73-408B-ADB2-E39EB9147E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D84D-ADDE-44CE-AD09-EFF2B6AFCD98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F072-6D70-4DEF-92C2-8916AC7BDDEA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6D2A-ADAE-4581-973B-C69188A810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iangyuanlong@huawei.com" TargetMode="External"/><Relationship Id="rId2" Type="http://schemas.openxmlformats.org/officeDocument/2006/relationships/hyperlink" Target="mailto:lucyyong@huawei.com" TargetMode="External"/><Relationship Id="rId3" Type="http://schemas.openxmlformats.org/officeDocument/2006/relationships/hyperlink" Target="mailto:manuel.paul@telekom.de" TargetMode="External"/><Relationship Id="rId4" Type="http://schemas.openxmlformats.org/officeDocument/2006/relationships/hyperlink" Target="mailto:frederic.jounay@orange-ftgroup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0EA8-6588-4117-ACB4-C1D11716BA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73b"/>
                </a:solidFill>
                <a:latin typeface="Franklin Gothic Heavy"/>
                <a:ea typeface="宋体"/>
              </a:rPr>
              <a:t>VPLS PE Model with E-Tree Suppor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480" y="3719520"/>
            <a:ext cx="6096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uanlong Jiang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1"/>
              </a:rPr>
              <a:t>jiangyuanlong@huawei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Lucy Yong 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2"/>
              </a:rPr>
              <a:t>lucyyong@huawei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anuel Paul 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3"/>
              </a:rPr>
              <a:t>manuel.paul@telekom.d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rederic Jounay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4"/>
              </a:rPr>
              <a:t>frederic.jounay@orange-ftgroup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lorin Balus (florin.balus@alcatel-lucent.com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Wim Henderickx (wim.henderickx@alcatel-lucent.com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47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475280" y="2819520"/>
            <a:ext cx="63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draft-jiang-l2vpn-vpls-etree-pe-05.tx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8614-6093-40CD-AC8E-998935E992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in draft-05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dd the support of PBB VPLS, so that we have two options for the support of S-tag access in E-Tre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Either translate S-VLAN to another S-VLAN ta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Or add a B-VLAN tag  per PBB VP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 the support of E-Tree in H-VPLS, a new PE model is  described in Appendix A.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pply to both PW and Q-in-Q spok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lso compatible with E-NNI specification in MEF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larifications on the usage of tagged PW and raw PW mode, and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 few other improvements on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8E25-17AC-48B1-A3FA-907915E05A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E-Tree Progress in Other SDO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EF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pecifications for the E-Tree service: MEF 6.1,</a:t>
            </a: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EF 10.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S-VLAN mechanism are required for an E-NNI with E-Tree support: MEF 26.1 draft, in progres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E-Tree can be deployed acro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bitrary number of Operator ME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EE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ymmetric VLAN is generalized to support E-Tre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TU-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ymmetric  VLANs" mechanism was incorporated in ITU-T G.8021, which was approved in  Oct. 201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762120" y="5410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  <a:ea typeface="宋体"/>
              </a:rPr>
              <a:t>All these SDOs are developing the E-Tree solutions fully compatible with the IEEE  asymmetric VLAN mechanism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2B74-6BD0-4B33-8335-4D3AB94575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scuss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hree different approaches proposed for E-Tree support in VPLS hitherto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VLAN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PW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Control Word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VLAN approach works in all scenarios, while the other two need extra workarounds or a redesign of the forwarding plane for the following use cas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H-VPLS with Q-in-Q spoke per RFC 4762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PE with multi-stage of bridge modules inside per RFC 6246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f  asymmetric VLAN is supported in the bridge module within a PE, the dual VLAN solution is almost gratuitous for VPLS to support E-Tre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9DA-8C0A-4C91-A221-C724BC3A0F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scussions (cont.)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When Access Circuit (AC) is untagged or tagged with C-VLAN ta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VLAN based mechanism is quite simpl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When AC is S-VLAN tagg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his use case is still out of scope of both MEF and draft-l2vpn-vpls-etree-req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-VLAN is only required in E-NNI, not in UNI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wo options are for the WG consider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728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-VLAN transla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728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Use of PBB VPLS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o we really need any more options – dual flow labels, dual PWs, CW, etc.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ore complexity in implementation and interwork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ore costs with doubtful benefi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08B-68AD-4A68-81D1-E39ED300FB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olicit the consensus of the W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Progressing as a WG draft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8BAF-EBC5-40B3-9DC6-6716474E06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190680" y="235908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93173b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23:56:14Z</dcterms:created>
  <dc:creator>JYL</dc:creator>
  <dc:description/>
  <cp:keywords>E-Tree</cp:keywords>
  <dc:language>en-US</dc:language>
  <cp:lastModifiedBy>china</cp:lastModifiedBy>
  <dcterms:modified xsi:type="dcterms:W3CDTF">2011-11-13T12:34:22Z</dcterms:modified>
  <cp:revision>1346</cp:revision>
  <dc:subject/>
  <dc:title>PE Model for E-T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INn20c1hKUudFfu+YIhGBkSy4N/hu45yVTWIcWtmykOXOVNiJ5K3CmDo9XYC/WW00DTzZ69f
wGaXa3jqyNRknwEx0HPOls7b9nsbXPk6pP4Urtb04kthXGCMVLMivY3S2nRNI4PDj5aIBzO7
lGKJcL7XZXXZlYxLy3s82mAZY4TwKkqEFsgwX+fJ438EyMqGoACrIPcyo/CVv80zsYmYwyn3
m2xJfp1xEze2oNKQmyuz5</vt:lpwstr>
  </property>
  <property fmtid="{D5CDD505-2E9C-101B-9397-08002B2CF9AE}" pid="3" name="_ms_pID_7253431">
    <vt:lpwstr>TwLd85d7E3F9ix6Vs9feznO6MZiIgvJtXJ0josNwLciq6DZmAEp
gFAiaB/sQevFbvvhB1MN0lqpCKBNUOJwWxOhJ3mLxifMkC4XwlmEgzRZ0SKEEHHJCjJVOac3
qE8=</vt:lpwstr>
  </property>
  <property fmtid="{D5CDD505-2E9C-101B-9397-08002B2CF9AE}" pid="4" name="sflag">
    <vt:lpwstr>1321064992</vt:lpwstr>
  </property>
</Properties>
</file>