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4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D57626-3F01-4EF3-90B0-D70972BEE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74B0A7-765D-4511-B1DA-0F28D7536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18E3F3-AE49-4E8A-8640-7D4B0BFDF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FA5991-34AB-4E19-8FB6-3F529005A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D257505-E294-442B-9DC0-123997D4D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9D2643-050C-437C-9819-FB41547BC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F0B0E2-560F-4D97-8C86-BDF92F28C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9CBF48-D341-4852-BE10-DA6C99F8C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ame the title of this I-D to better describe the contents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7E-F070-4D86-B920-329094DC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0DA-829A-462F-BEBA-E5321C36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D08-920A-42B4-89AE-A09717CF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060-E16D-4345-94BC-F7D3CE15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C7-8870-4798-B7ED-CB37304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CE3-11AD-4428-89DD-7A574CF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C3-DF0C-4F7A-8D41-E81A084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BDD-3CF4-4844-91B6-09132C4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370-6564-4335-9F83-0169722F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93E-A13B-47E8-AFD2-DA8445E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885-4A2A-4828-92E4-8596BEE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760-1218-4B23-90C0-FCFA80B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BE8-9D50-48E6-9198-4AA2A5F50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 for RSVP-TE in L3VPNs </a:t>
            </a:r>
            <a:br>
              <a:rPr sz="40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kumaki-murai-l3vpn-rsvp-te-04.tx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ji Kumaki                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ki Murai               Furukawa Network Solution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n Cheng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awei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oru Matsushima      Softbank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g Jiang                   KDDI R&amp;D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1/3 (Moti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for VPNs over RSVP-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will provide customer LSPs in BGP/MPLS VP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Supporting Customer Resource ReSerVation Protocol (RSVP) and RSVP Traffic Engineering (RSVP-TE) over a BGP/MPLS IP-VP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5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hat RSVP control messages, such as Path messages and Resv messages, are appropriately handled by PE ro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 is to establish an end-to-end MPLS TE LSP between customer site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870120" y="15228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2/3 (Problem Statement)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57" name="Group 74"/>
          <p:cNvGrpSpPr/>
          <p:nvPr/>
        </p:nvGrpSpPr>
        <p:grpSpPr>
          <a:xfrm>
            <a:off x="533520" y="866880"/>
            <a:ext cx="8305560" cy="3477960"/>
            <a:chOff x="533520" y="866880"/>
            <a:chExt cx="8305560" cy="3477960"/>
          </a:xfrm>
        </p:grpSpPr>
        <p:pic>
          <p:nvPicPr>
            <p:cNvPr id="58" name="Picture 16" descr="CISCO"/>
            <p:cNvPicPr/>
            <p:nvPr/>
          </p:nvPicPr>
          <p:blipFill>
            <a:blip r:embed="rId1"/>
            <a:stretch/>
          </p:blipFill>
          <p:spPr>
            <a:xfrm>
              <a:off x="236232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5"/>
            <p:cNvSpPr/>
            <p:nvPr/>
          </p:nvSpPr>
          <p:spPr>
            <a:xfrm>
              <a:off x="5410080" y="2681280"/>
              <a:ext cx="762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3048120" y="2681280"/>
              <a:ext cx="685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4343400" y="26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pic>
          <p:nvPicPr>
            <p:cNvPr id="62" name="Picture 12" descr="CISCO"/>
            <p:cNvPicPr/>
            <p:nvPr/>
          </p:nvPicPr>
          <p:blipFill>
            <a:blip r:embed="rId2"/>
            <a:stretch/>
          </p:blipFill>
          <p:spPr>
            <a:xfrm>
              <a:off x="6094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CISCO"/>
            <p:cNvPicPr/>
            <p:nvPr/>
          </p:nvPicPr>
          <p:blipFill>
            <a:blip r:embed="rId3"/>
            <a:stretch/>
          </p:blipFill>
          <p:spPr>
            <a:xfrm>
              <a:off x="617220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ISCO"/>
            <p:cNvPicPr/>
            <p:nvPr/>
          </p:nvPicPr>
          <p:blipFill>
            <a:blip r:embed="rId4"/>
            <a:stretch/>
          </p:blipFill>
          <p:spPr>
            <a:xfrm>
              <a:off x="480060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CISCO"/>
            <p:cNvPicPr/>
            <p:nvPr/>
          </p:nvPicPr>
          <p:blipFill>
            <a:blip r:embed="rId5"/>
            <a:stretch/>
          </p:blipFill>
          <p:spPr>
            <a:xfrm>
              <a:off x="373392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7" descr="CISCO"/>
            <p:cNvPicPr/>
            <p:nvPr/>
          </p:nvPicPr>
          <p:blipFill>
            <a:blip r:embed="rId6"/>
            <a:stretch/>
          </p:blipFill>
          <p:spPr>
            <a:xfrm>
              <a:off x="6094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4" descr="CISCO"/>
            <p:cNvPicPr/>
            <p:nvPr/>
          </p:nvPicPr>
          <p:blipFill>
            <a:blip r:embed="rId7"/>
            <a:stretch/>
          </p:blipFill>
          <p:spPr>
            <a:xfrm>
              <a:off x="79246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5" descr="CISCO"/>
            <p:cNvPicPr/>
            <p:nvPr/>
          </p:nvPicPr>
          <p:blipFill>
            <a:blip r:embed="rId8"/>
            <a:stretch/>
          </p:blipFill>
          <p:spPr>
            <a:xfrm>
              <a:off x="79246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28"/>
            <p:cNvSpPr/>
            <p:nvPr/>
          </p:nvSpPr>
          <p:spPr>
            <a:xfrm>
              <a:off x="2666880" y="1247760"/>
              <a:ext cx="3733920" cy="2438280"/>
            </a:xfrm>
            <a:prstGeom prst="cloudCallout">
              <a:avLst>
                <a:gd name="adj1" fmla="val -17731"/>
                <a:gd name="adj2" fmla="val 19273"/>
              </a:avLst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GP/MPLS 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IP-VPN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0" name="Text Box 29"/>
            <p:cNvSpPr/>
            <p:nvPr/>
          </p:nvSpPr>
          <p:spPr>
            <a:xfrm>
              <a:off x="685800" y="197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1" name="Text Box 32"/>
            <p:cNvSpPr/>
            <p:nvPr/>
          </p:nvSpPr>
          <p:spPr>
            <a:xfrm>
              <a:off x="685800" y="3305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 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2" name="Text Box 34"/>
            <p:cNvSpPr/>
            <p:nvPr/>
          </p:nvSpPr>
          <p:spPr>
            <a:xfrm>
              <a:off x="8001000" y="20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3" name="Text Box 35"/>
            <p:cNvSpPr/>
            <p:nvPr/>
          </p:nvSpPr>
          <p:spPr>
            <a:xfrm>
              <a:off x="8001000" y="3305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2438280" y="28479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1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5" name="Line 41"/>
            <p:cNvSpPr/>
            <p:nvPr/>
          </p:nvSpPr>
          <p:spPr>
            <a:xfrm>
              <a:off x="1219320" y="1933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6" name="Line 42"/>
            <p:cNvSpPr/>
            <p:nvPr/>
          </p:nvSpPr>
          <p:spPr>
            <a:xfrm flipV="1">
              <a:off x="1219320" y="27712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V="1">
              <a:off x="6781680" y="18568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6781680" y="26956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9" name="Line 47"/>
            <p:cNvSpPr/>
            <p:nvPr/>
          </p:nvSpPr>
          <p:spPr>
            <a:xfrm>
              <a:off x="533520" y="1233360"/>
              <a:ext cx="81532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0" name="Line 48"/>
            <p:cNvSpPr/>
            <p:nvPr/>
          </p:nvSpPr>
          <p:spPr>
            <a:xfrm>
              <a:off x="533520" y="3976560"/>
              <a:ext cx="815328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3352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769608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53352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792468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33520" y="39765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: MPLS TE 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6" name="Text Box 54"/>
            <p:cNvSpPr/>
            <p:nvPr/>
          </p:nvSpPr>
          <p:spPr>
            <a:xfrm>
              <a:off x="533520" y="8668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: MPLS TE</a:t>
              </a:r>
              <a:r>
                <a:rPr b="1" lang="en-US" sz="18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7" name="Text Box 37"/>
            <p:cNvSpPr/>
            <p:nvPr/>
          </p:nvSpPr>
          <p:spPr>
            <a:xfrm>
              <a:off x="6172200" y="2847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2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1523880" y="1781280"/>
              <a:ext cx="838440" cy="533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>
              <a:off x="3048120" y="2314440"/>
              <a:ext cx="3352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0" name="Line 60"/>
            <p:cNvSpPr/>
            <p:nvPr/>
          </p:nvSpPr>
          <p:spPr>
            <a:xfrm>
              <a:off x="3048120" y="3000240"/>
              <a:ext cx="3124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1" name="Line 59"/>
            <p:cNvSpPr/>
            <p:nvPr/>
          </p:nvSpPr>
          <p:spPr>
            <a:xfrm>
              <a:off x="6858000" y="300024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676520" y="239076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3" name="Line 81"/>
            <p:cNvSpPr/>
            <p:nvPr/>
          </p:nvSpPr>
          <p:spPr>
            <a:xfrm flipV="1">
              <a:off x="1676520" y="2619000"/>
              <a:ext cx="6094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4" name="Text Box 66"/>
            <p:cNvSpPr/>
            <p:nvPr/>
          </p:nvSpPr>
          <p:spPr>
            <a:xfrm>
              <a:off x="1295280" y="2238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 flipV="1">
              <a:off x="7010280" y="2314080"/>
              <a:ext cx="457200" cy="304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>
              <a:off x="7010280" y="2619360"/>
              <a:ext cx="533520" cy="228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7391520" y="2162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8" name="Text Box 69"/>
            <p:cNvSpPr/>
            <p:nvPr/>
          </p:nvSpPr>
          <p:spPr>
            <a:xfrm>
              <a:off x="2590920" y="13240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733920" y="33814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v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0" name="Line 78"/>
            <p:cNvSpPr/>
            <p:nvPr/>
          </p:nvSpPr>
          <p:spPr>
            <a:xfrm>
              <a:off x="2590920" y="170496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1" name="Line 80"/>
            <p:cNvSpPr/>
            <p:nvPr/>
          </p:nvSpPr>
          <p:spPr>
            <a:xfrm flipH="1">
              <a:off x="2057400" y="170496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 flipV="1">
              <a:off x="6019920" y="3152520"/>
              <a:ext cx="121896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3" name="Line 78"/>
            <p:cNvSpPr/>
            <p:nvPr/>
          </p:nvSpPr>
          <p:spPr>
            <a:xfrm>
              <a:off x="5257800" y="3000240"/>
              <a:ext cx="7621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104" name="Rectangle 3"/>
          <p:cNvSpPr/>
          <p:nvPr/>
        </p:nvSpPr>
        <p:spPr>
          <a:xfrm>
            <a:off x="457200" y="4600440"/>
            <a:ext cx="8458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2 can’t identify Path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1 can’t identify Resv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from current specification (RFC 3209)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3/3 (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ew object typ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NDER_TEMPL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FILTER_SPEC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ple minimal extension which is backward compatible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raft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28600" y="1143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to PCE WG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EP extensions for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kumaki-murai-pce-pcep-extension-l3vpn-08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2666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CE architecture is the most suitable to calculate MPLS TE LSPs between BGP/MPLS IP-VPN sit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Update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rom Huawei and Softbank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ukawa Implemented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ext for clarity and readability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ned up the abstra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wrote some of the introduction text to clarify application and intention of the documen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rified motivation and network example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ous edits and nits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9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154160"/>
            <a:ext cx="821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comments and feedback from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G to accept this I-D as a WG documen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WG for interes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8:18:13Z</dcterms:created>
  <dc:creator>kenji kumaki</dc:creator>
  <dc:description/>
  <dc:language>en-US</dc:language>
  <cp:lastModifiedBy>jiang</cp:lastModifiedBy>
  <dcterms:modified xsi:type="dcterms:W3CDTF">2011-11-15T02:50:54Z</dcterms:modified>
  <cp:revision>643</cp:revision>
  <dc:subject/>
  <dc:title>requirements for delivering MPLS services over L3VPN</dc:title>
</cp:coreProperties>
</file>