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13F-E667-414D-9F1D-133AFB6F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B5B-4BAF-4C5F-9EB6-1496688C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6AD92-305C-465A-91E1-33C98964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F5FA4-14D8-41B0-B32B-06C37E1B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69B82-D7C0-4C03-8E7E-A0050BAD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B98CB-35BC-4EEE-AC8B-7D662846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8890C-8F51-4FBF-AEED-9B20A549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DBACB-FACB-4E6A-A658-7D902C8B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B07A2-D63D-418C-A6E0-84E2913C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DB4D8-30DF-4741-BE7C-D36D7FD6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1CC1C-7EF9-4B8A-B1C3-1A120D4D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2B6B8-1EFE-4659-B1C3-5C8D5220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6DF-7688-4E24-AF21-8C13374C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34B29-4BC8-455C-8846-79D904D7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F2C33-475A-4B09-AD18-7086D7AF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A9B33-1BC6-4007-831A-C8FD1F3B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C98E4-8170-4428-8DF1-39700162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6EED5-F452-46A7-83CA-3D2ED03E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9E9A3-0032-4FF4-92C5-42BF023A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00F7A-6FC9-4004-9AB4-0E2B01D1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A6D67-57F2-4639-965B-8137A1B1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E4A44-BAC6-4627-BF7B-1F769F06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78103-CD91-4CF2-BDED-33A16B4B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847-1AD8-421A-B357-B4DBC0FF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36F21-731D-4EF9-A218-60390839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63E24-9BB1-4BFA-8FC0-7AC5BBF0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3FBB3-E091-4731-B699-37AD78AA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47D6F-70A6-4A92-9BA8-1A109774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08C71-751C-4652-BA55-7585BB1B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1EFE6-F9D7-486C-BD49-F55264FF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46804-04B7-41F8-A873-A2390023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C7AAB-DD16-4A63-87BC-525A8BC4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0B149-70D3-4F85-8ED0-024B92F8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E4035-A8A5-4AA8-9903-2440C11B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B35A-7B6F-4746-AD0B-A14B2FE1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C7528-3658-4D30-B5DB-59269105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E0CF0-CCEE-4BB6-8078-E269BFC7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89A7A-68D9-4D38-848E-71275419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45FD5-5713-457E-B9A8-A60EFC61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9528E-C988-43DA-8BFA-A0544365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AF7C0-2B19-4AEE-A482-2F33EB5B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3EED7-77ED-4991-AD2C-C5935C96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58D2A-622A-4191-A03F-3404AB33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80957-9DBB-41BA-B32C-C422DA10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F471A-398C-4A91-B1F9-C3CE5EFB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466C-EB6C-423D-99A1-8D90D4F4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6D6A5-D87B-4F59-842F-74784915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5F04A-117D-4184-8778-D64CD608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0C1B9-2E30-44A8-92A3-F7085D69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62EEE-DAB8-42A5-A927-21ACAA43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61F65-574C-49F3-BAF2-20E3314D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EE66-C578-4B39-BFB1-8D44D1BC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E58D-4CAC-48D4-B152-9CBACE2A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BD12-0DFA-429E-A9BF-F4C8AC60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FE92-EEF0-42A6-96A2-90412FB7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C354-9AB2-4910-97F4-2C0974BD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A7D-9594-46D1-A640-B46D838D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A344-9A26-4AFE-8DE3-A0297B32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7D3E-B0BF-4BC4-9A00-14FAE78A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45F2-5FA7-422B-827C-D5966ADB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171E-D6CE-448D-BF6E-78B469E3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3D8A-BAD4-4237-B735-BB852E20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A1784-2D13-4FEF-8AC1-23029B44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69DBE-8786-43AB-994E-09BBF791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56DF5-EBB4-4B5D-9426-CD564FDA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BBC2A-E5BB-49DC-A04D-07417631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FC2A-6838-4F51-A640-BBD1F89A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DE7-B961-427B-96FC-A375B6CE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010D6-FC30-46BA-BA47-2F58E565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75E70-1861-4226-9C7E-2256CFC0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E2CE7-911C-41BB-9DC6-96F89073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14A76-7405-48E5-A122-6F243E84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C8E93-EE4B-492C-8ECB-7B1616BE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5B00A-67B3-4503-85D1-667C6146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0A28B-9DAB-4D3B-BFFF-97AAE569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C0B4D-975C-4DD2-B85E-C1F5FDFD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478CA-B1F3-4A8D-8E5F-CD2F5982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B61AB-3A8E-49C0-A2CE-A3D380D7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803-9D3B-4999-AB25-6143199B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6860A-D41D-4002-9456-5B9BE6D6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F8F44-B13A-49D3-AC29-4A8DF26F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27BAD-3B0E-4ACC-86E1-2EE89652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E183-5C03-4A78-AFCE-FBBA425D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F4467-ADCC-49E2-A780-4251F57C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59405-AB27-4F3E-A8A0-0777FC8C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0CF4C-9D25-4A51-89C8-B133338E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2C606-509E-493D-9D62-E839B756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536F9-7241-4623-9B47-3A81DCF1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62D5A-1F58-4961-A499-EAE3A8C8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EAE-E98C-4980-B394-A0E7178D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A0A51-8772-4CCC-B90B-2E04057D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DE9A3-4CEB-486F-8B5A-6B977DD8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C5EE6-E1EF-4F1E-AD62-EA700F84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7E077-2B52-4AAC-AFD9-9F66FFC3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FF4B9-C414-44E6-A040-BF499D63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13573-BB9D-4EE1-82C3-A6C35813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9372E-8256-404C-A55C-4A20B4F2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1A3E8-0211-4F3C-ACBE-B3F1D8DA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49DE3-587F-4E7C-9AAE-E8ACECF9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B3472-B412-4482-BBA4-FE9CC5C0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029-F18E-446C-9D79-2082FD78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E88AC-7C81-478D-91F9-0CBCA83A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98D0F-392C-4E52-AD37-C45C81EB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15A2D-79AF-4C49-AAF2-8ADAB616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3250F-1CC6-4E96-A260-DCE41EDD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BF5E6-5A98-4919-8497-52195676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955D6-7DE9-4F90-BCE2-B39B566E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E618D-3093-4B68-827E-E1A60396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7C33E-F6D0-4821-91DE-4B0346D0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F6953-9E00-48B4-B50A-530D7C4F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73CFB-C712-4C57-9AE0-7F1092F8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37D3-84C3-40A8-BB96-712D8AAB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5BC37-5E79-40A3-9577-0902FE50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3E3E6-9876-4AF5-9ADC-65BF6492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52C01-AC6B-4109-9E40-86581838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1281F-6511-4CEA-A3FD-268F87A5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E5A3B-38BC-4F7C-B256-4E0EB7E3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592F2-2F95-4EFE-B1EA-D07BA53E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0DA8F-C17D-4968-82FD-9D614D26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EBE70-B35F-411E-935B-5DCDD6EB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786AB-3C0F-4C1C-82BC-D55157BC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447FF-758D-44CE-95B8-E495E3C5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BC3-8B5C-49E0-AFAB-02ABB687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48BED-CC7E-4CA6-A30D-01E9B706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82EC3-4D3C-495C-9362-3FE56790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D0451-3895-4B8E-9264-5E59F711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0AA55-3A32-4923-9C7C-1775E261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A691C-A500-4595-89DA-CFF0A4C8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A6BE1-09B0-4CD3-B9B5-CDEFFA9E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F6055-9620-4407-8401-3C340D70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AFCB3-E5A2-47CE-AE5C-B7E0DF40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9E6F4-BC4B-4619-8FBF-821CF5C7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8BFCD-727E-40AD-BC34-393457E9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500-E2FA-48BF-9720-E0C30C1A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E040B-02CE-4E46-AFFF-D5F1A5CB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772F7-5D1A-4513-9B28-F0238970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E6BE7-5D31-40AA-A0D4-E8803198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4D16A-8218-4F44-BB1A-E415CE88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BEE67-5DC4-4EAF-A38E-15A373C0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AE4C9-2CFE-4435-BFF5-FF74752D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F4C1B-FEF7-4329-9FCC-1485D832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0F450-7ECC-4D59-A124-8C79091C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ECA72-B808-4BE7-A62B-AEAB3CE0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F7BB6-1D30-4552-8BF9-EC198E27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D161-DD77-413F-83BD-0C0F58670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16DD-5616-4984-9493-1FF1D0AC7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65BF-5A8A-4DD5-BCBD-BE41DB300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8D52-869A-4811-AB07-0221C0331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EB59-EE40-4CD6-8008-E5C2AF82D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1B1D-5BE2-42D6-9E98-371B83A0B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EA64-EEC9-4D58-8036-2EA78CDA5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DA91-8D7E-4198-8AEE-B3EFC9119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8788-8F97-4D0D-9649-646943DF6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94CC-F23D-4297-A10E-D109BB7CC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14C1-4874-46BF-B53C-09F593A4E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39CE-A142-446B-9D05-06BFD52DE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59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ppy Eyeballs Extension for Multiple Interface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chen-mif-happy-eyeballs-extension-0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2-Taipei, Nov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6A27-9002-4965-A467-683C6E39A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4"/>
          <p:cNvSpPr/>
          <p:nvPr/>
        </p:nvSpPr>
        <p:spPr>
          <a:xfrm>
            <a:off x="1979640" y="6553080"/>
            <a:ext cx="504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副标题 2"/>
          <p:cNvSpPr/>
          <p:nvPr/>
        </p:nvSpPr>
        <p:spPr>
          <a:xfrm>
            <a:off x="1187280" y="4076640"/>
            <a:ext cx="7417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98989"/>
                </a:solidFill>
                <a:latin typeface="Arial"/>
              </a:rPr>
              <a:t>Authors: G. Chen, C. Williams, D. Wing</a:t>
            </a: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, and A. Yourtchen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Speaker: Dan 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9"/>
          <p:cNvSpPr/>
          <p:nvPr/>
        </p:nvSpPr>
        <p:spPr>
          <a:xfrm>
            <a:off x="3780000" y="1838160"/>
            <a:ext cx="4032000" cy="4105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4211640" y="2198520"/>
            <a:ext cx="3168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4864320" y="22716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4211640" y="2990880"/>
            <a:ext cx="316872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4501440" y="298440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.E. Extension Synta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9"/>
          <p:cNvSpPr/>
          <p:nvPr/>
        </p:nvSpPr>
        <p:spPr>
          <a:xfrm>
            <a:off x="4572000" y="2774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0"/>
          <p:cNvSpPr/>
          <p:nvPr/>
        </p:nvSpPr>
        <p:spPr>
          <a:xfrm>
            <a:off x="6948360" y="2774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3"/>
          <p:cNvSpPr/>
          <p:nvPr/>
        </p:nvSpPr>
        <p:spPr>
          <a:xfrm>
            <a:off x="4572000" y="327816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4"/>
          <p:cNvSpPr/>
          <p:nvPr/>
        </p:nvSpPr>
        <p:spPr>
          <a:xfrm>
            <a:off x="6443640" y="327816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5"/>
          <p:cNvSpPr/>
          <p:nvPr/>
        </p:nvSpPr>
        <p:spPr>
          <a:xfrm>
            <a:off x="4500720" y="35672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"Happines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6372360" y="34941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"H.E."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4211640" y="4719600"/>
            <a:ext cx="3168720" cy="57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5164200" y="47912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4211640" y="5438880"/>
            <a:ext cx="3168720" cy="287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4861800" y="543240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fac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2"/>
          <p:cNvSpPr/>
          <p:nvPr/>
        </p:nvSpPr>
        <p:spPr>
          <a:xfrm>
            <a:off x="4068720" y="57992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3"/>
          <p:cNvSpPr/>
          <p:nvPr/>
        </p:nvSpPr>
        <p:spPr>
          <a:xfrm>
            <a:off x="4716360" y="57992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4"/>
          <p:cNvSpPr/>
          <p:nvPr/>
        </p:nvSpPr>
        <p:spPr>
          <a:xfrm>
            <a:off x="5292720" y="57992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5"/>
          <p:cNvSpPr/>
          <p:nvPr/>
        </p:nvSpPr>
        <p:spPr>
          <a:xfrm>
            <a:off x="5869080" y="57992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6"/>
          <p:cNvSpPr/>
          <p:nvPr/>
        </p:nvSpPr>
        <p:spPr>
          <a:xfrm>
            <a:off x="6516720" y="57992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7"/>
          <p:cNvSpPr/>
          <p:nvPr/>
        </p:nvSpPr>
        <p:spPr>
          <a:xfrm>
            <a:off x="7093080" y="57992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3851280" y="601488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4427640" y="6014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5148360" y="6014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6012000" y="58705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2"/>
          <p:cNvSpPr/>
          <p:nvPr/>
        </p:nvSpPr>
        <p:spPr>
          <a:xfrm>
            <a:off x="2700360" y="2060640"/>
            <a:ext cx="1511280" cy="2160360"/>
          </a:xfrm>
          <a:custGeom>
            <a:avLst/>
            <a:gdLst>
              <a:gd name="textAreaLeft" fmla="*/ 0 w 1511280"/>
              <a:gd name="textAreaRight" fmla="*/ 545760 w 1511280"/>
              <a:gd name="textAreaTop" fmla="*/ 51480 h 2160360"/>
              <a:gd name="textAreaBottom" fmla="*/ 210888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6"/>
                  <a:pt x="10800" y="1651"/>
                </a:cubicBezTo>
                <a:lnTo>
                  <a:pt x="10800" y="9149"/>
                </a:lnTo>
                <a:cubicBezTo>
                  <a:pt x="10800" y="9975"/>
                  <a:pt x="16200" y="10800"/>
                  <a:pt x="21600" y="10800"/>
                </a:cubicBezTo>
                <a:cubicBezTo>
                  <a:pt x="16200" y="10800"/>
                  <a:pt x="10800" y="11626"/>
                  <a:pt x="10800" y="12451"/>
                </a:cubicBezTo>
                <a:lnTo>
                  <a:pt x="10800" y="19949"/>
                </a:lnTo>
                <a:cubicBezTo>
                  <a:pt x="10800" y="207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1404000" y="184464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H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1474920" y="37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66ff"/>
                </a:solidFill>
                <a:uFillTx/>
                <a:latin typeface="Arial"/>
              </a:rPr>
              <a:t>S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4738-1C48-4C3E-90E7-40065E585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ooter Placeholder 31"/>
          <p:cNvSpPr/>
          <p:nvPr/>
        </p:nvSpPr>
        <p:spPr>
          <a:xfrm>
            <a:off x="1979640" y="6553080"/>
            <a:ext cx="504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.E. Syntax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ing application demands to H.E.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ed parameter may include “Hard” or “Soft” pre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ta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ameters have been passed to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” and “Sort” rules are a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F7DA-B355-4D54-A504-738ABA5F6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5"/>
          <p:cNvSpPr/>
          <p:nvPr/>
        </p:nvSpPr>
        <p:spPr>
          <a:xfrm>
            <a:off x="1979640" y="6553080"/>
            <a:ext cx="504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500" spc="-1" strike="noStrike">
                <a:solidFill>
                  <a:srgbClr val="000000"/>
                </a:solidFill>
                <a:latin typeface="Arial"/>
              </a:rPr>
              <a:t>Changes since IETF81</a:t>
            </a:r>
            <a:br>
              <a:rPr sz="4500"/>
            </a:br>
            <a:r>
              <a:rPr b="0" lang="fi-FI" sz="4500" spc="-1" strike="noStrike">
                <a:solidFill>
                  <a:srgbClr val="000000"/>
                </a:solidFill>
                <a:latin typeface="Arial"/>
              </a:rPr>
              <a:t>(-02 to -03)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ated the H.E. MIF framework to cooperate with applications and kernel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detail on internal processing and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C96A-55E5-45A7-B3C4-6F552F64F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1979640" y="6553080"/>
            <a:ext cx="504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Inte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y Eyeballs for Multiple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nsus on the frame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more pre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33DF-6DE6-482E-8AFB-99170D4A8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ooter Placeholder 4"/>
          <p:cNvSpPr/>
          <p:nvPr/>
        </p:nvSpPr>
        <p:spPr>
          <a:xfrm>
            <a:off x="1979640" y="6553080"/>
            <a:ext cx="504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Wing (dwing)</dc:creator>
  <dc:description/>
  <dc:language>en-US</dc:language>
  <cp:lastModifiedBy>CMCC</cp:lastModifiedBy>
  <dcterms:modified xsi:type="dcterms:W3CDTF">2011-11-13T06:51:31Z</dcterms:modified>
  <cp:revision>67</cp:revision>
  <dc:subject/>
  <dc:title>HE-MIF</dc:title>
</cp:coreProperties>
</file>