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0C32-EAF5-443B-B36C-85094C0D6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07D2-CE9C-49F8-9242-FE602B0F9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E62ECD-B19C-4911-9FC8-6A55B9458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3C305C-0459-4217-9502-C94C722A6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CFE033-61C1-4ABC-95CB-D104F14B0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541A42-4D69-4525-8DF6-346CEE0D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976144-485F-4A45-9203-78AB39A2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44B030-9D87-41D8-8705-66A1179E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1191CF-379F-4796-BE65-99E88D51A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3971B6-589F-4CE0-89BC-9D178C421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9A2DF9-439B-4E23-8C36-4E6CA0702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CB56B6-63AC-4F43-A9C0-0DD2B1FDE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AC88-AB4B-4CC6-8590-9956E6E22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C4CD04-0A67-460B-83B1-1CE7A63BD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A84C7B-E736-4F85-B4DF-F4C99FB45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C71468-0D95-4A51-9617-BC41317DF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3B3D61-AB3E-45B3-BFC5-D56ABA618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EB17CE-02E5-46C1-9BF0-93B4BD7F3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31B79D-8259-4862-9392-DA9F8BE5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FD8B89-F630-46F1-AD64-65F90EAE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CC3550-87B9-4C1A-A0BD-997941D1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E94637-65B5-47A0-BB23-5490BEC2E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834FB8-E98E-4643-BCB9-EDE21904E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4AFC-F088-458C-B949-9BA142B75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A55DB7-8A74-4AD5-8414-6CCAA3A98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121BB3-33EE-4C82-9C80-901F4CF2B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92A760-43A3-49AB-8A3B-544F24A14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707928-A5E8-4EA1-B61C-09CF26147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4E7D6D-6E65-4E86-B27C-70264E9C3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6CD636-B5CF-4780-A540-19095BD54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FF1060-EE1C-4678-A5AF-3A260108D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50AD13-8E55-4451-9B57-8FD19BD5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36D9D6-2BE6-4301-B0C3-2049768B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6C8227-D419-4C4A-AA5E-9E977E8B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7A1E5-6B28-4FE6-969E-A9951F3A9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1DEA39-FF49-4C13-8F40-3CA0DFEAE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85679F-135A-40D0-A1BA-9DC38303A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4CD99F-4735-4962-A443-9DD695650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75B3E0-ED61-48DA-9E54-D51FBC448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DDBF00-88B6-462A-9374-9B7FBBE77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978534-D331-46C1-A1AA-2ECFECA1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F79100-FDA2-4198-95AA-74294501D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4D6970-D002-4C27-9063-28418B68B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0417C9-9DAD-422F-A16D-778752F9D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C844AA-76E3-4851-8379-DB2F130A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8B9D5-414C-4175-A2BD-5EB920BB5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8E41BC-16BB-48B3-A33E-99BA402F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1D02B4-8F6C-47F5-87F6-2FEAF01A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484458-500F-4110-A72A-D2D4D8BE9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982A82-5A0E-4CF7-A0BE-A50039E2D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A75741-FD95-4DE1-9BCB-215E2A37B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3618B-704A-47BB-B9E6-B27E65D76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F2986-483C-4869-AB01-22C6CF763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EA1FE-32DD-4E64-9BFE-B17457B4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CAB18-5F08-4AE3-ACA4-EF7EEFEA9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698B0-3F3B-47B2-A656-034364A1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FD69-A0C1-40DF-B29C-82E5375B8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D6017-E743-423A-853B-FF8A97F7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F4439-8FE5-4911-B4AA-DA408F9D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F69B3-6D48-41BC-A693-561EE55FD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837B0-BB5B-4CBB-8155-B05C4C876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5E4E9-DBEB-4E94-8B59-3A3AC9355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899AE-D31D-4E6C-9454-C135004E8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CED77-24A2-4E73-A228-F4BE5C55D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B1F2F-5E36-4A9C-991A-6DA329E08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78331-080D-49A1-B87F-EAA34D9ED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945C6-A76C-4FB5-8823-BF5502F13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0408-D27A-46BC-B4FB-6DEA1D4EE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18A16-2902-4832-9DF9-446285F3C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EF479-F56E-45E4-8C12-DFFA5F10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85C41-64B4-4F11-BF9A-BDA98CF7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CA0FE-2751-45B1-B521-9EA77473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AB9F1-1677-4988-8973-9C839993B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FD1B9-D59C-46D2-A9B8-35488E4DC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023CA-4B13-4ED0-B6B5-66350A4D2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A402D-1561-4C91-9CF8-29C3EDE60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FBB85-7FD0-4114-AA61-49932F016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2B4B6-9A93-4A67-896A-0E0471CC1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E31B-7ED0-4369-8B05-1B8482DE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097BF-DF18-4C7E-93BE-39F9B27C6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22F8D-2704-4635-8FAA-7B97E8B22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FB4A1-97DA-4A7D-B75B-1A75D4C40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91AC2-F8F1-48C7-A6EE-E93CEA1F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15225-3E32-4F96-877C-80EA968F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0B60E-EEE9-47F3-BD03-AF4B5F7B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549E1-4833-4EEA-BCE7-4A05DF2AB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C0CC6-F83A-4340-BE43-53CAB5A4B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AB084-B490-4F07-A523-D4C470D9E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53E96-A256-46C4-B3F8-4D58C974D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D5F9-3E60-4281-ADD9-C0DE00A3F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738EF-9531-4438-8F92-6993A482D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9FD44-EA7E-4C24-805D-EF525A415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D7F4E-04B3-4919-B178-468751A13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395B7-F3F2-48C7-9115-EE69D2FFC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5BB55-47EF-4E32-AE0C-D252E320A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52D23-80FF-4B64-9A5E-C45A7BA6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79888-3E12-4638-AD8D-DF4B31D6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A0DAA-F4E1-40F5-B266-31E6537D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BE392-7FC1-4432-8A4C-EC8ADDA58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4B763-1CF0-4398-A1D0-4884484C1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8C4C-4DB9-4050-901E-47CEB6C6A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0885F1-2519-4BEA-AB6B-B1BD2A99C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6538F-DE6C-4D93-8CEE-3661B58C0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E3538-1CB6-4A61-B184-0AF135972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414B3-F5EB-44C7-AB5B-08BC0AEBA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9B2A0-1F35-40E3-9318-E1E4AAE30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82596-08B6-4DB1-8165-35B245441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CA164-CF5A-4D3A-80D9-40E85D3E2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DEB2C-2DE8-4F83-B0BF-93052237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39F25-6DCC-4C3B-8C67-66CB0F25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8112B-D232-46BF-8917-38DFB071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8DEB-FD0E-41DE-8113-591FD31A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49345C-57EF-44CC-8DC1-2FA3A6A8E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6B9A7-F25E-48D6-845D-D7BB407DB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F6D925-7AFC-416B-A83A-825684B91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985E92-FBD4-4BDD-A907-759C91EEF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F70C2E-1AB4-4BD8-A410-B1FA2FED3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AB46F-BC0E-46A8-8BA9-92A80D08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E9996-CA9B-4B6F-A29C-EFCCD8701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7DD521-A359-4954-8D28-C8AC09529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4AB27A-98CF-4030-8E1C-D22CACDE6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1F282-2AAD-4472-ACAF-D07E7A54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FE43-DD0B-44E8-992E-D53E1F58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8F68D-B43D-4209-B351-98FB5072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99CF6-BC3C-4576-9A7D-5F03A86B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95D90-A655-47AC-AE4F-F1AC7D251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59C0C-F5C8-4ACF-A4D1-F5A0D916C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9D78C-A8A1-4D0A-BF70-281707FB0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18C542-C49E-4D14-8406-18C562C4A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A546C-CE8A-4578-97CE-1EE2E6039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423AAD-4038-4217-8B68-EECC877EC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AEE971-6C60-4DC7-AA7C-E265CFAED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1E06DE-B30B-42AF-BD32-2C579E826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C995-511F-493A-8632-EC044F23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05725E-3189-4FC6-8F4F-1C9E8A637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163912-3578-4A82-BE7C-B0A42332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28F15C-847C-4FF4-BB3E-F0FEFB4F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2A1453-A37D-4176-A9D8-E3DD76BD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E2ED47-C400-410A-A990-3A70DA77D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C0BAD1-08AB-46DE-BB9B-CFC48A89E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53474C-847B-4BAA-93DB-2847190B2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31D202-AE46-42E1-8D7A-C29BBEADD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5AFBFA-645E-469B-A14A-49FCE53A1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7F8CAE-7C3E-4513-BEA6-3C6FAE936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79280" y="6552720"/>
            <a:ext cx="504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82 - MIF - draft-chen-mif-happy-eyeballs-exten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80130-25ED-4443-B816-422CEEDA2D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1979280" y="6552720"/>
            <a:ext cx="504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82 - MIF - draft-chen-mif-happy-eyeballs-exten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2290-D1B6-4D20-A2DB-19399C748E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1979280" y="6552720"/>
            <a:ext cx="504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82 - MIF - draft-chen-mif-happy-eyeballs-exten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3119-36FA-4592-81F6-0B32D80624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1979280" y="6552720"/>
            <a:ext cx="504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82 - MIF - draft-chen-mif-happy-eyeballs-exten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07BCB-199E-44DB-A400-76B81DBDBA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1979280" y="6552720"/>
            <a:ext cx="504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82 - MIF - draft-chen-mif-happy-eyeballs-exten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B3D51-A3F8-4B0D-89ED-079F08ACD8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1979280" y="6552720"/>
            <a:ext cx="504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82 - MIF - draft-chen-mif-happy-eyeballs-exten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5B3DE-D1AD-4F62-8FBF-FA0C8BC2B7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1979280" y="6552720"/>
            <a:ext cx="504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82 - MIF - draft-chen-mif-happy-eyeballs-exten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81464-E37A-4815-B01B-87BF35F2E7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1979280" y="6552720"/>
            <a:ext cx="504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82 - MIF - draft-chen-mif-happy-eyeballs-exten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C8CE7-0932-4534-ACC7-785373F5F3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1979280" y="6552720"/>
            <a:ext cx="504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82 - MIF - draft-chen-mif-happy-eyeballs-exten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87333-C2F9-4CA4-BB8C-4219699018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1979280" y="6552720"/>
            <a:ext cx="504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82 - MIF - draft-chen-mif-happy-eyeballs-exten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8B13F-8258-4F43-A528-F800963BA1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1979280" y="6552720"/>
            <a:ext cx="504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82 - MIF - draft-chen-mif-happy-eyeballs-exten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F66E9-5E53-4151-AFB0-C7E06C3FD0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1979280" y="6552720"/>
            <a:ext cx="504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82 - MIF - draft-chen-mif-happy-eyeballs-exten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23F05-9DF6-4416-90BD-CA360CB29B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159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ppy Eyeballs Extension for Multiple Interfaces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chen-mif-happy-eyeballs-extension-0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20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ETF 82-Taipei, Nov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E7933-051B-41D7-8A36-293D09349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ooter Placeholder 4"/>
          <p:cNvSpPr/>
          <p:nvPr/>
        </p:nvSpPr>
        <p:spPr>
          <a:xfrm>
            <a:off x="1979640" y="6553080"/>
            <a:ext cx="5040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TF82 - MIF - draft-chen-mif-happy-eyeballs-exten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副标题 2"/>
          <p:cNvSpPr/>
          <p:nvPr/>
        </p:nvSpPr>
        <p:spPr>
          <a:xfrm>
            <a:off x="1187280" y="4076640"/>
            <a:ext cx="74170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898989"/>
                </a:solidFill>
                <a:latin typeface="Arial"/>
              </a:rPr>
              <a:t>Authors: G. Chen, C. Williams, D. Wing</a:t>
            </a: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, and A. Yourtchenk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Speaker: Dan 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19"/>
          <p:cNvSpPr/>
          <p:nvPr/>
        </p:nvSpPr>
        <p:spPr>
          <a:xfrm>
            <a:off x="3780000" y="1838160"/>
            <a:ext cx="4032000" cy="41054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5"/>
          <p:cNvSpPr/>
          <p:nvPr/>
        </p:nvSpPr>
        <p:spPr>
          <a:xfrm>
            <a:off x="4211640" y="2198520"/>
            <a:ext cx="3168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6"/>
          <p:cNvSpPr/>
          <p:nvPr/>
        </p:nvSpPr>
        <p:spPr>
          <a:xfrm>
            <a:off x="4864320" y="2271600"/>
            <a:ext cx="18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8"/>
          <p:cNvSpPr/>
          <p:nvPr/>
        </p:nvSpPr>
        <p:spPr>
          <a:xfrm>
            <a:off x="4211640" y="2990880"/>
            <a:ext cx="316872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7"/>
          <p:cNvSpPr/>
          <p:nvPr/>
        </p:nvSpPr>
        <p:spPr>
          <a:xfrm>
            <a:off x="4501440" y="2984400"/>
            <a:ext cx="26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.E. Extension Synta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9"/>
          <p:cNvSpPr/>
          <p:nvPr/>
        </p:nvSpPr>
        <p:spPr>
          <a:xfrm>
            <a:off x="4572000" y="27748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10"/>
          <p:cNvSpPr/>
          <p:nvPr/>
        </p:nvSpPr>
        <p:spPr>
          <a:xfrm>
            <a:off x="6948360" y="27748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13"/>
          <p:cNvSpPr/>
          <p:nvPr/>
        </p:nvSpPr>
        <p:spPr>
          <a:xfrm>
            <a:off x="4572000" y="327816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14"/>
          <p:cNvSpPr/>
          <p:nvPr/>
        </p:nvSpPr>
        <p:spPr>
          <a:xfrm>
            <a:off x="6443640" y="327816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5"/>
          <p:cNvSpPr/>
          <p:nvPr/>
        </p:nvSpPr>
        <p:spPr>
          <a:xfrm>
            <a:off x="4500720" y="356724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"Happiness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6"/>
          <p:cNvSpPr/>
          <p:nvPr/>
        </p:nvSpPr>
        <p:spPr>
          <a:xfrm>
            <a:off x="6372360" y="349416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a "H.E." 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4211640" y="4719600"/>
            <a:ext cx="3168720" cy="574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5164200" y="479124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0"/>
          <p:cNvSpPr/>
          <p:nvPr/>
        </p:nvSpPr>
        <p:spPr>
          <a:xfrm>
            <a:off x="4211640" y="5438880"/>
            <a:ext cx="3168720" cy="287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1"/>
          <p:cNvSpPr/>
          <p:nvPr/>
        </p:nvSpPr>
        <p:spPr>
          <a:xfrm>
            <a:off x="4861800" y="543240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face dri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22"/>
          <p:cNvSpPr/>
          <p:nvPr/>
        </p:nvSpPr>
        <p:spPr>
          <a:xfrm>
            <a:off x="4068720" y="57992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23"/>
          <p:cNvSpPr/>
          <p:nvPr/>
        </p:nvSpPr>
        <p:spPr>
          <a:xfrm>
            <a:off x="4716360" y="57992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24"/>
          <p:cNvSpPr/>
          <p:nvPr/>
        </p:nvSpPr>
        <p:spPr>
          <a:xfrm>
            <a:off x="5292720" y="57992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25"/>
          <p:cNvSpPr/>
          <p:nvPr/>
        </p:nvSpPr>
        <p:spPr>
          <a:xfrm>
            <a:off x="5869080" y="57992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26"/>
          <p:cNvSpPr/>
          <p:nvPr/>
        </p:nvSpPr>
        <p:spPr>
          <a:xfrm>
            <a:off x="6516720" y="57992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27"/>
          <p:cNvSpPr/>
          <p:nvPr/>
        </p:nvSpPr>
        <p:spPr>
          <a:xfrm>
            <a:off x="7093080" y="57992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8"/>
          <p:cNvSpPr/>
          <p:nvPr/>
        </p:nvSpPr>
        <p:spPr>
          <a:xfrm>
            <a:off x="3851280" y="601488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9"/>
          <p:cNvSpPr/>
          <p:nvPr/>
        </p:nvSpPr>
        <p:spPr>
          <a:xfrm>
            <a:off x="4427640" y="60148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f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30"/>
          <p:cNvSpPr/>
          <p:nvPr/>
        </p:nvSpPr>
        <p:spPr>
          <a:xfrm>
            <a:off x="5148360" y="60148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31"/>
          <p:cNvSpPr/>
          <p:nvPr/>
        </p:nvSpPr>
        <p:spPr>
          <a:xfrm>
            <a:off x="6012000" y="587052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32"/>
          <p:cNvSpPr/>
          <p:nvPr/>
        </p:nvSpPr>
        <p:spPr>
          <a:xfrm>
            <a:off x="2700360" y="2060640"/>
            <a:ext cx="1511280" cy="2160360"/>
          </a:xfrm>
          <a:custGeom>
            <a:avLst/>
            <a:gdLst>
              <a:gd name="textAreaLeft" fmla="*/ 0 w 1511280"/>
              <a:gd name="textAreaRight" fmla="*/ 545760 w 1511280"/>
              <a:gd name="textAreaTop" fmla="*/ 51480 h 2160360"/>
              <a:gd name="textAreaBottom" fmla="*/ 2108880 h 21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26"/>
                  <a:pt x="10800" y="1651"/>
                </a:cubicBezTo>
                <a:lnTo>
                  <a:pt x="10800" y="9149"/>
                </a:lnTo>
                <a:cubicBezTo>
                  <a:pt x="10800" y="9975"/>
                  <a:pt x="16200" y="10800"/>
                  <a:pt x="21600" y="10800"/>
                </a:cubicBezTo>
                <a:cubicBezTo>
                  <a:pt x="16200" y="10800"/>
                  <a:pt x="10800" y="11626"/>
                  <a:pt x="10800" y="12451"/>
                </a:cubicBezTo>
                <a:lnTo>
                  <a:pt x="10800" y="19949"/>
                </a:lnTo>
                <a:cubicBezTo>
                  <a:pt x="10800" y="2077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33"/>
          <p:cNvSpPr/>
          <p:nvPr/>
        </p:nvSpPr>
        <p:spPr>
          <a:xfrm>
            <a:off x="1404000" y="1844640"/>
            <a:ext cx="117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3300"/>
                </a:solidFill>
                <a:uFillTx/>
                <a:latin typeface="Arial"/>
              </a:rPr>
              <a:t>H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4"/>
          <p:cNvSpPr/>
          <p:nvPr/>
        </p:nvSpPr>
        <p:spPr>
          <a:xfrm>
            <a:off x="1474920" y="371628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66ff"/>
                </a:solidFill>
                <a:uFillTx/>
                <a:latin typeface="Arial"/>
              </a:rPr>
              <a:t>So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3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5B971-193D-4D27-AFBF-950956436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Footer Placeholder 31"/>
          <p:cNvSpPr/>
          <p:nvPr/>
        </p:nvSpPr>
        <p:spPr>
          <a:xfrm>
            <a:off x="1979640" y="6553080"/>
            <a:ext cx="5040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TF82 - MIF - draft-chen-mif-happy-eyeballs-exten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.E. Syntax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lving application demands to H.E.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lved parameter may include “Hard” or “Soft” pre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ata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rameters have been passed to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” and “Sort” rules are appl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68E23-9F56-4E5D-BB2E-E235D7B77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Footer Placeholder 5"/>
          <p:cNvSpPr/>
          <p:nvPr/>
        </p:nvSpPr>
        <p:spPr>
          <a:xfrm>
            <a:off x="1979640" y="6553080"/>
            <a:ext cx="5040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TF82 - MIF - draft-chen-mif-happy-eyeballs-exten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500" spc="-1" strike="noStrike">
                <a:solidFill>
                  <a:srgbClr val="000000"/>
                </a:solidFill>
                <a:latin typeface="Arial"/>
              </a:rPr>
              <a:t>Changes since IETF81</a:t>
            </a:r>
            <a:br>
              <a:rPr sz="4500"/>
            </a:br>
            <a:r>
              <a:rPr b="0" lang="fi-FI" sz="4500" spc="-1" strike="noStrike">
                <a:solidFill>
                  <a:srgbClr val="000000"/>
                </a:solidFill>
                <a:latin typeface="Arial"/>
              </a:rPr>
              <a:t>(-02 to -03)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aborated the H.E. MIF framework to cooperate with applications and kernel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ed detail on internal processing and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9EEE8-16F8-4CF5-BA3E-15B3073BC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Footer Placeholder 4"/>
          <p:cNvSpPr/>
          <p:nvPr/>
        </p:nvSpPr>
        <p:spPr>
          <a:xfrm>
            <a:off x="1979640" y="6553080"/>
            <a:ext cx="5040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TF82 - MIF - draft-chen-mif-happy-eyeballs-exten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ing Group Intere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ppy Eyeballs for Multiple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her wor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ensus on the framewor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more pre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ation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59A95-223D-44C1-9170-5FFDD2A4B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Footer Placeholder 4"/>
          <p:cNvSpPr/>
          <p:nvPr/>
        </p:nvSpPr>
        <p:spPr>
          <a:xfrm>
            <a:off x="1979640" y="6553080"/>
            <a:ext cx="5040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TF82 - MIF - draft-chen-mif-happy-eyeballs-exten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n Wing (dwing)</dc:creator>
  <dc:description/>
  <dc:language>en-US</dc:language>
  <cp:lastModifiedBy>CMCC</cp:lastModifiedBy>
  <dcterms:modified xsi:type="dcterms:W3CDTF">2011-11-13T06:51:31Z</dcterms:modified>
  <cp:revision>67</cp:revision>
  <dc:subject/>
  <dc:title>HE-MIF</dc:title>
</cp:coreProperties>
</file>