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6C3-032A-4372-9C21-1707D768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107-2469-49A4-8772-9C57000C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F25-940A-4D42-9E1E-20ECCD84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CCF-0331-461E-97B3-92CFC6BE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3483-A39C-49A4-9928-BED5CF71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9167-7FC6-42AE-B23B-E2653CA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08BC-34F7-4F88-8326-A7E89B6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D14-6EAD-49FC-AF8C-95CAFF8A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DF4-E3EB-4F44-A829-F15A834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6229-EA89-440E-88C2-D6FB4C3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41B-DCCF-4D99-9BD0-E6C9346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865-CE3E-484F-9F37-CDA9D36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EB7-B843-47DC-A5A5-63F4E11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5A25-0927-43B3-AF59-A18D2D1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AC1D-00CC-4A02-B30E-6C0C6AC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6230-CC98-43E0-BFA1-9AD7F1D2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D89-1B03-4B2F-A5F0-29E41FFC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F200-16ED-4193-BD34-D11B728E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AC81-7214-4EFA-AC47-39B15420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A5FD-1244-424B-9459-B07C1B3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C9F5-FEE0-47D3-8295-8BC8D75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F301-AE38-4092-BBAD-61BF2B0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6E3-B97C-4441-88E9-B6133F5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356F-68D7-4499-A7DD-A7ADE883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BA19-5C49-4C6A-9052-DE1E618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A4CD-D0F5-43AD-92F5-E2F3C2C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5257-93A7-4395-8C2E-D2E771A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939A-1307-4771-80FB-70F23DF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4FF8-6AEC-4E01-894F-B150B4F8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4CFB-FFF7-4E82-9DBA-5BE4D571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F72-B4C5-45FE-9E19-085A757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272-DEAE-4B63-868E-6AEDB8D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4AA-E231-4AEB-BBC5-5CD5AFD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CB6-4F88-471D-B637-543EF231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183-6129-4E80-92A3-8CC70DD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7D3-0950-4748-81C4-887E007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72E-00F8-4480-9061-BE489798EDC3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359F-B0E2-46E0-9DF2-09E19206A820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51A4-1BE7-4CAE-B44F-47C3EE4A908B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B8B-8C4D-471A-AB89-D4E2A8A5F537}" type="slidenum">
              <a:rPr b="0" lang="de-DE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CC8-D67F-4EEA-922F-939BC13FCFC0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926-2E50-4860-9BDD-0421A41F0AAA}" type="slidenum">
              <a:rPr b="0" lang="de-DE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greevenbosch-mmusic-parallax-attribute-01" TargetMode="External"/><Relationship Id="rId2" Type="http://schemas.openxmlformats.org/officeDocument/2006/relationships/hyperlink" Target="http://tools.ietf.org/html/draft-greevenbosch-mmusic-signal-3d-format-02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update 3D Format and ParallaxInfo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4E7-D51B-44AF-A218-306EB76A12C0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st ver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greevenbosch-mmusic-parallax-attribute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have been performed on the “ParallaxInfo” draft since Québe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greevenbosch-mmusic-signal-3d-format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3dFormat” attribute draft has been updated to v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BB9D-8ADA-4861-AB6F-75FAFF0C90F0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"3dFormat" v02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dded reference t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O/IEC FDIS 14496-10:2010: "H.264/MPEG-4 Part 10: Advanced video coding for generic audiovisual service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explicit reference for parallax maps to ISO/IEC FDIS 23002-3: "MPEG video technologies part 3: Representation of auxiliary video and supplemental information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a note and reference to ISO/IEC 14496-10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inting at the need for additional signalling in case of frame sequential pac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oved the text that says that the answerer SHOULD select only one 3D form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9A0-FD23-44A5-92B8-0C982A2FE3BD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"3dFormat" v02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fter the offerer receives an answer of a frame-packed stream offer without the "3dFormat" attribute (from a legacy answerer), now the stream SHOULD immediately be treated as a 2D stream, i.e. an update of the offer is not recommended anym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ilarly for 2D+auxiliary as a single st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2D+auxiliary as separate streams, if the legacy answerer selects the auxiliary stream, the offerer MAY initiate 2D streaming without updating its off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C0D9-F475-4B9E-BC78-D75C945D109D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unication with other S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ring the 3GPP SA4#66 meeting, the M3DVC group was informed about the "3dFormat" draf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have adopted text (S4-111011) on it as part of their Technical Report on Mobile 3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line discussion is taking place with MPEG expe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3113-7598-40E6-8BDF-AC27EEF31A46}" type="slidenum">
              <a:rPr b="0" lang="de-DE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D5E-248A-4A7D-B40E-57A12680D3C3}" type="slidenum">
              <a:rPr b="0" lang="en-GB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3:22:37Z</dcterms:created>
  <dc:creator>Bert</dc:creator>
  <dc:description/>
  <dc:language>en-US</dc:language>
  <cp:lastModifiedBy>Bert</cp:lastModifiedBy>
  <dcterms:modified xsi:type="dcterms:W3CDTF">2011-11-11T07:17:32Z</dcterms:modified>
  <cp:revision>26</cp:revision>
  <dc:subject/>
  <dc:title>Status update 3D Format and ParallaxInfo drafts</dc:title>
</cp:coreProperties>
</file>