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174-6346-41E4-B298-A86DB6B9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F7AB-06C4-4AC9-9AA7-6F53A277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967-F344-438D-B36B-C4D9A852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2D1-B176-4319-A1A4-19E05975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4D47-65D7-4C2E-9F27-A0D2DD7A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5C63-1B96-4D70-A8B5-52850BD8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88AA-8AF1-40F1-BAB9-1AD9B44F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08DF-C34C-45CD-B922-FC155544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CE8C-94D7-4CA1-8AED-C3265472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89D4-F965-45CF-8651-9D8051F0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A3B2-46DE-48B7-A00E-06097252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3E51-C8F0-44B9-9615-A1B5FC23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5AA6-D238-4AC6-875C-36F636FC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3EC5-B1AD-4B9C-9BA8-41C2F572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C8DA-92C8-4A2F-A4DD-C795AF57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C1EC-C4AC-4700-A576-FB705025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69D8-6015-435A-A037-C0BEAFD9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1D876-47F7-45E1-9786-780B483B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C2FE2-6ED6-4A42-B18F-FF36750D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DCE09-20A5-4919-BF79-7EF014D1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EE1CD-E9B9-46C9-B61A-66B10C6F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21008-2950-42A0-AD3F-D107C679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9408-53C3-48BA-A17E-B8B7BCEB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F770B-F358-4C76-90E8-33550D19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A86FA-C008-4675-8060-556FBF56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CBD29-1F1D-488D-961F-74946F7C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E0357-4968-4662-993F-9E3EBB78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17B68-4380-4C9D-95D7-2CBD14DC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3A788-6B1F-4BDC-B061-3BD4B5F7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CBC67-2323-48E8-9F43-64DDE020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33D4-2B97-488A-B637-D99E18B7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880-9A24-413B-A31B-BFF0F5CF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110-4A7F-43D4-A67D-54554263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93E-F995-49DA-80F7-5A5C841E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866-D3EE-4DD0-8D83-8C21773F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E881-D58D-4D8F-86AB-841E3271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4C68-A712-4061-80AC-DE4AD07605BC}" type="datetime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BCB6-7F90-45D0-B34C-E683B9CE5ECC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C183-5FAD-4724-ACC3-02BC37DA56CA}" type="datetime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31AF-87E0-42ED-B438-CF93EAD14887}" type="slidenum">
              <a:rPr b="0" lang="de-DE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C903-DE09-4A84-ACDA-EA5DCC3AA89B}" type="datetime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E285-5BC7-4310-807E-0A1065F8F632}" type="slidenum">
              <a:rPr b="0" lang="de-DE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greevenbosch-mmusic-parallax-attribute-01" TargetMode="External"/><Relationship Id="rId2" Type="http://schemas.openxmlformats.org/officeDocument/2006/relationships/hyperlink" Target="http://tools.ietf.org/html/draft-greevenbosch-mmusic-signal-3d-format-02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us update 3D Format and ParallaxInfo draf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ert Greevenbo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23F9-F0ED-4029-AB10-DE0057F65ED6}" type="slidenum">
              <a:rPr b="0" lang="de-DE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st ver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raft-greevenbosch-mmusic-parallax-attribute-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hanges have been performed on the “ParallaxInfo” draft since Québe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raft-greevenbosch-mmusic-signal-3d-format-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“3dFormat” attribute draft has been updated to v0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BC0B-08B3-45A0-B9C8-243ABC29D15D}" type="slidenum">
              <a:rPr b="0" lang="de-DE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in "3dFormat" v02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dded reference to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O/IEC FDIS 14496-10:2010: "H.264/MPEG-4 Part 10: Advanced video coding for generic audiovisual services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ded explicit reference for parallax maps to ISO/IEC FDIS 23002-3: "MPEG video technologies part 3: Representation of auxiliary video and supplemental information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ded a note and reference to ISO/IEC 14496-10,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ointing at the need for additional signalling in case of frame sequential pack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moved the text that says that the answerer SHOULD select only one 3D form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1711-4EB7-455B-A445-D6815751D10D}" type="slidenum">
              <a:rPr b="0" lang="de-DE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in "3dFormat" v02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fter the offerer receives an answer of a frame-packed stream offer without the "3dFormat" attribute (from a legacy answerer), now the stream SHOULD immediately be treated as a 2D stream, i.e. an update of the offer is not recommended anym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imilarly for 2D+auxiliary as a single str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2D+auxiliary as separate streams, if the legacy answerer selects the auxiliary stream, the offerer MAY initiate 2D streaming without updating its off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AA40-5C6D-4020-90A2-20CBCB4394DB}" type="slidenum">
              <a:rPr b="0" lang="de-DE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munication with other S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uring the 3GPP SA4#66 meeting, the M3DVC group was informed about the "3dFormat" draf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have adopted text (S4-111011) on it as part of their Technical Report on Mobile 3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ffline discussion is taking place with MPEG expe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A1DA-9DB3-4457-8277-A6B1D0A58E3B}" type="slidenum">
              <a:rPr b="0" lang="de-DE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3"/>
          <p:cNvSpPr/>
          <p:nvPr/>
        </p:nvSpPr>
        <p:spPr>
          <a:xfrm>
            <a:off x="961920" y="2205000"/>
            <a:ext cx="3311640" cy="23792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you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4849920" y="2205000"/>
            <a:ext cx="3313080" cy="23792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you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41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D287-111C-4C3A-8496-552E987809F2}" type="slidenum">
              <a:rPr b="0" lang="en-GB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23:22:37Z</dcterms:created>
  <dc:creator>Bert</dc:creator>
  <dc:description/>
  <dc:language>en-US</dc:language>
  <cp:lastModifiedBy>Bert</cp:lastModifiedBy>
  <dcterms:modified xsi:type="dcterms:W3CDTF">2011-11-11T07:17:32Z</dcterms:modified>
  <cp:revision>26</cp:revision>
  <dc:subject/>
  <dc:title>Status update 3D Format and ParallaxInfo drafts</dc:title>
</cp:coreProperties>
</file>