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917A-342D-4A3F-A44D-9D8BE2950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8821-F9DB-40E5-A8CA-2DB295347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9DEA-FF44-4525-93EB-1B0388D0E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2F8C-0F42-42B4-98CB-9F2409DA8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0FB3-0591-4DBA-9BEF-175297446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3465-A756-42CF-B731-FF0C1558C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B573-47B7-4371-81DE-634FDBE51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648E-170D-4D2F-8BD2-4349261AF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3D31-55F2-49DA-AB14-4C0123B46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0F44-E184-4BB0-937F-9B53CEAB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D208-1EDE-4E67-B543-609468B4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CFED-B197-49B7-8893-682911D0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F3E22-D509-49B0-BD9E-908C04225FC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39D35-9E06-45C0-8F05-476E06598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hrister.Holmberg@ericsson.com" TargetMode="External"/><Relationship Id="rId2" Type="http://schemas.openxmlformats.org/officeDocument/2006/relationships/hyperlink" Target="mailto:Harald.Alvestrand@google.com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DP 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fer/Answer mechanism to negotiate the usage of bundled me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ETF#82, Taipei, Taiwa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draft-holmberg-mmusic-sdp-bundle-negotiation-00.tx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hrister.Holmberg@ericsson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arald.Alvestrand@google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5F83-1E74-4A72-B1AB-9ED42AFC0F0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entities to use the Session SDP Offer/Answer mechanism to negotiate the usage of bundled media, which refers to the usage of a single 5-tuple for media associated with multiple SDP media descriptions ("m=" lin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TP details when the BUNDLE mechanism is used to negotiate the usage of media multiplexing out of 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C173-5936-4632-95C7-2025203448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DP GR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: BUND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"m=" line belonging to a "BUNDLE" group share a single local port number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individual media described by its associated "m="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ackward compati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n entity that does not understand the a "BUNDLE" group will see a normal SDP offer, and generate a normal SDP answer, with different port number values for each "m="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or every m- line that belongs to a BUNDLE group, the same ICE candidate values are provi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AF7A-49A8-4AF7-8DCD-793164A07A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L FLOW: BUNDLE ENABL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2637000"/>
            <a:ext cx="1728720" cy="33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2360" y="2637000"/>
            <a:ext cx="1728720" cy="33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4148280"/>
            <a:ext cx="3672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00360" y="4292640"/>
            <a:ext cx="3672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8720" y="385452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09760" y="422100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44720" y="407664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: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0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74160" y="400536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: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18520" y="270828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DP Offe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374880" y="2708280"/>
            <a:ext cx="175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D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98240" y="2131920"/>
            <a:ext cx="2773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OF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=group:BUNDLE foo 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=audio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100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TP/AVP 0 8 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=mid:fo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=video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100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TP/AVP 31 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=mid: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99680" y="4869000"/>
            <a:ext cx="24652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NS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=group:BUNDLE foo 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=audio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200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TP/AVP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=mid:fo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=video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200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TP/AVP 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=mid: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10AE-25FB-4944-8487-7BAB6B9729B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L FLOW: BUNDLE DISABL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71640" y="2637000"/>
            <a:ext cx="1728720" cy="33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72360" y="2637000"/>
            <a:ext cx="1728720" cy="33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700360" y="3573000"/>
            <a:ext cx="3743280" cy="576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4292640"/>
            <a:ext cx="3672000" cy="792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068720" y="350028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109760" y="471816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44720" y="407664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: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0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374160" y="334980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: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18520" y="270828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DP Offe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374880" y="2708280"/>
            <a:ext cx="175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D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374160" y="493380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: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0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98240" y="2131920"/>
            <a:ext cx="2773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OF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=group:BUNDLE foo 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=audio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100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TP/AVP 0 8 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=mid:fo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=video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100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TP/AVP 31 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=mid: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99680" y="5156280"/>
            <a:ext cx="246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NS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=audio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200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TP/AVP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=video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300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TP/AVP 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12C2-60D9-4D27-98A1-37C5F25C555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T ST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TENTIAL DEPENDENCI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TCWEB, CLUE, AVTC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POS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OPT THE DRA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4BB6-B4FF-47CF-A4AA-19CB7D19FE9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66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NK YOU FOR LISTENING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9D30-C039-4635-95C0-0F506904B89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01:20:58Z</dcterms:created>
  <dc:creator>lmfchh</dc:creator>
  <dc:description/>
  <dc:language>en-US</dc:language>
  <cp:lastModifiedBy>lmfchh</cp:lastModifiedBy>
  <dcterms:modified xsi:type="dcterms:W3CDTF">2011-11-18T02:32:42Z</dcterms:modified>
  <cp:revision>27</cp:revision>
  <dc:subject/>
  <dc:title>SDP Offer/Answer mechanism to negotiate the usage of bundled media</dc:title>
</cp:coreProperties>
</file>