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19A-8A38-47C4-8F90-8E4F1B9C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0E1-F536-462C-A447-80AD1ECB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57C-D310-4D7E-918B-DF1AE39D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20C-31F4-4DD6-A7D2-C615F9A5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592-C8E8-4EE9-89A2-D3AF49A6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4C0-EB46-404F-8E8A-D20183D4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B28-CE0D-4178-AE81-2EA8DD5C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C34-5271-43AE-907C-4BA9A7D4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3E7-F55F-4D22-9AD6-A7A8A9E9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A58-3F7C-4FE3-B9F2-EB67AEC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298-EE86-423F-980B-113BEA34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1BC-4BC4-4476-8B2C-EB0D439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6F88-D7E6-4E48-A2C4-F1B14371B0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E706-A1E8-49CB-B484-03B3160C9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rister.Holmberg@ericsson.com" TargetMode="External"/><Relationship Id="rId2" Type="http://schemas.openxmlformats.org/officeDocument/2006/relationships/hyperlink" Target="mailto:Harald.Alvestrand@google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P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er/Answer mechanism to negotiate the usage of bundled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ETF#82, Taipei, Taiw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raft-holmberg-mmusic-sdp-bundle-negotiation-00.t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ister.Holmberg@ericsson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rald.Alvestrand@google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5F9-6DDB-41C3-9C65-601D746D87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entities to use the Session SDP Offer/Answer mechanism to negotiate the usage of bundled media, which refers to the usage of a single 5-tuple for media associated with multiple SDP media descriptions ("m=" lin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P details when the BUNDLE mechanism is used to negotiate the usage of media multiplexing out of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D29-2041-4455-A554-C523DABCA5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P GR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: BUN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"m=" line belonging to a "BUNDLE" group share a single local port numbe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media described by its associated "m="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ward compat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entity that does not understand the a "BUNDLE" group will see a normal SDP offer, and generate a normal SDP answer, with different port number values for each "m="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 every m- line that belongs to a BUNDLE group, the same ICE candidate values ar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9B7-712D-4583-85A3-08E9458F9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 FLOW: BUNDLE ENAB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637000"/>
            <a:ext cx="1728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2637000"/>
            <a:ext cx="1728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414828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429264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8720" y="38545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9760" y="4221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4720" y="4076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4160" y="400536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8520" y="2708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P Off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4880" y="2708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98240" y="2131920"/>
            <a:ext cx="277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=group:BUNDLE foo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audi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1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0 8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f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vide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1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31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99680" y="4869000"/>
            <a:ext cx="2465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=group:BUNDLE foo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audi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2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f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vide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2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5A4-73D6-4B6D-B403-E6138BBD7C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 FLOW: BUNDLE DISAB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637000"/>
            <a:ext cx="1728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2637000"/>
            <a:ext cx="1728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700360" y="3573000"/>
            <a:ext cx="374328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292640"/>
            <a:ext cx="367200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8720" y="35002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09760" y="471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4720" y="4076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4160" y="33498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8520" y="2708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P Off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4880" y="2708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4160" y="49338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98240" y="2131920"/>
            <a:ext cx="277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=group:BUNDLE foo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audi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1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0 8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f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vide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1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31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=mid: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9680" y="5156280"/>
            <a:ext cx="24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audi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2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video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3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TP/AVP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CB9-6BED-4B8C-B95B-35DE4BE3E6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ENTIAL DEPENDENC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TCWEB, CLUE, AVT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OPT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829-C8B9-41F1-B617-1F922D2C3A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K YOU FOR LISTENING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9C1-D1EA-41E7-A332-032B03655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1:20:58Z</dcterms:created>
  <dc:creator>lmfchh</dc:creator>
  <dc:description/>
  <dc:language>en-US</dc:language>
  <cp:lastModifiedBy>lmfchh</cp:lastModifiedBy>
  <dcterms:modified xsi:type="dcterms:W3CDTF">2011-11-18T02:32:42Z</dcterms:modified>
  <cp:revision>27</cp:revision>
  <dc:subject/>
  <dc:title>SDP Offer/Answer mechanism to negotiate the usage of bundled media</dc:title>
</cp:coreProperties>
</file>