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5B614-E41B-484E-9B43-EB7CF535B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BE6D0-3AFD-425F-896F-EA433947D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10DC1-9D6B-429B-BB6A-2D1956517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42D1B-BD86-48DA-BD58-D8AD1D2DE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2580D-AFF4-43D4-8D76-7E95D86A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6BEB6-FBA5-4650-B527-BF9280019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D82E2-E8EE-43F9-B889-96F09481F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4ABBD-D09F-459E-AFCD-E8906D17C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94A6-E3F9-4046-967B-CA9B3C3FB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9BD52-AD2B-4BDD-8799-3CE2E3A3C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ACD0-6BD2-4FFC-BC43-CE91BD8F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BF23-67C3-4D7A-B371-4C96A031E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2FA2-7997-443C-BA78-2FA76CC1045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B5ED-1EF9-48CC-A0F2-DB143DBBD3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rtin.stiemerling@neclab.eu" TargetMode="External"/><Relationship Id="rId2" Type="http://schemas.openxmlformats.org/officeDocument/2006/relationships/hyperlink" Target="mailto:martin.stiemerling@neclab.e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TSP 2.0</a:t>
            </a:r>
            <a:br>
              <a:rPr sz="4400"/>
            </a:br>
            <a:r>
              <a:rPr b="0" lang="en-US" sz="2000" spc="-1" strike="noStrike">
                <a:solidFill>
                  <a:srgbClr val="000000"/>
                </a:solidFill>
                <a:latin typeface="Consolas"/>
              </a:rPr>
              <a:t>draft-ietf-mmusic-rfc2326bis-28</a:t>
            </a:r>
            <a:endParaRPr b="0" lang="en-US" sz="2000" spc="-1" strike="noStrike">
              <a:solidFill>
                <a:srgbClr val="000000"/>
              </a:solidFill>
              <a:latin typeface="Calibri"/>
            </a:endParaRPr>
          </a:p>
        </p:txBody>
      </p:sp>
      <p:sp>
        <p:nvSpPr>
          <p:cNvPr id="42" name="PlaceHolder 2"/>
          <p:cNvSpPr>
            <a:spLocks noGrp="1"/>
          </p:cNvSpPr>
          <p:nvPr>
            <p:ph type="subTitle"/>
          </p:nvPr>
        </p:nvSpPr>
        <p:spPr>
          <a:xfrm>
            <a:off x="928800" y="4076280"/>
            <a:ext cx="7215120" cy="17528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agnus Westerlund </a:t>
            </a:r>
            <a:r>
              <a:rPr b="0" lang="en-US" sz="1400" spc="-1" strike="noStrike" u="sng">
                <a:solidFill>
                  <a:srgbClr val="0000ff"/>
                </a:solidFill>
                <a:uFillTx/>
                <a:latin typeface="Consolas"/>
                <a:ea typeface="Consolas"/>
                <a:hlinkClick r:id="rId1"/>
              </a:rPr>
              <a:t>magnus.westerlund@ericsson.com</a:t>
            </a:r>
            <a:endParaRPr b="0" lang="en-US" sz="1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artin Stiemerling </a:t>
            </a:r>
            <a:r>
              <a:rPr b="0" lang="en-US" sz="1400" spc="-1" strike="noStrike" u="sng">
                <a:solidFill>
                  <a:srgbClr val="0000ff"/>
                </a:solidFill>
                <a:uFillTx/>
                <a:latin typeface="Consolas"/>
                <a:ea typeface="Consolas"/>
                <a:hlinkClick r:id="rId2"/>
              </a:rPr>
              <a:t>martin.stiemerling@neclab.eu</a:t>
            </a:r>
            <a:r>
              <a:rPr b="0" lang="en-US" sz="1400" spc="-1" strike="noStrike">
                <a:solidFill>
                  <a:srgbClr val="898989"/>
                </a:solidFill>
                <a:latin typeface="Consolas"/>
                <a:ea typeface="Consolas"/>
              </a:rPr>
              <a:t> </a:t>
            </a:r>
            <a:br>
              <a:rPr sz="2400"/>
            </a:br>
            <a:endParaRPr b="0" lang="en-US" sz="1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IETF-82, MMUSIC WG, 2011-11-18</a:t>
            </a:r>
            <a:endParaRPr b="0" lang="en-US" sz="24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3817-58CB-4313-A61B-07E57EBBDC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ditorials/Fixes</a:t>
            </a:r>
            <a:endParaRPr b="0" lang="en-US" sz="4400" spc="-1" strike="noStrike">
              <a:solidFill>
                <a:srgbClr val="000000"/>
              </a:solidFill>
              <a:latin typeface="Calibri"/>
            </a:endParaRPr>
          </a:p>
        </p:txBody>
      </p:sp>
      <p:sp>
        <p:nvSpPr>
          <p:cNvPr id="45" name=""/>
          <p:cNvSpPr txBox="1"/>
          <p:nvPr/>
        </p:nvSpPr>
        <p:spPr>
          <a:xfrm>
            <a:off x="250560" y="1279440"/>
            <a:ext cx="856908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a:t>
            </a:r>
            <a:endParaRPr b="0" lang="en-US" sz="32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LD:</a:t>
            </a:r>
            <a:br>
              <a:rPr sz="2800"/>
            </a:br>
            <a:r>
              <a:rPr b="0" lang="en-US" sz="2800" spc="-1" strike="noStrike">
                <a:solidFill>
                  <a:srgbClr val="000000"/>
                </a:solidFill>
                <a:latin typeface="Calibri"/>
              </a:rPr>
              <a:t>Unrecognized headers in responses are treated as message-headers.</a:t>
            </a:r>
            <a:endParaRPr b="0" lang="en-US" sz="28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a:t>
            </a:r>
            <a:br>
              <a:rPr sz="2800"/>
            </a:br>
            <a:r>
              <a:rPr b="0" lang="en-US" sz="2800" spc="-1" strike="noStrike">
                <a:solidFill>
                  <a:srgbClr val="000000"/>
                </a:solidFill>
                <a:latin typeface="Calibri"/>
              </a:rPr>
              <a:t>Unrecognized headers in responses are treated as message-headers</a:t>
            </a:r>
            <a:r>
              <a:rPr b="1" lang="en-US" sz="2800" spc="-1" strike="noStrike">
                <a:solidFill>
                  <a:srgbClr val="000000"/>
                </a:solidFill>
                <a:latin typeface="Calibri"/>
              </a:rPr>
              <a:t> and hence MUST be ignored.</a:t>
            </a:r>
            <a:endParaRPr b="0" lang="en-US" sz="28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gt; MUST in some places</a:t>
            </a:r>
            <a:endParaRPr b="0" lang="en-US" sz="2800" spc="-1" strike="noStrike">
              <a:solidFill>
                <a:srgbClr val="000000"/>
              </a:solidFill>
              <a:latin typeface="Calibri"/>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for shoulds, etc</a:t>
            </a:r>
            <a:endParaRPr b="0" lang="en-US" sz="24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F:</a:t>
            </a:r>
            <a:br>
              <a:rPr sz="2800"/>
            </a:br>
            <a:r>
              <a:rPr b="0" lang="en-US" sz="2800" spc="-1" strike="noStrike">
                <a:solidFill>
                  <a:srgbClr val="000000"/>
                </a:solidFill>
                <a:latin typeface="Calibri"/>
              </a:rPr>
              <a:t>profile = "AVP" / "SAVP" / "AVPF" </a:t>
            </a:r>
            <a:r>
              <a:rPr b="1" lang="en-US" sz="2800" spc="-1" strike="noStrike">
                <a:solidFill>
                  <a:srgbClr val="000000"/>
                </a:solidFill>
                <a:latin typeface="Calibri"/>
              </a:rPr>
              <a:t>/ "SAVPF" </a:t>
            </a:r>
            <a:r>
              <a:rPr b="0" lang="en-US" sz="2800" spc="-1" strike="noStrike">
                <a:solidFill>
                  <a:srgbClr val="000000"/>
                </a:solidFill>
                <a:latin typeface="Calibri"/>
              </a:rPr>
              <a:t>/ token</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1B55-8AB0-4A94-BF21-33A3E5596C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3.1.  Changing Transport Parameter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SETUP response for a request to change the transport parameters while in Play state, the server MUST include the Range to indicate at what point the new transport parameters will be used.  </a:t>
            </a:r>
            <a:r>
              <a:rPr b="1" lang="en-US" sz="2800" spc="-1" strike="noStrike">
                <a:solidFill>
                  <a:srgbClr val="000000"/>
                </a:solidFill>
                <a:latin typeface="Calibri"/>
              </a:rPr>
              <a:t>Further, if RTP is used for delivery, the server MUST also include the RTP-Info header to indicate at what timestamp and RTP sequence number the change will take pla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SA: This effectively makes RTSP incompatible with RTP mixers, right ? If so, should probably note that.  </a:t>
            </a:r>
            <a:endParaRPr b="0" lang="en-US" sz="28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69D8-E9E5-45EF-B4EF-6B32FF1072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52 Transport</a:t>
            </a:r>
            <a:endParaRPr b="0" lang="en-US" sz="4400" spc="-1" strike="noStrike">
              <a:solidFill>
                <a:srgbClr val="000000"/>
              </a:solidFill>
              <a:latin typeface="Calibri"/>
            </a:endParaRPr>
          </a:p>
        </p:txBody>
      </p:sp>
      <p:sp>
        <p:nvSpPr>
          <p:cNvPr id="51" name=""/>
          <p:cNvSpPr txBox="1"/>
          <p:nvPr/>
        </p:nvSpPr>
        <p:spPr>
          <a:xfrm>
            <a:off x="457200" y="11970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KEY:  This parameter is used in conjunction with transport specifications that can utilize MIKEY for security context establishment.  So far only the SRTP based RTP profiles SAVP       and SAVPF can utilize MIKEY and this is  defined in Appendix C.1.4.1.  This parameter can be included both in request and response messages.  The binary MIKEY message SHALL be BASE64 [RFC4648] encoded before being included in the value part of the parameter.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SA: Is MIKEY the only keying mechanism supported. Seems restrictive for unicast at least. Has there been discussion around this more recently ?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DDB4-483A-4C6F-AE57-9082F39C4B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55.  Var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er/Section inherited from HTTP</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ary field value indicates the set of request-header fields that fully determines, while the response is fresh, whether a cache is    permitted to use the response to reply to a subsequent request without revalidation.</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SA: Operation is very unclear and there is nothing in Section 18 to explain it further (HTTP has much more detail here, but that doesn’t help in this document).</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18: Caching  </a:t>
            </a:r>
            <a:endParaRPr b="0" lang="en-US" sz="28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77C5-7B31-4991-B020-C72AC48765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through remaining comments by Flemm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require cross checking multiple parts of the draf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tin to post open issues to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G to check </a:t>
            </a:r>
            <a:r>
              <a:rPr b="1" lang="en-US" sz="3200" spc="-1" strike="noStrike">
                <a:solidFill>
                  <a:srgbClr val="000000"/>
                </a:solidFill>
                <a:latin typeface="Calibri"/>
              </a:rPr>
              <a:t>next</a:t>
            </a:r>
            <a:r>
              <a:rPr b="0" lang="en-US" sz="3200" spc="-1" strike="noStrike">
                <a:solidFill>
                  <a:srgbClr val="000000"/>
                </a:solidFill>
                <a:latin typeface="Calibri"/>
              </a:rPr>
              <a:t> version on the chan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remaining comments of Flemming have been address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3030-0017-473C-B635-C7C4638CF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1:52:05Z</dcterms:created>
  <dc:creator>Martin Stiemerling</dc:creator>
  <dc:description/>
  <dc:language>en-US</dc:language>
  <cp:lastModifiedBy>Martin Stiemerling</cp:lastModifiedBy>
  <dcterms:modified xsi:type="dcterms:W3CDTF">2011-11-17T00:59:43Z</dcterms:modified>
  <cp:revision>116</cp:revision>
  <dc:subject/>
  <dc:title>RTSP 2.0 status (-23)</dc:title>
</cp:coreProperties>
</file>