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3909-D594-4CBD-B297-CCD62E0C05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451D-C749-40E7-95AC-9AD2250091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FFB-C593-4A74-8DB2-8B99019D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C48-360F-4773-84CA-C3633CFE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0A4-3983-4AD3-827D-86420EC3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806-70C7-4EA8-8DB2-FA9AA58C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18B-62E4-4D37-AE76-5A6504D8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0E3-78E5-451B-8C5D-06947B66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CE6-FB27-4078-8E3E-83155F45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7F5-E0E6-4B43-A126-A5CAF669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E41-7F1C-4FD2-991D-6F476844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C4C-6BD9-44F3-9F8E-E8A85C13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ABA-7138-48CE-8E81-4D6E7BBF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BE5-F2FE-49E0-A588-D65691D6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933A-1937-40C2-BE16-C2C70F604A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4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5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5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6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6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7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7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8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8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9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9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10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10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4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3657-695E-4D98-91AF-B3A54D62BC61}" type="datetime">
              <a:rPr b="0" lang="zh-CN" sz="12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01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urn Path Specified LSP 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draft-ietf-mpls-return-path-specified-lsp-ping-04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Mach Chen (mach@huawei.co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FrutigerNext LT Regular"/>
              </a:rPr>
              <a:t>Ning So (ning.so@verizonbusiness.co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Wei Cao (caowayne@huawei.co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FrutigerNext LT Regular"/>
              </a:rPr>
              <a:t>Fredric Jounay (frederic.jounay@orange-ftgroup.co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Simon Delord (simon.delord@gmail.co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urn Path Specified LSP P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1576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fy the return path of the echo reply in the echo request message,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e a new reply mode: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ly via specified return path (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a new TLV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ly Path TL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dentify the specified return pa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cho reply is extended to test the return p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carrying the FEC stack information of the return p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directions of a bidirectional LSP tested by a single LSP Ping messag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hanges from 03-&gt;0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964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draft is quite s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changes mainly on IANA consideration (see next slid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ditorial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hanges from 03-&gt;04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68280"/>
            <a:ext cx="8507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sion 0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existing sub-TLVs of Target FEC Stack TLV to Reply Path T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y Path TLV has its own “TLV and sub-TLVs” registry and sub-regi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sion 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 to apply all existing and future defined sub-TLVs of Target FEC Stack TLV to Reply Path T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e the registry and sub-registry with Target FEC Stack T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how to register the dedicated sub-TLVs to Reply Path TL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-define the “Vender Private” rang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arget FEC Stack TLV, it is still the “Vender Private” rang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for other TLVs, it is treated as a normal number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, reserve/allocate  a TLV-unique range (e.g., starting from 1024)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umber spaces split into two part:  Common to all TLVs and TLV-un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ddress the comments raised on the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the IANA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bmit a new version and ask for WG last c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1:33:00Z</dcterms:created>
  <dc:creator>Mach Chen</dc:creator>
  <dc:description/>
  <dc:language>en-US</dc:language>
  <cp:lastModifiedBy>Mach Chen 55527</cp:lastModifiedBy>
  <dcterms:modified xsi:type="dcterms:W3CDTF">2011-11-11T08:47:57Z</dcterms:modified>
  <cp:revision>115</cp:revision>
  <dc:subject/>
  <dc:title>LDP extensions for Explicit Pseudowire to transport LSP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gGRXsflpzbN1JQfhApAkFIvFaP7tvTADeG4yWU1aLU3YcNdr+/Q5sivd9cIrjAgB3K7Wyszj
VSwZvlzmLMmHHnP59I5VHdM/ruvQ0mg6PX5O5ig30SZp31Baux6i4k+SZJjqbXwMQrkLpJQE
w5KwXWEIjvoLDalpkDAeIWNZY+YnZci9Q6Dv7WU1+7du/wcU7mN2TaMzgwFo0A88G3DEV0TL
U7Dz9fGxU714T4eTTdEjz</vt:lpwstr>
  </property>
  <property fmtid="{D5CDD505-2E9C-101B-9397-08002B2CF9AE}" pid="3" name="_ms_pID_7253431">
    <vt:lpwstr>pRrWk0Pd6CDuuPkSvMztLsw7/K1ZzeafpvZexCXxrA7otXGF4A0
a3YIV6gH7vR3IWAhlSSXdRtd6SE+eglWhmGH4uwypugs6o41ExBMiqvHMR/47//QgCUqa7HQ
ms4=</vt:lpwstr>
  </property>
  <property fmtid="{D5CDD505-2E9C-101B-9397-08002B2CF9AE}" pid="4" name="sflag">
    <vt:lpwstr>1321001243</vt:lpwstr>
  </property>
</Properties>
</file>