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2B24-7CAD-4905-B9A4-E713FD076D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0AF0-9972-459C-99F0-098032B71B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F2D-71FA-4FD7-8531-EC0761BE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91E-481C-4658-B965-73CF1EFE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E91-B707-4B6D-AC0B-DC41D207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C17-5915-4269-83F2-DF5801DF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E2D-FA1F-4706-80C7-DD13F5F4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645-51C4-47FC-8CDF-E2737D4A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DF0-FB53-4028-9A00-4A81B1A7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CF8-6267-4599-9E18-EDFE7AFC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ED1-9B3C-489B-AC26-629F2BF1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462-1C64-4DC8-9820-F43982A8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E43-4E35-49F0-87EE-0DCBB0AB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FCF-644A-4DFC-94B9-E259D56D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98C4-8991-471A-B5CC-4C6550004E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4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5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5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6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6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7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7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8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8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9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9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10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10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4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2CF6-F39A-42D9-8C98-1D51460E306C}" type="datetime">
              <a:rPr b="0" lang="zh-CN" sz="12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01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turn Path Specified LSP 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draft-ietf-mpls-return-path-specified-lsp-ping-04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Mach Chen (mach@huawei.co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FrutigerNext LT Regular"/>
              </a:rPr>
              <a:t>Ning So (ning.so@verizonbusiness.co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Wei Cao (caowayne@huawei.co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FrutigerNext LT Regular"/>
              </a:rPr>
              <a:t>Fredric Jounay (frederic.jounay@orange-ftgroup.co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Simon Delord (simon.delord@gmail.co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turn Path Specified LSP P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71576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fy the return path of the echo reply in the echo request message,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e a new reply mode: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ly via specified return path (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a new TLV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ly Path TL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dentify the specified return pa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cho reply is extended to test the return p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carrying the FEC stack information of the return p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directions of a bidirectional LSP tested by a single LSP Ping messag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hanges from 03-&gt;0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964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draft is quite s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changes mainly on IANA consideration (see next slid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ditorial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hanges from 03-&gt;04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268280"/>
            <a:ext cx="8507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sion 0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existing sub-TLVs of Target FEC Stack TLV to Reply Path T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y Path TLV has its own “TLV and sub-TLVs” registry and sub-regi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sion 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 to apply all existing and future defined sub-TLVs of Target FEC Stack TLV to Reply Path T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e the registry and sub-registry with Target FEC Stack T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how to register the dedicated sub-TLVs to Reply Path TL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-define the “Vender Private” rang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arget FEC Stack TLV, it is still the “Vender Private” rang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for other TLVs, it is treated as a normal number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, reserve/allocate  a TLV-unique range (e.g., starting from 1024)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umber spaces split into two part:  Common to all TLVs and TLV-un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ddress the comments raised on the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ly the IANA 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bmit a new version and ask for WG last c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anks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1:33:00Z</dcterms:created>
  <dc:creator>Mach Chen</dc:creator>
  <dc:description/>
  <dc:language>en-US</dc:language>
  <cp:lastModifiedBy>Mach Chen 55527</cp:lastModifiedBy>
  <dcterms:modified xsi:type="dcterms:W3CDTF">2011-11-11T08:47:57Z</dcterms:modified>
  <cp:revision>115</cp:revision>
  <dc:subject/>
  <dc:title>LDP extensions for Explicit Pseudowire to transport LSP mapp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gGRXsflpzbN1JQfhApAkFIvFaP7tvTADeG4yWU1aLU3YcNdr+/Q5sivd9cIrjAgB3K7Wyszj
VSwZvlzmLMmHHnP59I5VHdM/ruvQ0mg6PX5O5ig30SZp31Baux6i4k+SZJjqbXwMQrkLpJQE
w5KwXWEIjvoLDalpkDAeIWNZY+YnZci9Q6Dv7WU1+7du/wcU7mN2TaMzgwFo0A88G3DEV0TL
U7Dz9fGxU714T4eTTdEjz</vt:lpwstr>
  </property>
  <property fmtid="{D5CDD505-2E9C-101B-9397-08002B2CF9AE}" pid="3" name="_ms_pID_7253431">
    <vt:lpwstr>pRrWk0Pd6CDuuPkSvMztLsw7/K1ZzeafpvZexCXxrA7otXGF4A0
a3YIV6gH7vR3IWAhlSSXdRtd6SE+eglWhmGH4uwypugs6o41ExBMiqvHMR/47//QgCUqa7HQ
ms4=</vt:lpwstr>
  </property>
  <property fmtid="{D5CDD505-2E9C-101B-9397-08002B2CF9AE}" pid="4" name="sflag">
    <vt:lpwstr>1321001243</vt:lpwstr>
  </property>
</Properties>
</file>