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031-408F-4E3B-AC66-383BD652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2CE-2121-4E39-A7DC-46B4F680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403A-40E4-4D6E-BEFC-518B2F67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FC7-8039-49D6-8A9B-DE9BD310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3A7-1327-4E9A-99C1-8F15B1F4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B11-3B67-46A4-B09A-05775BF0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0A4-BCFE-435D-9B62-3AD8D477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E09-8DD3-433F-9126-856B2C9A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ABA-F25F-423A-918D-0FC1D3BB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9C7-E124-4B86-8571-6834C0D6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A65-8A6F-41DE-977B-5BED7865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767-7E75-43EB-825D-AC39DBE2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23B9-1764-42BC-98FF-87E225CD2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2209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S-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-Hop Ethernet Addr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ft-fbb-mpls-tp-ethernet-addressing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133720" y="4267080"/>
            <a:ext cx="556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 Fr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anfrost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wart Bry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bryant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ew Boc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atthew.bocci@alcatel-luce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7620120" y="304920"/>
            <a:ext cx="137160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TF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7925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thernet Address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990720" y="2133720"/>
            <a:ext cx="7391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ndard answer to this basic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mplementations using broadcast address or relying on static MAC configuration; both ha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 differ for point-to-point vs. multipoint Ethernet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38080" y="10666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 MPLS-TP network without IP, how do you determine the Ethernet MAC address of the next h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7925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90720" y="914400"/>
            <a:ext cx="73911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raft mainly consists of text that was originally part of the MPLS-TP Data Plane Architecture (RFC 5960) and accepted by the WG, but which was taken out for scope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erved Ethernet multicast address is allocated and dedicated for MPLS-TP point-to-point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tatic addressing and broadcast address still allowed, but multicast address SHOULD be used instead and MUST be supported by default in the receiv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also defines an Ethernet data-set for the G-ACh Advertisement Protocol that enables unicast MAC discovery even withou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762120" y="1219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WG adoption to resolve this open issue and get an early multicast address allocation as MPLS-TP implementations near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990720" y="4800600"/>
            <a:ext cx="739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ietf-1"/>
          <p:cNvPicPr/>
          <p:nvPr/>
        </p:nvPicPr>
        <p:blipFill>
          <a:blip r:embed="rId1"/>
          <a:stretch/>
        </p:blipFill>
        <p:spPr>
          <a:xfrm>
            <a:off x="4038480" y="5181480"/>
            <a:ext cx="990720" cy="525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191120" y="5638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30:24Z</dcterms:created>
  <dc:creator>-</dc:creator>
  <dc:description/>
  <cp:keywords/>
  <dc:language>en-US</dc:language>
  <cp:lastModifiedBy>danfrost</cp:lastModifiedBy>
  <dcterms:modified xsi:type="dcterms:W3CDTF">2011-11-08T16:33:32Z</dcterms:modified>
  <cp:revision>25</cp:revision>
  <dc:subject/>
  <dc:title>IETF 82</dc:title>
</cp:coreProperties>
</file>