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C5E-CEDC-4D05-835E-486187F0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897-DDF9-494F-9F11-D4CEA99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15F-A558-4AAF-AD10-284E7C20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BFF-42AF-4C88-BE56-57536D94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34A-4436-435B-8EDA-2AB25C8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9F0-4156-4279-894F-4280D345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B2B-D793-4516-AC1B-0F51EF4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502-0C6B-4344-B2C5-B26DCC72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17A-4852-4AB5-98CC-67DE561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310-0FF4-4CE4-A527-3796263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0A8-BC7F-49CB-AEEE-EF427F1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D97-52AF-48CD-AA1A-0CF9B6D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A3A-3421-448A-B9B3-B9089F9B9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-Hop Ethernet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ft-fbb-mpls-tp-ethernet-addressing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3720" y="426708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anfros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wart Bry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bryan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Boc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620120" y="304920"/>
            <a:ext cx="13716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thernet Address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990720" y="2133720"/>
            <a:ext cx="7391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 answer to this basic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plementations using broadcast address or relying on static MAC configuration; both ha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 differ for point-to-point vs. multipoint Etherne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38080" y="1066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MPLS-TP network without IP, how do you determine the Ethernet MAC address of the next h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914400"/>
            <a:ext cx="73911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mainly consists of text that was originally part of the MPLS-TP Data Plane Architecture (RFC 5960) and accepted by the WG, but which was taken out for scope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erved Ethernet multicast address is allocated and dedicated for MPLS-TP point-to-poin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tatic addressing and broadcast address still allowed, but multicast address SHOULD be used instead and MUST be supported by default in the receiv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also defines an Ethernet data-set for the G-ACh Advertisement Protocol that enables unicast MAC discovery even withou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6212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WG adoption to resolve this open issue and get an early multicast address allocation as MPLS-TP implementations nea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990720" y="4800600"/>
            <a:ext cx="739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etf-1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525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191120" y="5638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30:24Z</dcterms:created>
  <dc:creator>-</dc:creator>
  <dc:description/>
  <cp:keywords/>
  <dc:language>en-US</dc:language>
  <cp:lastModifiedBy>danfrost</cp:lastModifiedBy>
  <dcterms:modified xsi:type="dcterms:W3CDTF">2011-11-08T16:33:32Z</dcterms:modified>
  <cp:revision>25</cp:revision>
  <dc:subject/>
  <dc:title>IETF 82</dc:title>
</cp:coreProperties>
</file>