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DDC1-D19E-42C0-84F1-2F50FFA1210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EB05-A0FA-44DC-B2D9-999290EC632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C194-9744-4EA9-AD83-62BE03CADAD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A1AC-B142-4320-9E9E-BB34DCD5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5CC7-9F60-4388-997E-8EAACB20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23343-C72E-4B76-8E71-599323F4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FF171-9B03-4730-B942-415ED068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BBC67-A18F-4BB1-A9EC-B079AE6A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24E59-B1FB-4FED-89FA-58DFBD5A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4E6CB-34E1-4331-896E-5846924E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82AEF-C2E8-4172-9F8A-BD4A7499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27D4B-39A4-49D1-9496-98035CFE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8705D-73BA-42A9-972A-A9830E02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BD413-962C-4D5D-93A7-814A0BB5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4A620-ED98-48AE-9C9E-B7207E65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77B-A2BF-4AB8-97EC-ABA8B42A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48245-CB3A-45E0-86D7-9AE574DB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DE447-BB08-4329-99E9-5A44E032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E66F0-A329-48D8-85C7-DD24D30C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558B4-5AE7-466D-86BE-DE015455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BC4A4-80F4-4030-820B-826C186E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1722E-EA79-4470-8781-5B378A50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3ABCD-EBED-4D0F-951C-97E8D782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066EB-C752-4AE1-8E28-F3008743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2AAF5-EB8F-44FA-A27D-91A40E25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1ECB4-2B43-472C-8064-EE1F37E7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FA1-BFFF-478C-8913-301233FC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C93D9-EA48-46CF-9B7A-A8CB4EBA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9AF05-37A8-4DA7-AC70-DFC6412F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39306-51B4-437E-A12A-3B34FE80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862D9-B7F4-41AD-A23A-0C44599D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DC984-CE82-436B-B90E-523F3B52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55A15-9D3C-4887-A814-4655C8B7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D1461-45F0-431C-80EE-587DFA80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74513-30C6-4D89-8EB2-0CB590AA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ACA65-5F2B-4456-A9A3-69BDBFBB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28FBC-31B7-4580-B7C2-73218D48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8E3C-B5BF-4409-B4B9-EE8C2BDA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CAA08-D983-449B-BF47-496B08D1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8DBDE-A7ED-4441-86FE-454AC1A7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52FAE-E0F2-4FF6-8BF5-31136F9C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E8665-731C-4E21-9351-F1C877A0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C576C-E642-45F9-A7DC-452599AA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E8FFE-52C1-496F-A118-47FCD5D7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6ED41-1773-46E5-B26F-FF47F074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337E6-27E7-4F77-8E3B-4FFE3F2F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5A967-ABC1-4341-94B7-C6B43505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9B431-1EDD-4843-BA26-8D40A227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5F51-22E0-44A4-982A-3224A699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E7764-E5CF-41CA-818E-993B05CA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B3370-538F-4947-ADD3-446808BB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08103-0C11-4033-A0DA-E2D77AD7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0F2D3-2E19-4636-A530-05A213C7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C869B-C47F-4ECF-81BC-1D312F48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01C3-1986-48C4-B8D3-4F06202D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AE53-C876-4725-91AC-062CCEA4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8FC6-5028-4DD6-9380-8A32C2E6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ACF8-C719-472D-97E4-53132E48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71FA-43E9-44BF-8510-3E7613DE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A3D-AF5F-4FB0-A42A-412FCCEB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B23C-3484-42B0-AACB-97ADDD15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889D-5549-45EA-94DB-038FCEF1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CD6B-FE82-418D-ACD1-F4FC215D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F39D-1D63-46FA-BAB7-F4B4AC49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1917-0371-43DA-AE04-FFC75072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903E0-633C-43E2-A5B4-95CD8BE4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2DBC2-AA46-43AD-A17A-1375D378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F4D9B-689D-4631-87F8-E39FD264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022E0-6C1D-4DC6-8C13-669E42E2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03BBF-7BE0-4DF7-A3D7-E1F86AA0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E3B-4E6C-4222-B292-FC0EECBA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F501B-DD8B-43D3-8150-D836D293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5C328-9665-4CD3-ADFD-749DDCE2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6BE1A-0E74-4A1A-AE52-FBE4B48A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3B21D-D738-4B7D-9CB4-118E7452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4EA61-6DCC-4315-A69E-132AD15A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D13F5-6AB3-4D38-8BB7-3C5EAD53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CD519-EC47-43B4-9578-9BA201E6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A7622-74BC-49AD-B130-212F5EDD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655A6-6F8C-4F30-9496-5D2662F6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876E4-4CA6-4461-8256-3EA40ED9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A8C-4A76-4F41-8552-50BA9D0B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8B6D6-6B47-46FB-8DCB-BB481627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CD067-549D-473B-9B67-2F9FCCCD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A7477-42B8-4333-AF6E-A265272C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597F2-E038-4E14-8D65-758CC2A6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6584C-33CD-42AC-A6DD-62F3CF60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D499E-F3F8-4D44-ACB2-334C6019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85B34-2546-4E8D-BAE9-E8943150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3169C-7B9D-4039-8B52-CF21E3DE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A7DE6-BF4D-48C0-AFA1-83F24881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60D69-4C30-4247-8DF2-3B6739A7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A8A0-1F53-4960-AB33-2CC400EC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F1944-E075-48FE-98A7-F07F2EB8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87509-2F5C-420D-BDA4-07935F27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0A7F2-85C0-45FA-8670-3E8F5A68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3C2C1-BE48-400E-93EE-49CA564C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0F1EB-E124-4401-B99E-73147BDC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C1AFF-9680-48EB-BF09-8A5CC397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6447D-F40E-4B52-83EE-536DCC3A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5CF41-315A-450B-8508-E5D5D10E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6F20C-8BB2-4EA7-A24D-33D07B96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B350E-13FE-4C7A-A00F-32FB2269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890-F0F3-4BB6-B63A-775971BD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0820E-87C5-4C12-BE2B-B1AFA505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1B5BF-C707-4BD8-8570-46FE7186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48EFC-BAF8-4C46-91DD-19458A38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8A996-67FF-4BA8-8D09-BC7940D8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1A269-84A9-490C-8113-FF79407D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2330A-45E0-4E39-B22B-36C7EBA4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6866A-842E-4E5D-AEDD-77CFD68D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3340B-0051-4BC1-9315-2BC1F795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29452-1617-482C-919E-A8566B8B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A320A-75E0-4D71-B748-FA0912D9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F94-1E19-4C3D-B320-3D1CAE57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A55F9-7425-4175-8BFB-F0C2A28F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E7185-5679-40B2-8A05-47D22BC2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75611-DC0A-46AC-AF46-7A9186EB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8C806-F128-4302-99CF-6B7908AA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BCC87-42D8-4E4D-BE97-58AA99BE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3266B-A018-49C8-9130-FCE1FF04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B9FB0-614C-411C-A462-CA82430D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8AA5E-4487-4A32-B7D0-947B1E03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23661-A5C9-4074-8203-59FB28A4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3596C-4AF0-461F-AAAA-83CE4F61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D7D-D39B-4D32-99CC-60A7281D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B7602-4566-4F38-9B52-B20962C2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7A38E-1DB8-4CD6-B73D-CABE9897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3277B-FE34-4664-94C8-78DB8AC1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1EC77-5858-4520-B3EE-71E90E9D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D05C3-353E-4CE0-A0CC-D02A8892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79B1A-1013-47DB-BBCA-07D07E8E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26977-577C-494A-8455-4601E964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29CB4-B7DF-445A-9107-40775B93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3EEB1-9BA0-4D15-9562-036AA9DC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0A84E-A798-4CB3-A039-E21DF089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E36-F900-40BC-9340-38782676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B298F-807A-4FAB-85DE-6C313E7E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8D735-3B56-496E-8796-3CCAA551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B5693-2E57-479B-A92A-17E153B3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1FB50-B6DF-4243-9050-842A3FD4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5FCC9-547F-4911-BBC2-F8008CA4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427E8-3690-467E-91F3-434F5810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5B7B2-3151-404F-B123-3BC18D37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72F8B-F281-40E6-B569-59DF832F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977AB-52F1-4B8C-A0E5-0A8A823E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D82BB-4EBF-42A4-B4D4-C938A1FE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1DA2-E7BC-49F0-9887-7F3ED021A4C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EAE9-6BB2-4DDE-AD73-3C591A57D6E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B971-E0C4-47CD-8175-250EBBBACCB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14BA-B781-4392-A08C-920E438AFE1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1E69-400E-4A60-8254-E24ABA6F230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2902-994F-4867-B8E6-606AF51F997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C5D3-DA22-4241-A5BC-24DBE4689C8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7752-A6E6-4372-8C69-9CA7476F83C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39C3-FABE-4AE5-8AB4-A6A58745413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4A7F-231F-4046-B013-2C45EC6E125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C4EB-7AFF-4494-A036-44C473B3D82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7836-1CFF-4653-B3D1-54270484644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2280" y="1142640"/>
            <a:ext cx="88394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LSP Ping extensions for echo reply relay 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draft-zj-mpls-lsp-ping-reply-relay-00</a:t>
            </a:r>
            <a:br>
              <a:rPr sz="20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2133360" y="4723920"/>
            <a:ext cx="4800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Ryan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Zhe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Lizhong J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2 -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宋体"/>
              </a:rPr>
              <a:t>Taip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70BB-BF25-484F-9B32-31FBDB8D3BA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1143000"/>
            <a:ext cx="5257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nter-area scenario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Seamless MP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12840" y="4572000"/>
            <a:ext cx="85071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P nodes would be unable to respond for the lack of IP reachable route to 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raft-ietf-mpls-interas-lspping addresses similar problem, but only for inter-AS scena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Better to  have a generic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Object 2"/>
          <p:cNvGraphicFramePr/>
          <p:nvPr/>
        </p:nvGraphicFramePr>
        <p:xfrm>
          <a:off x="276120" y="1882800"/>
          <a:ext cx="86169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882800"/>
                    <a:ext cx="86169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任意多边形 8"/>
          <p:cNvSpPr/>
          <p:nvPr/>
        </p:nvSpPr>
        <p:spPr>
          <a:xfrm>
            <a:off x="1046160" y="2120760"/>
            <a:ext cx="7250040" cy="1387440"/>
          </a:xfrm>
          <a:custGeom>
            <a:avLst/>
            <a:gdLst/>
            <a:ahLst/>
            <a:rect l="l" t="t" r="r" b="b"/>
            <a:pathLst>
              <a:path w="7248939" h="1387061">
                <a:moveTo>
                  <a:pt x="0" y="625061"/>
                </a:moveTo>
                <a:cubicBezTo>
                  <a:pt x="181113" y="435113"/>
                  <a:pt x="362226" y="245166"/>
                  <a:pt x="596348" y="147983"/>
                </a:cubicBezTo>
                <a:cubicBezTo>
                  <a:pt x="830470" y="50800"/>
                  <a:pt x="1044713" y="59635"/>
                  <a:pt x="1404730" y="41965"/>
                </a:cubicBezTo>
                <a:cubicBezTo>
                  <a:pt x="1764747" y="24295"/>
                  <a:pt x="2433982" y="0"/>
                  <a:pt x="2756452" y="41965"/>
                </a:cubicBezTo>
                <a:cubicBezTo>
                  <a:pt x="3078922" y="83930"/>
                  <a:pt x="3072296" y="110435"/>
                  <a:pt x="3339548" y="293757"/>
                </a:cubicBezTo>
                <a:cubicBezTo>
                  <a:pt x="3606800" y="477079"/>
                  <a:pt x="4119217" y="965200"/>
                  <a:pt x="4359965" y="1141896"/>
                </a:cubicBezTo>
                <a:cubicBezTo>
                  <a:pt x="4600713" y="1318592"/>
                  <a:pt x="4448313" y="1320801"/>
                  <a:pt x="4784035" y="1353931"/>
                </a:cubicBezTo>
                <a:cubicBezTo>
                  <a:pt x="5119757" y="1387061"/>
                  <a:pt x="6025321" y="1364974"/>
                  <a:pt x="6374295" y="1340678"/>
                </a:cubicBezTo>
                <a:cubicBezTo>
                  <a:pt x="6723269" y="1316382"/>
                  <a:pt x="6732104" y="1276626"/>
                  <a:pt x="6877878" y="1208157"/>
                </a:cubicBezTo>
                <a:cubicBezTo>
                  <a:pt x="7023652" y="1139688"/>
                  <a:pt x="7136295" y="1034774"/>
                  <a:pt x="7248939" y="929861"/>
                </a:cubicBezTo>
              </a:path>
            </a:pathLst>
          </a:custGeom>
          <a:noFill/>
          <a:ln w="7632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9"/>
          <p:cNvSpPr/>
          <p:nvPr/>
        </p:nvSpPr>
        <p:spPr>
          <a:xfrm>
            <a:off x="993600" y="1844640"/>
            <a:ext cx="3791160" cy="770040"/>
          </a:xfrm>
          <a:custGeom>
            <a:avLst/>
            <a:gdLst/>
            <a:ahLst/>
            <a:rect l="l" t="t" r="r" b="b"/>
            <a:pathLst>
              <a:path w="3790122" h="768625">
                <a:moveTo>
                  <a:pt x="0" y="768625"/>
                </a:moveTo>
                <a:cubicBezTo>
                  <a:pt x="200991" y="528981"/>
                  <a:pt x="401982" y="289338"/>
                  <a:pt x="636104" y="172277"/>
                </a:cubicBezTo>
                <a:cubicBezTo>
                  <a:pt x="870226" y="55216"/>
                  <a:pt x="1404730" y="66260"/>
                  <a:pt x="1404730" y="66260"/>
                </a:cubicBezTo>
                <a:cubicBezTo>
                  <a:pt x="1811130" y="55217"/>
                  <a:pt x="2676939" y="0"/>
                  <a:pt x="3074504" y="106017"/>
                </a:cubicBezTo>
                <a:cubicBezTo>
                  <a:pt x="3472069" y="212034"/>
                  <a:pt x="3631095" y="457199"/>
                  <a:pt x="3790122" y="70236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任意多边形 10"/>
          <p:cNvSpPr/>
          <p:nvPr/>
        </p:nvSpPr>
        <p:spPr>
          <a:xfrm>
            <a:off x="4398840" y="1925640"/>
            <a:ext cx="517680" cy="515880"/>
          </a:xfrm>
          <a:custGeom>
            <a:avLst/>
            <a:gdLst/>
            <a:ahLst/>
            <a:rect l="l" t="t" r="r" b="b"/>
            <a:pathLst>
              <a:path w="516835" h="516835">
                <a:moveTo>
                  <a:pt x="516835" y="516835"/>
                </a:moveTo>
                <a:cubicBezTo>
                  <a:pt x="414130" y="374374"/>
                  <a:pt x="311426" y="231913"/>
                  <a:pt x="225287" y="145774"/>
                </a:cubicBezTo>
                <a:cubicBezTo>
                  <a:pt x="139148" y="59635"/>
                  <a:pt x="69574" y="29817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4"/>
          <p:cNvSpPr/>
          <p:nvPr/>
        </p:nvSpPr>
        <p:spPr>
          <a:xfrm>
            <a:off x="4419720" y="19810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5"/>
          <p:cNvSpPr/>
          <p:nvPr/>
        </p:nvSpPr>
        <p:spPr>
          <a:xfrm>
            <a:off x="7772400" y="3276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宋体"/>
              </a:rPr>
              <a:t>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6"/>
          <p:cNvSpPr/>
          <p:nvPr/>
        </p:nvSpPr>
        <p:spPr>
          <a:xfrm>
            <a:off x="2514600" y="1676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Echo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10F6-101A-4159-9D62-ED92A24FD12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2 -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宋体"/>
              </a:rPr>
              <a:t>Taip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250920" y="1523880"/>
            <a:ext cx="85071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Extends a new Routable Relay Node Address TLV for the LSP Ping mech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he replying LSR would send the echo reply to a routable node indicated by the new TL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he echo reply would be relayed to the initiator fin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47D0-4CE2-4F5E-928C-5100F1BFF7D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outable Relay Node Address TL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2 -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宋体"/>
              </a:rPr>
              <a:t>Taip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50920" y="1523880"/>
            <a:ext cx="85071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589880" cy="275256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3"/>
          <p:cNvSpPr/>
          <p:nvPr/>
        </p:nvSpPr>
        <p:spPr>
          <a:xfrm>
            <a:off x="403200" y="4800600"/>
            <a:ext cx="8507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Carried in echo request and echo reply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灯片编号占位符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3BDF-7BB2-4722-B418-BD5887F6DBA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228600" y="563868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This is an example to show the address list in each reply mess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The echo reply sent by P would be relayed by ABR1, then to AN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Object 9"/>
          <p:cNvGraphicFramePr/>
          <p:nvPr/>
        </p:nvGraphicFramePr>
        <p:xfrm>
          <a:off x="76320" y="1219320"/>
          <a:ext cx="88185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19320"/>
                    <a:ext cx="8818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0C52-C291-4DD9-8D4F-B27F525D4C5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250920" y="1523880"/>
            <a:ext cx="850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pdated to version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resses the UDP port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5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5908680" cy="4267440"/>
          </a:xfrm>
          <a:prstGeom prst="rect">
            <a:avLst/>
          </a:prstGeom>
          <a:ln w="0">
            <a:noFill/>
          </a:ln>
        </p:spPr>
      </p:pic>
      <p:sp>
        <p:nvSpPr>
          <p:cNvPr id="533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F3FE-A38C-4D48-B6EA-2A9BE85D582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2 -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宋体"/>
              </a:rPr>
              <a:t>Taip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250920" y="1523880"/>
            <a:ext cx="85071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pdated to version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s the Security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rged with draft-ietf-mpls-interas-lspp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eeking feedback from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47DA-37FF-43DC-A039-8CF4EBF266F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Ryan Zheng</dc:creator>
  <dc:description/>
  <dc:language>en-US</dc:language>
  <cp:lastModifiedBy>Pre-research</cp:lastModifiedBy>
  <dcterms:modified xsi:type="dcterms:W3CDTF">2011-11-13T06:21:17Z</dcterms:modified>
  <cp:revision>379</cp:revision>
  <dc:subject/>
  <dc:title>draft-zj-mpls-lsp-ping-reply-relay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9119092</vt:lpwstr>
  </property>
</Properties>
</file>