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2BE9-83D6-425E-B3B9-A374F8064B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A5E2-1F5A-471B-943C-EEB68C13B2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C5F0-A040-425D-8D0D-410C154FA3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ED6-702A-4149-9E8F-4842843D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92E-771D-4D90-B74F-ED629105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DA3CE-C72D-4FAE-8C91-315A043C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6392C-B676-4CD6-9FBC-FCF5C640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61063-C05C-4BA3-A513-8DF47B15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99B8C-E01F-42CE-AFDA-4BE119D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96180-2ECF-4D91-A2AD-BF3C15F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6A3F8-F4FA-4613-A8DD-09E0287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85DE3-9095-440C-83E8-167F63AE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97406-938B-4278-AEC6-D92BDA12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03512-E227-40B0-B155-062109BB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ADA4F-7891-439C-B3E7-4EF56ED7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065-5187-49BE-86F5-3ED2A868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06E82-AAA8-4E43-AD98-E882DFC2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9C88B-BE26-4895-9E4A-AE356555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CA9C2-560F-467C-BC0A-A2A3477B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33F0E-6361-49A1-ACF6-D4512902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E4F87-D9E5-4F80-9C4A-83BAC351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793A4-0654-47CC-961E-2457E9A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778ED-3465-4549-87E4-267DDAD3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0E5AA-AA9F-4488-A91E-9033D0E6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D905F-97D1-47C2-94DB-03957639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57E93-E3ED-4826-AFCC-C28E88CE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E05-D4AB-4E20-BF81-09F8FB8B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5DC32-748D-4E8F-B10C-8F093AAF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4FE12-22D5-4FC3-93E4-27A5737E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E916C-DC9B-4E6F-9101-0836CF9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643F8-C80D-4935-8EC7-D736923B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BD99B-55F5-4563-B193-656C05BA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C98F2-BFDB-4D30-ABF3-2593ED31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76C61-903B-472E-912A-BA299189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97F4C-30A8-4056-8CCD-BFB2C5D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ED3F1-49AB-4956-BD14-9AF32FDC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E1603-0131-4ECB-A073-9D8EB9D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C5A4-1F69-4811-966D-55C02F93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D5215-942B-4171-889C-83CEECA0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8D62D-160D-494F-BDA6-BF272817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E67B7-BF00-44BC-85C2-51D6FE9D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90421-5A89-469B-9399-C026AE72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763F8-925D-4DD3-8650-F850AE3A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26C02-DD62-4776-B53C-59BADEE6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9A5E8-8446-4CB1-BB7D-998CA80B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7C966-DE6A-46A0-948A-EB14270A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5C47C-3DCC-40CA-8304-B0346B33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2051B-E8FA-4D0C-B16E-DF86311F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196-A2BD-4CE0-90C9-810C3C1A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44A59-C3A6-487E-92AD-CC530CD7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CFC73-3FD2-4113-968E-8300E16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5B0AD-B289-4363-8EAE-0F325F3E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5D7C4-942C-4DF1-A9DF-79454DC0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312DB-63BB-46E8-8F9F-88E93118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E58A-67A1-4417-8C08-EF8376D7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5875-5488-49CC-A8AD-0D6CD518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C156-65FC-4724-9FD8-1F24E34F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3F0C-75D3-45AD-989B-F3234037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B651-18F6-416D-8D48-FF773C87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DB7-7C50-4806-8B5C-A201B639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5714-CBE0-481C-A04F-4366CCFB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48B0-D09D-4C39-A6E4-52E09793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725D-227A-461B-8A32-EC32C82D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77D8-7117-4C39-AAB7-C1C17AA1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74A1-CE14-4663-B8C7-F6C67C57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860C-A69B-4296-A290-569B457A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A6D8-BEE7-4B69-BA43-CE97C4D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946D-B00D-433A-89EF-F31800B0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6D8E-3FBB-4F15-8690-31E1F935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1AE1-642A-43B7-91AB-5692C0AE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432-E053-459E-AEDC-91D6AAAB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34E8-3D51-4B7D-8854-0C4BE460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A21E-BC32-42FB-AFF5-A20EBF3B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2CE3-8D62-4FA2-B147-B8E16B2E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1C164-E725-46DF-B6AF-99BCB620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9064-37F5-484B-B37F-93A4A66D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7B97-DBD9-4ED9-80DA-A32D3A5E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03C6-2C81-4A10-A7AD-A1CBB807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D1530-F0F9-486B-B1AA-D179D478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5AAD3-EF8A-4BBE-8D21-949E99EF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254A8-2411-4218-B1D6-E898DB29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16B-9F62-45A4-9D03-DF20D1C8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4FC2-7CFC-4621-B171-5FA07D07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51CAA-CBDB-4D6B-AAD8-37706B09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B70A-BDD3-461B-88CE-54334E82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DE4D8-2A6D-4A9E-95BE-C8D9CA9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EA64-5772-4AFA-A53F-94D83F3E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CCAAD-6CCD-4B4D-9448-B58C162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894A0-F476-4676-A5EF-1607A029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0F5B8-F6DB-40A2-A119-757FBDE2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B01EA-19D3-4A49-B183-D63C6049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1D3C-AE3C-42E1-AE04-FA023F8D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C5F-CE54-4403-8EB9-CCA74343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F4692-25B3-4E55-85D8-97C6A2EB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72F3C-1171-412B-9590-9DD64521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136DE-28E4-40A3-BD44-0B4EB8BE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80C3A-C8B9-49C1-822E-D15F4F69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814AD-9A65-4208-9399-B404F8F9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F3AC-8A4C-49FB-9088-E6D90C8D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4C333-758E-4DE0-AAE3-9194A25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F796F-6FD5-4B1F-9E18-0CC5799A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2C856-7789-468A-ADF6-A51164A9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80F3-B930-4DC4-8DE7-214B13DF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60C-0957-4A8F-AC71-064C65A8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91740-49F2-4DB5-864A-2A19C649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534CE-9DAC-4295-AD79-12FDB0D7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DC26-9D2A-405A-AD64-DE10DA52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F6C66-2DF2-45DE-A3A8-5035AAC5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B0AC5-C81F-4DA2-9B6F-7ABBCF66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FC9D0-C6C0-4EE6-9F95-6AF9D7F2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1FFA2-F406-443C-A612-9A606526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07DD5-7D54-453E-85E6-BFD0667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C8CDA-3315-47DB-B44F-C898760A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7CE66-2350-4A47-95A3-CA0805F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B4E-00E1-4E9C-B96D-79CB4DFB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E0EAA-064A-4A1C-9279-3A4EC842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6ECE5-165A-44F9-843E-86CABD10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EF264-2D4C-42C4-972C-0F30EE53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3D360-0F96-475A-BE3C-DBD2D5F4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B7EE2-8461-4173-827E-C3B48D9A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5C177-634F-45BC-94E3-E492542B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0BA13-C676-4807-98E5-369F4572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7367E-325E-4EB1-B98D-CBA639D4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E4722-4B73-464A-A725-573BCDA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C6BDC-FB0E-44DB-8D8D-C9C11C31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D74-9F96-4036-9558-E1B0D0B4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E30B7-B2A7-4908-AA4C-BC95CEFD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C4676-DC54-474A-83A3-D061208B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CF50E-316A-409E-AB68-037DF18C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20D1A-5FBE-4547-B266-050E5AAF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2F70A-79D5-4120-83FB-33D44393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3348C-B106-494D-A3B1-A3991D8A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43E23-88A1-442D-99BA-E129005F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F2B3A-0859-469F-A327-2BD4F5E9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7B87E-951D-4740-A24F-9892548C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84E27-FD2F-4113-B5C3-54DEDE1F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13B-1209-4D13-B412-FF24668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B121E-1F8C-40DC-92E8-02CEF293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1568E-B98E-4FD8-A3DD-E0045F52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AD614-2DBA-4ACA-8117-FF7CBAC1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2D825-9816-4DE2-A587-35D4131E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649D2-5D60-472E-BEF4-68AE202E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5C07A-67C2-4F53-BAAE-65E4E95C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4481C-D4CA-4B30-A171-2A6B3E79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13CB1-7C5B-4B5D-9D99-F384A196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D555E-532A-4102-8DB4-EBDA687C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D78E5-5EB6-4E93-A07E-CB75730F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C59A-1E59-4F70-BDE8-09A27076E32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4A48-D577-4DE8-BE0E-6C90637C76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133A-8BEE-40F6-A79D-2875956CE0D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E89F-ACCE-4733-A46C-1AB9CD59CD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0EE8-FC2F-42B5-9385-C44863565F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6DF7-4A12-4DDC-AE3C-77A5D256988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11C4-8E08-417F-8548-820EE70D6C0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0A7D-BB51-42D0-BF13-D2B5521D3A2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A0C3-86C7-4CE8-8A07-24E1EC2D78F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1495-3719-492C-A0E7-7E385F56C8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A519-1F90-4F03-B17C-9E213E1B2E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DF59-4B85-44AD-AB9D-81D3CC3A479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839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LSP Ping extensions for echo reply relay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draft-zj-mpls-lsp-ping-reply-relay-00</a:t>
            </a:r>
            <a:br>
              <a:rPr sz="20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2133360" y="4723920"/>
            <a:ext cx="4800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Ryan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Zhe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Lizhong J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2 -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710F-B525-49F0-9D2C-D5DCDF3534C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1143000"/>
            <a:ext cx="525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nter-area scenario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eamless MP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12840" y="4572000"/>
            <a:ext cx="8507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 nodes would be unable to respond for the lack of IP reachable route to 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raft-ietf-mpls-interas-lspping addresses similar problem, but only for inter-AS scen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Better to  have a generic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Object 2"/>
          <p:cNvGraphicFramePr/>
          <p:nvPr/>
        </p:nvGraphicFramePr>
        <p:xfrm>
          <a:off x="276120" y="1882800"/>
          <a:ext cx="86169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882800"/>
                    <a:ext cx="86169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任意多边形 8"/>
          <p:cNvSpPr/>
          <p:nvPr/>
        </p:nvSpPr>
        <p:spPr>
          <a:xfrm>
            <a:off x="1046160" y="2120760"/>
            <a:ext cx="7250040" cy="1387440"/>
          </a:xfrm>
          <a:custGeom>
            <a:avLst/>
            <a:gdLst/>
            <a:ahLst/>
            <a:rect l="l" t="t" r="r" b="b"/>
            <a:pathLst>
              <a:path w="7248939" h="1387061">
                <a:moveTo>
                  <a:pt x="0" y="625061"/>
                </a:moveTo>
                <a:cubicBezTo>
                  <a:pt x="181113" y="435113"/>
                  <a:pt x="362226" y="245166"/>
                  <a:pt x="596348" y="147983"/>
                </a:cubicBezTo>
                <a:cubicBezTo>
                  <a:pt x="830470" y="50800"/>
                  <a:pt x="1044713" y="59635"/>
                  <a:pt x="1404730" y="41965"/>
                </a:cubicBezTo>
                <a:cubicBezTo>
                  <a:pt x="1764747" y="24295"/>
                  <a:pt x="2433982" y="0"/>
                  <a:pt x="2756452" y="41965"/>
                </a:cubicBezTo>
                <a:cubicBezTo>
                  <a:pt x="3078922" y="83930"/>
                  <a:pt x="3072296" y="110435"/>
                  <a:pt x="3339548" y="293757"/>
                </a:cubicBezTo>
                <a:cubicBezTo>
                  <a:pt x="3606800" y="477079"/>
                  <a:pt x="4119217" y="965200"/>
                  <a:pt x="4359965" y="1141896"/>
                </a:cubicBezTo>
                <a:cubicBezTo>
                  <a:pt x="4600713" y="1318592"/>
                  <a:pt x="4448313" y="1320801"/>
                  <a:pt x="4784035" y="1353931"/>
                </a:cubicBezTo>
                <a:cubicBezTo>
                  <a:pt x="5119757" y="1387061"/>
                  <a:pt x="6025321" y="1364974"/>
                  <a:pt x="6374295" y="1340678"/>
                </a:cubicBezTo>
                <a:cubicBezTo>
                  <a:pt x="6723269" y="1316382"/>
                  <a:pt x="6732104" y="1276626"/>
                  <a:pt x="6877878" y="1208157"/>
                </a:cubicBezTo>
                <a:cubicBezTo>
                  <a:pt x="7023652" y="1139688"/>
                  <a:pt x="7136295" y="1034774"/>
                  <a:pt x="7248939" y="929861"/>
                </a:cubicBezTo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9"/>
          <p:cNvSpPr/>
          <p:nvPr/>
        </p:nvSpPr>
        <p:spPr>
          <a:xfrm>
            <a:off x="993600" y="1844640"/>
            <a:ext cx="3791160" cy="770040"/>
          </a:xfrm>
          <a:custGeom>
            <a:avLst/>
            <a:gdLst/>
            <a:ahLst/>
            <a:rect l="l" t="t" r="r" b="b"/>
            <a:pathLst>
              <a:path w="3790122" h="768625">
                <a:moveTo>
                  <a:pt x="0" y="768625"/>
                </a:moveTo>
                <a:cubicBezTo>
                  <a:pt x="200991" y="528981"/>
                  <a:pt x="401982" y="289338"/>
                  <a:pt x="636104" y="172277"/>
                </a:cubicBezTo>
                <a:cubicBezTo>
                  <a:pt x="870226" y="55216"/>
                  <a:pt x="1404730" y="66260"/>
                  <a:pt x="1404730" y="66260"/>
                </a:cubicBezTo>
                <a:cubicBezTo>
                  <a:pt x="1811130" y="55217"/>
                  <a:pt x="2676939" y="0"/>
                  <a:pt x="3074504" y="106017"/>
                </a:cubicBezTo>
                <a:cubicBezTo>
                  <a:pt x="3472069" y="212034"/>
                  <a:pt x="3631095" y="457199"/>
                  <a:pt x="3790122" y="70236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4398840" y="1925640"/>
            <a:ext cx="517680" cy="515880"/>
          </a:xfrm>
          <a:custGeom>
            <a:avLst/>
            <a:gdLst/>
            <a:ahLst/>
            <a:rect l="l" t="t" r="r" b="b"/>
            <a:pathLst>
              <a:path w="516835" h="516835">
                <a:moveTo>
                  <a:pt x="516835" y="516835"/>
                </a:moveTo>
                <a:cubicBezTo>
                  <a:pt x="414130" y="374374"/>
                  <a:pt x="311426" y="231913"/>
                  <a:pt x="225287" y="145774"/>
                </a:cubicBezTo>
                <a:cubicBezTo>
                  <a:pt x="139148" y="59635"/>
                  <a:pt x="69574" y="2981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4"/>
          <p:cNvSpPr/>
          <p:nvPr/>
        </p:nvSpPr>
        <p:spPr>
          <a:xfrm>
            <a:off x="4419720" y="19810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5"/>
          <p:cNvSpPr/>
          <p:nvPr/>
        </p:nvSpPr>
        <p:spPr>
          <a:xfrm>
            <a:off x="7772400" y="3276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宋体"/>
              </a:rPr>
              <a:t>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2514600" y="1676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Echo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D221-BE59-499C-B25F-25B1543159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2 -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250920" y="1523880"/>
            <a:ext cx="8507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Extends a new Routable Relay Node Address TLV for the LSP Ping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replying LSR would send the echo reply to a routable node indicated by the new TL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he echo reply would be relayed to the initiator fi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0FEA-F66A-40D1-9867-653C6E7174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outable Relay Node Address TL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2 -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50920" y="1523880"/>
            <a:ext cx="8507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589880" cy="27525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403200" y="4800600"/>
            <a:ext cx="8507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arried in echo request and echo reply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灯片编号占位符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5F6A-5341-41A8-9F8E-9FF35DA1095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28600" y="56386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This is an example to show the address list in each reply mess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The echo reply sent by P would be relayed by ABR1, then to AN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9"/>
          <p:cNvGraphicFramePr/>
          <p:nvPr/>
        </p:nvGraphicFramePr>
        <p:xfrm>
          <a:off x="76320" y="1219320"/>
          <a:ext cx="8818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8818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89FB-093F-4BE4-AED7-273FDC7749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250920" y="1523880"/>
            <a:ext cx="850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pdated to version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resses the UDP port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5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5908680" cy="4267440"/>
          </a:xfrm>
          <a:prstGeom prst="rect">
            <a:avLst/>
          </a:prstGeom>
          <a:ln w="0">
            <a:noFill/>
          </a:ln>
        </p:spPr>
      </p:pic>
      <p:sp>
        <p:nvSpPr>
          <p:cNvPr id="53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6000-F543-4A68-999A-FA8D8021064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2 -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宋体"/>
              </a:rPr>
              <a:t>Tai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250920" y="1523880"/>
            <a:ext cx="8507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pdated to version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s the Security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rged with draft-ietf-mpls-interas-lspp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eking feedback from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5D1F-E946-4673-9BC9-A13A11AD5A1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Ryan Zheng</dc:creator>
  <dc:description/>
  <dc:language>en-US</dc:language>
  <cp:lastModifiedBy>Pre-research</cp:lastModifiedBy>
  <dcterms:modified xsi:type="dcterms:W3CDTF">2011-11-13T06:21:17Z</dcterms:modified>
  <cp:revision>379</cp:revision>
  <dc:subject/>
  <dc:title>draft-zj-mpls-lsp-ping-reply-relay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9119092</vt:lpwstr>
  </property>
</Properties>
</file>