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50BC-7BB9-423F-8976-3EC1FC18C56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70FE-CE18-4CAB-8C32-A725FEA1ED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D20C-EDBC-4514-8249-431F1FF9F9B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CEEE-1EE5-4AC0-A3DD-A472B28FB1A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2F44-B40D-4840-AD40-7296EA4A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F9D6-9E46-4FD5-9D76-25E9595F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C86D-7AE7-4B90-9529-54329DFD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48BB-9314-4A40-855E-20F40612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26DE-3E50-4DF9-B11E-5EA13DB4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D3B5-1F33-4429-8D5C-6BE38732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7897-30ED-4541-9AFC-415AE00A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CF5A-7091-4534-B50E-9DED7EE2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5EED-5E82-4B4E-9EDF-A758EE02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564F-42F8-4DAA-8AB9-F9C21DC4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818B-C6F3-4C0E-A433-39DEC81C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7ED5-C931-4051-BEA3-64197415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EF8F-8BEB-44B4-A013-82B65FD591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2" name="Rectangle 22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2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5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6" name="Rectangle 80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1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48" name="Rectangle 82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83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4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85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86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53" name="Rectangle 87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88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9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0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58" name="Rectangle 92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93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4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95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96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63" name="Rectangle 97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98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99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00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01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68" name="Rectangle 102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03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04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05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06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73" name="Rectangle 107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08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09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10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11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78" name="Rectangle 112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13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14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15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16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83" name="Rectangle 117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18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19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20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21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88" name="Rectangle 122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23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24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25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126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93" name="Rectangle 127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28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29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30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31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98" name="Rectangle 132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33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34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35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36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103" name="Rectangle 137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38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39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40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41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108" name="Rectangle 142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43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44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45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147"/>
          <p:cNvSpPr/>
          <p:nvPr/>
        </p:nvSpPr>
        <p:spPr>
          <a:xfrm>
            <a:off x="765972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Page </a:t>
            </a:r>
            <a:fld id="{1E3E9B48-32C6-41FD-B1BE-9455740548F7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8"/>
          <p:cNvSpPr/>
          <p:nvPr/>
        </p:nvSpPr>
        <p:spPr>
          <a:xfrm>
            <a:off x="547200" y="6454800"/>
            <a:ext cx="522864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IETF77  MPLS WG   Anahe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2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6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7"/>
          <p:cNvSpPr/>
          <p:nvPr/>
        </p:nvSpPr>
        <p:spPr>
          <a:xfrm>
            <a:off x="765972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Page </a:t>
            </a:r>
            <a:fld id="{07F21F0D-14A4-4479-AB6C-7D69B44AE670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8"/>
          <p:cNvSpPr/>
          <p:nvPr/>
        </p:nvSpPr>
        <p:spPr>
          <a:xfrm>
            <a:off x="522720" y="6454800"/>
            <a:ext cx="53874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IETF78  PWE3 WG   Maastri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bel Switched Path (LSP) Ping for IPv6 Pseudowire FE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Next LT Regular"/>
              </a:rPr>
              <a:t>draft-chen-mpls-ipv6-pw-lsp-ping-01.tx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Mach Chen (mach.chen@huawei.c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       </a:t>
            </a: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Ping Pan (ppan@infinera.c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       </a:t>
            </a: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Carlos Pignataro (cpignata@cisco.c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       </a:t>
            </a: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Rajiv Asati (rajiva@cisco.c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MPLS WG               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 Statemen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557360"/>
            <a:ext cx="8507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ree PW related FEC sub-TLVs defined (RFC4379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FEC 128" Pseudowire (Deprecated), "FEC 128" Pseudowire and "FEC 129" Pseudowir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contains the destination/source addresses of the target LDP s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ly, only IPv4 target LDP session is cov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not be used when IPv6 target LDP session is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副标题 2"/>
          <p:cNvSpPr/>
          <p:nvPr/>
        </p:nvSpPr>
        <p:spPr>
          <a:xfrm>
            <a:off x="102384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MPLS WG              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57360"/>
            <a:ext cx="85075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tensions to RFC4379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d two new sub-TLV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Pv6 "FEC 128" Pseudowi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Pv6 "FEC 129" Pseudowi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"FEC 128" Pseudowire (Deprecated) defined for IPv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 more new procedures introdu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102384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MPLS WG              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1042920" y="4005360"/>
            <a:ext cx="590544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23640" y="1484280"/>
            <a:ext cx="4762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pdates to RFC 4379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nge names and titles of existing sub-TLV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ro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FEC 128" Pseudowire (Deprecated)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FEC 128" Pseudowi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FEC 129" Pseudow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referring to the PE addr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er's PE Addr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mote PE Addr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副标题 2"/>
          <p:cNvSpPr/>
          <p:nvPr/>
        </p:nvSpPr>
        <p:spPr>
          <a:xfrm>
            <a:off x="102384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MPLS WG              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内容占位符 5"/>
          <p:cNvSpPr/>
          <p:nvPr/>
        </p:nvSpPr>
        <p:spPr>
          <a:xfrm>
            <a:off x="3995640" y="1484280"/>
            <a:ext cx="5256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IPv4 "FEC 128" Pseudowire (Deprecated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IPv4 "FEC 128" Pseudow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IPv4 "FEC 129" Pseudow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Sender's PE IPv4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Remote PE IPv4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G docum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MPLS WG               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1:33:00Z</dcterms:created>
  <dc:creator>Mach Chen</dc:creator>
  <dc:description/>
  <dc:language>en-US</dc:language>
  <cp:lastModifiedBy>Mach Chen 55527</cp:lastModifiedBy>
  <dcterms:modified xsi:type="dcterms:W3CDTF">2011-11-10T07:52:55Z</dcterms:modified>
  <cp:revision>192</cp:revision>
  <dc:subject/>
  <dc:title>LDP extensions for Explicit Pseudowire to transport LSP mapp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ZlfwijPqSAeGIXNLAmI6Vw6/BRI/uOmf2X90DN7IsYJzF1N1Tq35P0VMy9JcnT6hA8Egnawo
T7e5B1tigfJIdHwyBLWWari5McpoK2O0ljD5T1PWcI0xgsbzuAgUnjxSrFUSGUjlfmvOEBEO
nEjyctyt8UzpsQy9BpKOm9YOOoaF9Rht6nP9OD/6Drg/yiNMDgLQEONhN6YUrfMuHXqk+zPN
QWUTjvCd+6KcRl+hUm7Zt</vt:lpwstr>
  </property>
  <property fmtid="{D5CDD505-2E9C-101B-9397-08002B2CF9AE}" pid="3" name="_ms_pID_7253431">
    <vt:lpwstr>qDeCvmHqqaa/JmSWBlkCFAjbtLJkCGPDLZcgqprWh5WkExk3siK
+EjLlTV8wQctxte/Oj3AAsUjpSbpuNzPZHc7Ldsv/BZOmClv6USyvdSKL6M5cfNL5YbsKDdw
EZk=</vt:lpwstr>
  </property>
  <property fmtid="{D5CDD505-2E9C-101B-9397-08002B2CF9AE}" pid="4" name="sflag">
    <vt:lpwstr>1320135160</vt:lpwstr>
  </property>
</Properties>
</file>