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210-9538-4F20-8AB6-630C85B3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6495-C1B7-49AC-A651-723DBDB5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7E90-2361-4608-9CAE-37DA488D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0E02-6E2D-49B1-9F3A-0C8C0812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D238-53E9-45F5-A3FF-7A67B47B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397-D3AC-499B-A0F7-1D942F37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5E3-FE1B-48CF-8C70-5E7E8547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089-0508-4BCC-AA72-AFE65195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2E8B-2237-48F1-B17D-C9EF0881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A9A3-A2DC-4E36-A321-A2DD9075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DA39-A9B3-4E4E-ABEC-B2332FE6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FD9-EB37-40BF-A841-2D577DA4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320E-B78A-410F-9E71-F14BD6B28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9280" y="88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-LDP Hello Reduction</a:t>
            </a:r>
            <a:br>
              <a:rPr sz="4000"/>
            </a:br>
            <a:br>
              <a:rPr sz="4000"/>
            </a:b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raft-pdutta-mpls-tldp-hello-reduce-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njal Du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mas Nad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les H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CBC3-8A6F-4CD3-A3EE-F1D4201704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0-version was presented in IETF-74 in MPLS W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d all feedbacks received from WG in revision -02 and presented in IETF-81 in PWE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d from Informational to Standards Track as per suggestions from MPLS W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76A6-6A15-4E9F-A324-E87D3CBA3C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6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e Targeted LDP (T-LDP) session maintenance in scaled T-LDP environment (e.g in mobilility backhauls with Pseudowires/VPLS deployment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DB7-5E7D-4C5D-A099-B037D19DF6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LDP session establishment T-LDP hellos become redundant. Session Keepalives are sufficient to maintain T-LDP adjac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caled T-LDP environment , T-LDP Hellos are overheads after the session establishment if BFD etc. are used for tracking neighbor liveli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523E-B800-44C3-A900-A67AD3ADBB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DP Hellos can cause DoS attacks leading to losing of established adjacencies. It is important to avoid dependency of hellos as far as possibl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B1AA-1D2E-4D6E-B008-C7E6E3BAD7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1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54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-LDP peering LSRs starts exchan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-LDP hellos with “configured” hello timeouts as part of extended discov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LDP session is established, each LSR starts sending Hello Timeout of value 0xFFFF, which is infinite as per RFC 503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both peering LSRs start advertising Hello Timeout of 0xFFFF, then negotiated timeout falls back to 0xFFFF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251F-BDA0-48E3-B874-ED0254239B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5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LDP session fails, both LSRs start transmitting T-LDP Hellos with the “configured” timeout values ag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D0A1-F367-4E12-8BCE-485DE3F089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is very simple and uses existing provisions of RFC 5036 .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Backward compatible with LSRs not implementing the proced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B031-8FE5-41C1-921E-4EA2D0A221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 Docu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DD5D-33B1-4F88-AFF3-8E45B1FF12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4:27:40Z</dcterms:created>
  <dc:creator>Olen L. Stokes, Jr</dc:creator>
  <dc:description/>
  <dc:language>en-US</dc:language>
  <cp:lastModifiedBy>pranjald</cp:lastModifiedBy>
  <dcterms:modified xsi:type="dcterms:W3CDTF">2011-11-12T05:53:59Z</dcterms:modified>
  <cp:revision>61</cp:revision>
  <dc:subject/>
  <dc:title>OAM for L2 VPN Networks Using CFM and VCCV</dc:title>
</cp:coreProperties>
</file>