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F90-CD85-460F-97AD-EA6960E4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D82-CC87-4975-8038-4D14E1D8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381-44CA-44F2-9003-2FCF5A7B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D90-FC7D-4679-B75A-6747AA12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A61-20AA-49BA-85CC-189FEFE1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C06-7999-49C0-877F-C0E15D5D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1AB-D307-412D-8374-16EE9A01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955-D6E6-4678-979D-C1189584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872-CE43-4965-9531-4431A399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A11-6641-4AB6-BAEF-8D7E72F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E77-5785-49CB-868B-C421455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0F3-E75C-4261-9448-2BA5FA87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23D2-0FCF-4BEC-A3F5-759435C01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88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-LDP Hello Reduction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aft-pdutta-mpls-tldp-hello-reduce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njal Du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Nad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les H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938-52E9-4C4D-B29A-ED357C1786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-version was presented in IETF-74 in MPLS 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all feedbacks received from WG in revision -02 and presented in IETF-81 in PWE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 from Informational to Standards Track as per suggestions from MPLS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C75-944A-43B1-A5D3-2C91938EC8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Targeted LDP (T-LDP) session maintenance in scaled T-LDP environment (e.g in mobilility backhauls with Pseudowires/VPLS deployment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1D2-C8B0-48F9-9335-4A17A9F9A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DP session establishment T-LDP hellos become redundant. Session Keepalives are sufficient to maintain T-LDP adjac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aled T-LDP environment , T-LDP Hellos are overheads after the session establishment if BFD etc. are used for tracking neighbor livel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2EF-7016-49AC-97F8-6FD6BDCB17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P Hellos can cause DoS attacks leading to losing of established adjacencies. It is important to avoid dependency of hellos as far as possib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BD7-8970-44A1-8674-FCFD46E341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-LDP peering LSRs starts exchan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LDP hellos with “configured” hello timeouts as part of extended dis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DP session is established, each LSR starts sending Hello Timeout of value 0xFFFF, which is infinite as per RFC 503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th peering LSRs start advertising Hello Timeout of 0xFFFF, then negotiated timeout falls back to 0xFFF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9C7-4C9A-436B-A4E1-B42101D5C5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5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LDP session fails, both LSRs start transmitting T-LDP Hellos with the “configured” timeout values ag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550-81EE-4D6A-BD40-FAF2493672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is very simple and uses existing provisions of RFC 5036 .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ackward compatible with LSRs not implementing the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518-A15D-4629-993A-15AD61319C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11480" y="6245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ft-pdutta-mpls-tldp-hello-reduc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2040" y="5859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-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42D-1516-4614-B6C9-96B029C3CE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27:40Z</dcterms:created>
  <dc:creator>Olen L. Stokes, Jr</dc:creator>
  <dc:description/>
  <dc:language>en-US</dc:language>
  <cp:lastModifiedBy>pranjald</cp:lastModifiedBy>
  <dcterms:modified xsi:type="dcterms:W3CDTF">2011-11-12T05:53:59Z</dcterms:modified>
  <cp:revision>61</cp:revision>
  <dc:subject/>
  <dc:title>OAM for L2 VPN Networks Using CFM and VCCV</dc:title>
</cp:coreProperties>
</file>