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152-7ECD-42E6-B9BC-6F6E4DFE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EE4-C959-4B89-8D67-D3D8ED78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2BA-BAE3-49A7-908A-5F0F32DF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C45-CAF5-4688-B742-48EA32DF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CA8-38C0-4030-9293-7ABD6D12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5C9-98B1-4C32-ACF0-754025C4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70E-D357-4385-88A3-F86B4651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DBD-AFA7-467F-9810-847DDB20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BEA-B412-475F-9049-F49D8D51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973-C75D-4D56-AFB5-C1CAC46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978-3180-4F8F-8037-32702293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632-D8E6-4C25-BD4C-27CDA0E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1990-4DF6-495C-9AC6-21E01C574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f discovery mechanism for mLDP based P2MP/MP2MP L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42960"/>
            <a:ext cx="64008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jin-mpls-mldp-leaf-discovery-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zhong Jin, Z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bo Liu, Nokia 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iganesh Kini, Eric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429000" y="33577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LS   IETF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1468-CDD9-4FBF-9078-1443DB89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on IETF 77 &amp; 7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eaf discovery mechanism based on LD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0DB-216B-4415-9CC1-12FD3FCA3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kind of mLDP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 initiat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DP in-band signaled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ally configured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initiat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V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MP 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3VPN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raft enables leaf initiated and root initiated application to share one P2MP LSP by multiplexing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E494-8857-45B0-8FF8-A58ABAA0F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A46B-A268-41CB-8FD6-ACE196A17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LDP solution (upd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491000" y="281304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170160" y="4076280"/>
            <a:ext cx="1114560" cy="10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4716360" y="4076640"/>
            <a:ext cx="1136880" cy="107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924360" y="1990800"/>
            <a:ext cx="7030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5829480" y="1666800"/>
            <a:ext cx="1990440" cy="6573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27111"/>
              <a:gd name="adj5" fmla="val 115699"/>
              <a:gd name="adj6" fmla="val -51356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is the root of mLDP based P2MP LSP with FEC &lt;X, 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3419640" y="4292280"/>
            <a:ext cx="865080" cy="865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 rot="18798000">
            <a:off x="3249000" y="4680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ping 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3059280" y="2781360"/>
            <a:ext cx="1225440" cy="23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2"/>
          <p:cNvSpPr/>
          <p:nvPr/>
        </p:nvSpPr>
        <p:spPr>
          <a:xfrm rot="17869800">
            <a:off x="2218680" y="372492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 mapping with imp-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651640" y="5115600"/>
            <a:ext cx="57600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3"/>
          <p:cNvSpPr/>
          <p:nvPr/>
        </p:nvSpPr>
        <p:spPr>
          <a:xfrm>
            <a:off x="250920" y="5734080"/>
            <a:ext cx="1990800" cy="6573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118023"/>
              <a:gd name="adj5" fmla="val -32124"/>
              <a:gd name="adj6" fmla="val 132935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 is adding to mLDP based P2MP LSP with FEC &lt;X, 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2771640" y="5085360"/>
            <a:ext cx="57636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4200480" y="3702600"/>
            <a:ext cx="57636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4202280" y="5085360"/>
            <a:ext cx="57600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202280" y="2378880"/>
            <a:ext cx="57600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 rot="2664000">
            <a:off x="4930920" y="436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draw 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6"/>
          <p:cNvSpPr/>
          <p:nvPr/>
        </p:nvSpPr>
        <p:spPr>
          <a:xfrm flipH="1" flipV="1">
            <a:off x="4932360" y="4076280"/>
            <a:ext cx="936720" cy="863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 flipH="1" flipV="1">
            <a:off x="4787640" y="2781360"/>
            <a:ext cx="1439640" cy="23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 rot="3454200">
            <a:off x="4320000" y="3661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 withdraw with MP-F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9"/>
          <p:cNvSpPr/>
          <p:nvPr/>
        </p:nvSpPr>
        <p:spPr>
          <a:xfrm>
            <a:off x="6659640" y="5734080"/>
            <a:ext cx="1990800" cy="6573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19856"/>
              <a:gd name="adj5" fmla="val -21254"/>
              <a:gd name="adj6" fmla="val -3668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 is leaving from mLDP based P2MP LSP with FEC &lt;X, 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WG to adopt this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D487-DC3E-45D3-BDEE-81719FEAC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Lizhong Jin</dc:creator>
  <dc:description/>
  <cp:keywords>培训教材</cp:keywords>
  <dc:language>en-US</dc:language>
  <cp:lastModifiedBy>Lizhong Jin</cp:lastModifiedBy>
  <dcterms:modified xsi:type="dcterms:W3CDTF">2011-11-12T16:19:17Z</dcterms:modified>
  <cp:revision>82</cp:revision>
  <dc:subject/>
  <dc:title>mLDP based LSP problem statement</dc:title>
</cp:coreProperties>
</file>