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F2A-22B3-44AA-9718-ADEB875D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0A2-52F7-4A16-AF49-483400DD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ACF-3081-407F-90BB-58B5631E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B03-E74B-4C4E-9862-52C4876C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D6D-0F12-4B61-8EE7-FCF9E98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970-6A9F-4A75-9A87-4AC86C9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B13-7566-43A2-8040-43E5267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7CC-61A4-43EA-8B5A-4A36115E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469-833C-4820-91A8-CDA26A92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CC3-9599-4692-B409-9CEBCB2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2F2-6824-4A9D-9A42-371AD68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E5C-B4B3-4CD6-99B0-8BD4880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F6A-3A5C-46BA-BF1F-31D30B03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discovery mechanism for mLDP based P2MP/MP2MP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42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in-mpls-mldp-leaf-discovery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, Z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bo Liu, Nokia 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iganesh Kini, Eric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429000" y="33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LS   IETF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9BAA-1C39-486F-8939-BCDE973D9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on IETF 77 &amp; 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eaf discovery mechanism based on LD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288A-975D-426D-9DFC-A079B105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kind of mLDP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 initiat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DP in-band signaled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configured P2MP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initiat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V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MP 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3VPN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enables leaf initiated and root initiated application to share one P2MP LSP by multiplexing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0F5-A909-4169-BA62-FF8D3EC0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1EA-811C-4217-9709-CD05521A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LDP solution (upd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491000" y="281304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170160" y="4076280"/>
            <a:ext cx="1114560" cy="10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716360" y="4076640"/>
            <a:ext cx="1136880" cy="10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924360" y="1990800"/>
            <a:ext cx="703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5829480" y="1666800"/>
            <a:ext cx="199044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27111"/>
              <a:gd name="adj5" fmla="val 115699"/>
              <a:gd name="adj6" fmla="val -51356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is the root of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3419640" y="4292280"/>
            <a:ext cx="865080" cy="865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 rot="18798000">
            <a:off x="3249000" y="4680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ping 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3059280" y="2781360"/>
            <a:ext cx="1225440" cy="23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"/>
          <p:cNvSpPr/>
          <p:nvPr/>
        </p:nvSpPr>
        <p:spPr>
          <a:xfrm rot="17869800">
            <a:off x="2218680" y="372492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mapping with imp-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651640" y="511560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250920" y="5734080"/>
            <a:ext cx="199080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118023"/>
              <a:gd name="adj5" fmla="val -32124"/>
              <a:gd name="adj6" fmla="val 132935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 is adding to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2771640" y="5085360"/>
            <a:ext cx="57636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4200480" y="3702600"/>
            <a:ext cx="57636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4202280" y="508536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202280" y="2378880"/>
            <a:ext cx="576000" cy="423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 rot="2664000">
            <a:off x="4930920" y="436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draw 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6"/>
          <p:cNvSpPr/>
          <p:nvPr/>
        </p:nvSpPr>
        <p:spPr>
          <a:xfrm flipH="1" flipV="1">
            <a:off x="4932360" y="4076280"/>
            <a:ext cx="936720" cy="863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 flipH="1" flipV="1">
            <a:off x="4787640" y="2781360"/>
            <a:ext cx="1439640" cy="23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 rot="3454200">
            <a:off x="4320000" y="3661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withdraw with MP-F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9"/>
          <p:cNvSpPr/>
          <p:nvPr/>
        </p:nvSpPr>
        <p:spPr>
          <a:xfrm>
            <a:off x="6659640" y="5734080"/>
            <a:ext cx="1990800" cy="6573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19856"/>
              <a:gd name="adj5" fmla="val -21254"/>
              <a:gd name="adj6" fmla="val -3668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 is leaving from mLDP based P2MP LSP with FEC &lt;X, 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G to adopt this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8180-3025-4D29-9A6A-050A20D3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6:19:17Z</dcterms:modified>
  <cp:revision>82</cp:revision>
  <dc:subject/>
  <dc:title>mLDP based LSP problem statement</dc:title>
</cp:coreProperties>
</file>