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D0DA-732C-4830-9EAD-6A1581A99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2096-71F1-4431-8F50-B75A8E39E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95F-7959-4C8A-BDC4-14B4CD9B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31C-5F6B-4651-A567-94BFEF74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F51-7895-4513-97C7-13264069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438-DE82-435F-965E-102B8981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CAE-648F-4E62-8329-527B7B95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799-994A-4C8D-A764-B96D2776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E15-92A9-49EA-91C9-ED5581F8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B44-086E-43FB-ADF7-825C6FF5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B80-00D4-49FC-83AB-2E563C94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0B4-4387-4E6F-B81A-A11FA01A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2F8-2821-4BB9-952C-5C7A1971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6FA-74BC-4232-BB74-1C8275F0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0D27-711E-471F-ADD1-3ED7EFBDD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ast LDP extension for hub &amp; spoke multipoint L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jin-jounay-mpls-mldp-hsmp-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zhong J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eric Joun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Jsbrand Wijn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olai Ley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D4E1-4DE4-4E71-BC20-EB84287A7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3503880" y="29242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LS IETF8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presentation on IETF79 Beijing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section 2: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C793-0C32-4063-B33B-40D19DFE9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ynchronization based on [IEEE1588v2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IPTV scenario could use HSMP LSP for multic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MP PW with reverse path can multiplex to HSMP L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ly added ap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LS implementation with P2MP PW multiplexed to HSMP L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4CAA-A840-4389-852C-4FB5DFAE7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PLS implementation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2MP PW is multiplexed to HSMP L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E signals a P2MP PW with itself as a root to all other PEs in the VP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broadcast/multicast/unknown traffic from this PE will use this P2MP P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traffic from a particular PE to another PE will be sent from leaf to root using the reverse path of P2MP P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ing traffic utilization from broadcast, multicast and unknown traffic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ing the total number of LSPs maintained by each PE (i.e. instead of requiring a full mesh of PW, now only require one P2MP PW multiplexed to HSMP per P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55EA-45B3-4C30-846F-57FAEF6BB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WG to adopt this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5280" y="38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8B36-DA22-4FC0-807B-1F2472F45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3:20:18Z</dcterms:created>
  <dc:creator>Lizhong Jin</dc:creator>
  <dc:description/>
  <cp:keywords>培训教材</cp:keywords>
  <dc:language>en-US</dc:language>
  <cp:lastModifiedBy>Lizhong Jin</cp:lastModifiedBy>
  <dcterms:modified xsi:type="dcterms:W3CDTF">2011-11-12T15:51:03Z</dcterms:modified>
  <cp:revision>113</cp:revision>
  <dc:subject/>
  <dc:title>mLDP based LSP problem statement</dc:title>
</cp:coreProperties>
</file>