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D1EF-828D-443A-9E3D-000F74A5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D92-5153-4095-A391-95982572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742-D27E-4A2A-9E6F-187138D9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85D-842B-4631-88A5-8E2CB49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6C4-EE67-4D10-AA34-2268B80B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645-586E-43B9-882F-48A9593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FB6-7B63-40BE-9E8F-416D984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105-6C46-46F7-A650-4D74701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DFB-8295-4901-9D23-4FA0D1C1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0D1-0E2E-4FB0-9483-7626BD2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37C-57AC-4D5A-A35F-1C4D027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77B-C917-46AD-B630-E1744B7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F96-05D1-4703-9165-6B839FF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5C4-9617-4D8E-BAC1-43221686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595-E1D5-4D57-956C-D10019180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ast LDP extension for hub &amp; spoke multipoint L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jin-jounay-mpls-mldp-hsmp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zhong 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eric Joun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sbrand Wij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ai Ley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1BD-9244-4356-866F-D0B0C343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503880" y="29242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 IETF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resentation on IETF79 Beijing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section 2: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358-399B-4AEC-9C1F-7400B3E9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ynchronization based on [IEEE1588v2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IPTV scenario could use HSMP LSP for multi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MP PW with reverse path can multiplex to HSMP L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ly added 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LS implementation with P2MP PW multiplexed to HSMP L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F84B-4102-489A-8083-7FFF633A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LS implementation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2MP PW is multiplexed to HSMP L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 signals a P2MP PW with itself as a root to all other PEs in the VP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roadcast/multicast/unknown traffic from this PE will use this P2MP P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traffic from a particular PE to another PE will be sent from leaf to root using the reverse path of P2MP P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raffic utilization from broadcast, multicast and unknown traffi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he total number of LSPs maintained by each PE (i.e. instead of requiring a full mesh of PW, now only require one P2MP PW multiplexed to HSMP per P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393-9685-4A3A-9515-719B5DA0C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G to adopt this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1E0-167A-4DD1-92A2-56DC457AC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3:20:18Z</dcterms:created>
  <dc:creator>Lizhong Jin</dc:creator>
  <dc:description/>
  <cp:keywords>培训教材</cp:keywords>
  <dc:language>en-US</dc:language>
  <cp:lastModifiedBy>Lizhong Jin</cp:lastModifiedBy>
  <dcterms:modified xsi:type="dcterms:W3CDTF">2011-11-12T15:51:03Z</dcterms:modified>
  <cp:revision>113</cp:revision>
  <dc:subject/>
  <dc:title>mLDP based LSP problem statement</dc:title>
</cp:coreProperties>
</file>