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9506-1C2F-4A2C-83A0-7953FB2CF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AF89-0073-4E90-96E4-26C5E1267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F31F-9ECD-49D0-9028-5B8CD6BCB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F9EA-3AEE-48D2-B4F5-EF32061B3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5C4B-A174-4F58-BFC4-E7E223725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3C69-76F5-4C0F-90A7-51057D26A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D6CA-2462-4784-8803-06F9A9754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FC09-BE86-47B8-9011-A95D29802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A95A-DE19-4C3C-8B37-6536AB3A3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872C-77E6-46BB-B9C4-39F181987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A4F9-C5A9-4147-8A24-113980570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210E-4DBD-4B27-8E50-47F6B1110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28226-1C4C-461C-8986-7E61A4C7EED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76200" y="520560"/>
            <a:ext cx="8323200" cy="51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rebuchet MS"/>
              </a:rPr>
              <a:t>Note Wel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Any submission to the IETF intended by the Contributor for publication as all or part of an IETF Internet-Draft or RFC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and any statement made within the context of an IETF activity is considered an "IETF Contribution". Such statements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include oral statements in IETF sessions, as well as written and electronic communications made at any time or place, 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which are addressed to: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55680" indent="-355680"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The IETF plenary session 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55680" indent="-355680"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The IESG, or any member thereof on behalf of the IESG 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55680" indent="-355680"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Any IETF mailing list, including the IETF list itself, any working group or design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55680" indent="-355680"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team list, or any other list functioning under IETF auspices 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55680" indent="-355680"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Any IETF working group or portion thereof 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55680" indent="-355680"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The IAB or any member thereof on behalf of the IAB 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55680" indent="-355680"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The RFC Editor or the Internet-Drafts function 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55680" indent="-355680"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All IETF Contributions are subject to the rules of RFC 5378 and RFC 3979 (updated by RFC 4879). 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Statements made outside of an IETF session, mailing list or other function, that are clearly not intended to be input to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an IETF activity, group or function, are not IETF Contributions in the context of this notice.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Please consult RFC 5378 and RFC 3979 for details.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A participant in any IETF activity is deemed to accept all IETF rules of process, as documented in Best Current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Practices RFCs and IESG Statements.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A participant in any IETF activity acknowledges that written, audio and video records of meetings may be made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and may be available to the public.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G 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G Drafts (not on the agend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raft-ietf-mpls-tp-cs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Keep-alive version uploaded, authors would like inputs from group on how to proceed fur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raft-ietf-mpls-tp-ring-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o be published soon. Adopted Nov 6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raft-ietf-mpls-ldp-i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ill let d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raft-ietf-mpls-ldp-gt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o be updated (to incorporate G bit), should be ready for WG LC after Taip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raft-ietf-mpls-ldp-ipv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pdate needed (change in requirement language) should be ready for WG LC after Taip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raft-ietf-mpls-mldp-in-band-signa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G LC ended Oct 23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raft-ietf-mpls-seamless-mp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ogressing normal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G 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G Drafts (not on the agenda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draft-ietf-mpls-tp-oam-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draft-ietf-mpls-tp-rosetta-st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draft-ietf-mpls-ldp-ip-pw-cap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draft-ietf-mpls-lsp-ping-mpls-tp-oam-con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draft-ietf-mpls-lsp-ping-ttl-t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draft-ietf-mpls-seamless-m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o answer received to status request sent to authors/editors on Nov 2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nd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G 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G Drafts (on the agend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aft-ietf-mpls-ldp-multi-top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aft-ietf-mpls-entropy-la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aft-ietf-mpls-return-path-specified-lsp-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aft-ietf-mpls-tp-itu-t-ident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aft-ietf-mpls-tp-te-m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aft-ietf-mpls-tp-security-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iscellane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uthors/Editors have been asked to give their plans with regards to WG adoption or WG Last C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icture pretty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lls &amp; LC are being launched in a timely ma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lestones 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rify email addresses in drafts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ent partial failures for the following alia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raft-ietf-mpls-lsp-ping-ttl-tlv@tools.ietf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raft-ietf-mpls-mldp-in-band-signaling@tools.ietf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raft-ietf-mpls-tp-te-mib@tools.ietf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PLS Working Gro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ETF 82 – Taip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eetings in Taipe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PLS, Monday, 09:00-11: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PLS, Thursday, 15:20-17: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genda Bas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lease respect the time allocated to your presentation slo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agenda is very tigh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ll in the </a:t>
            </a:r>
            <a:r>
              <a:rPr b="0" lang="en-GB" sz="3200" spc="-1" strike="noStrike">
                <a:solidFill>
                  <a:srgbClr val="0070c0"/>
                </a:solidFill>
                <a:latin typeface="Arial"/>
              </a:rPr>
              <a:t>Blue Sheet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and pass on! Return to WG Chai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genda Bas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50560" y="160020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ltiprotocol Label Switching W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www.ietf.org/proceedings/82/agenda/mpls.t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G 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0 New RFC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FC 6348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draft-ietf-mpls-mp-ldp-reqs)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quirements for Point-to-Multipoint Extensions to the Label Distribution Protocol (Histori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FC 6370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draft-ietf-mpls-tp-identifiers)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PLS Transport Profile (MPLS-TP) Identifiers (Proposed Standa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FC 6371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draft-ietf-mpls-tp-oam-framework)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perations, Administration, and Maintenance Framework for MPLS-Based Transport Networks (Information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FC 6372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draft-ietf-mpls-tp-survive-fwk)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PLS Transport Profile (MPLS-TP) Survivability Framework (Information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FC 6374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draft-ietf-mpls-loss-delay)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acket Loss and Delay Measurement for MPLS Networks (Proposed Standa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G 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0 New RFCs! (cont’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FC 6375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draft-ietf-mpls-tp-loss-delay-profile)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 Packet Loss and Delay Measurement Profile for MPLS-Based Transport Networks (Information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FC 6378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draft-ietf-mpls-tp-linear-protection)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PLS Transport Profile (MPLS-TP) Linear Protection (Proposed Standa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FC 6388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draft-ietf-mpls-ldp-p2mp)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abel Distribution Protocol Extensions for Point-to-Multipoint and Multipoint-to-Multipoint Label Switched Paths (Proposed Standa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FC 6389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draft-ietf-mpls-ldp-upstream)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PLS Upstream Label Assignment for LDP (Proposed Standa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FC 6424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draft-ietf-mpls-lsp-ping-enhanced-dsmap)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echanism for Performing Label Switched Path Ping (LSP Ping) over MPLS Tunnels (Proposed Standa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G 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rafts in RFC-Editor’s que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raft-ietf-mpls-fastreroute-mib (AUTH4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raft-ietf-mpls-mldp-recurs-fec (EDIT RE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raft-ietf-mpls-p2mp-lsp-ping (AUTH4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raft-ietf-mpls-rsvp-te-no-php-oob-mapping (EDIT RE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raft-ietf-mpls-tp-cc-cv-rdi (AUTH48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pproved by all autho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raft-ietf-mpls-tp-fault (AUTH4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raft-ietf-mpls-tp-li-lb (AUTH48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REF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raft-ietf-mpls-tp-on-demand-cv (AUTH48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REF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G 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rafts in IESG 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aft-ietf-mpls-tp-mib-management-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blication Reques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aft-ietf-mpls-ldp-i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 is Wat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e next slide al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6T11:04:26Z</dcterms:created>
  <dc:creator>Martin Vigoureux</dc:creator>
  <dc:description/>
  <dc:language>en-US</dc:language>
  <cp:lastModifiedBy>Martin Vigoureux</cp:lastModifiedBy>
  <dcterms:modified xsi:type="dcterms:W3CDTF">2011-11-13T23:42:50Z</dcterms:modified>
  <cp:revision>474</cp:revision>
  <dc:subject/>
  <dc:title>WG Status</dc:title>
</cp:coreProperties>
</file>