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788-CF22-4129-8C98-01582BAE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C97-7644-42BA-A502-03A3B45F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C99-582E-4F5D-83FC-877EFD38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97D-4C42-4A03-B7BF-9580A366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7C9-07EA-4E6B-8D94-F35D5C9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1E8-9321-4DD8-BF43-AA52D1D4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A2B-8A9F-432D-B326-EFC47F6B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616-0B06-4620-97D9-ED74B7EB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BA9-F0B5-4D79-AD7D-2839AB96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097-B11D-4B83-AC32-E0680888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914-A3F7-4616-B01F-E36D2D4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50B-4972-400B-8D54-F44AADD0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2D6B-B64C-44E9-8365-72EDDA5A56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520560"/>
            <a:ext cx="83232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y submission to the IETF intended by the Contributor for publication as all or part of an IETF Internet-Draft or RF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d any statement made within the context of an IETF activity is considered an "IETF Contribution". Such statement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include oral statements in IETF sessions, as well as written and electronic communications made at any time or place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which are addressed to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IETF plenary sess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IESG, or any member thereof on behalf of the IESG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y IETF mailing list, including the IETF list itself, any working group or desig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eam list, or any other list functioning under IETF auspices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y IETF working group or portion thereof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IAB or any member thereof on behalf of the IAB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RFC Editor or the Internet-Drafts funct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ll IETF Contributions are subject to the rules of RFC 5378 and RFC 3979 (updated by RFC 4879)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Statements made outside of an IETF session, mailing list or other function, that are clearly not intended to be input 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 IETF activity, group or function, are not IETF Contributions in the context of this notic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Please consult RFC 5378 and RFC 3979 for detail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 participant in any IETF activity acknowledges that written, audio and video records of meetings may be mad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d may be available to the public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 Drafts (not on the agen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tp-c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ep-alive version uploaded, authors would like inputs from group on how to proceed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tp-ring-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e published soon. Adopted Nov 6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ldp-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let 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ldp-gt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e updated (to incorporate G bit), should be ready for WG LC after 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ldp-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date needed (change in requirement language) should be ready for WG LC after 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mldp-in-band-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G LC ended Oct 23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seamless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ng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G Drafts (not on the agend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tp-oam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tp-rosetta-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ldp-ip-pw-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lsp-ping-mpls-tp-oam-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lsp-ping-ttl-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seamless-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answer received to status request sent to authors/editors on Nov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G Drafts (on the age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ldp-multi-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entropy-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return-path-specified-lsp-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itu-t-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te-m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security-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s/Editors have been asked to give their plans with regards to WG adoption or WG Last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cture prett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ls &amp; LC are being launched in a timel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estone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ify email addresses in draf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nt partial failures for the following ali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lsp-ping-ttl-tlv@tools.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mldp-in-band-signaling@tools.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te-mib@tools.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PLS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TF 82 – Taip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etings in Tai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PLS, Monday, 09:00-1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PLS, Thursday, 15:20-17: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respect the time allocated to your presentation sl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genda is very t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in the </a:t>
            </a: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Blue She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 pass on! Return to WG 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rotocol Label Switching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ietf.org/proceedings/82/agenda/mpls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 New RF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48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mp-ldp-req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quirements for Point-to-Multipoint Extensions to the Label Distribution Protocol (Histor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0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identifier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Transport Profile (MPLS-TP) Identifier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1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oam-framework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ions, Administration, and Maintenance Framework for MPLS-Based Transport Networks (Informa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2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survive-fwk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Transport Profile (MPLS-TP) Survivability Framework (Informa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4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oss-delay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cket Loss and Delay Measurement for MPLS Network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 New RFCs!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5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loss-delay-profile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acket Loss and Delay Measurement Profile for MPLS-Based Transport Networks (Informa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8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linear-protection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Transport Profile (MPLS-TP) Linear Protection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88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dp-p2mp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Distribution Protocol Extensions for Point-to-Multipoint and Multipoint-to-Multipoint Label Switched Path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89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dp-upstream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Upstream Label Assignment for LDP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424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sp-ping-enhanced-dsmap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anism for Performing Label Switched Path Ping (LSP Ping) over MPLS Tunnel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fts in RFC-Editor’s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fastreroute-mib (AUTH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mldp-recurs-fec (EDIT R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p2mp-lsp-ping (AUTH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rsvp-te-no-php-oob-mapping (EDIT R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cc-cv-rdi (AUTH4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pproved by all auth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fault (AUTH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li-lb (AUTH48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on-demand-cv (AUTH48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fts in IESG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mib-management-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ation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ldp-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 is W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next slide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1:04:26Z</dcterms:created>
  <dc:creator>Martin Vigoureux</dc:creator>
  <dc:description/>
  <dc:language>en-US</dc:language>
  <cp:lastModifiedBy>Martin Vigoureux</cp:lastModifiedBy>
  <dcterms:modified xsi:type="dcterms:W3CDTF">2011-11-13T23:42:50Z</dcterms:modified>
  <cp:revision>474</cp:revision>
  <dc:subject/>
  <dc:title>WG Status</dc:title>
</cp:coreProperties>
</file>