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22AA-CC77-497E-BAD8-9E6F841442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2064-8A8E-4892-A1C0-DEE9F5E5FD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F16D-883C-4D5C-928D-4D2BD6B982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9EA0-B306-4C51-8F0A-F1A77491A7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C84B-EE68-4338-98E4-FC7059534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99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D6E4-8B33-4231-B923-135635416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CC19-4E17-4287-AD4F-1849BADCE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D4C2-3185-441E-B6BC-583689D8F7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94B3-9E59-4B40-A96F-FD0DE1A74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2DCD-C5E5-447A-BBCE-5E781B992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6E5E-D2C2-49DD-8F49-FDEE0A7C4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4670-8740-42AB-A809-1ABA62DF2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FE36-0B9B-43D2-8AE7-239942E5E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E184-D25A-4006-A359-CD1E17F51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4C7C-F204-4006-9841-85EA713D7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2912-FF46-433A-949F-3C276021D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67280" y="66355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AA2824DB-AE1F-4889-B06A-2C843D53F406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8600" y="685800"/>
            <a:ext cx="8457840" cy="75600"/>
            <a:chOff x="228600" y="685800"/>
            <a:chExt cx="8457840" cy="75600"/>
          </a:xfrm>
        </p:grpSpPr>
        <p:sp>
          <p:nvSpPr>
            <p:cNvPr id="4" name="Line 7"/>
            <p:cNvSpPr/>
            <p:nvPr/>
          </p:nvSpPr>
          <p:spPr>
            <a:xfrm>
              <a:off x="228600" y="685800"/>
              <a:ext cx="845784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228600" y="759600"/>
              <a:ext cx="8457840" cy="1800"/>
            </a:xfrm>
            <a:prstGeom prst="line">
              <a:avLst/>
            </a:prstGeom>
            <a:ln w="44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Text Box 9"/>
          <p:cNvSpPr/>
          <p:nvPr/>
        </p:nvSpPr>
        <p:spPr>
          <a:xfrm>
            <a:off x="0" y="661356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TF-8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2438280" y="647712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itar-mpls-isis-explicit-null-label-00.tx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5C2F5264-0400-4A7A-A1F7-A6D5B5670FA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IS MPLS Explicit NULL Label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bitar-mpls-isis-explicit-null-label-00.txt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bil Bitar (Veriz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manshu Shah (Cie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Swallow (Cis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F-82, Taipei, Taiw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F6118719-644F-4A68-A031-C2F2EC2F8C2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C 4206 defines a Forwarding Adjacency (FA) with the following attrib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FA is a GMPLS/MPLS TE tunnel between a pair of 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FA is advertised as an IGP link in the same IGP topology over which it is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FA is used only for traffic forwarding – multicast is not explicitly addressed and implementations have traditionally lacked support for IP/MPLS packet replication over 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or signaling adjacencies are never established over FA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P topology graph is assumed to be connected via layer2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C9068FC7-975A-49C6-BE98-5B79C1636FDB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cket Transport Reference Model and Problem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2268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MPLS tunnel between a pair routers is signaled over a different IGP topology than that of the route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ontrast FAs are signaled over the same routers’ IGP top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PLS TE tunnels provide the only connectivity among routers across MPLS-TP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ontrast, in networks where FAs are established, routers are connected over layer2 interfaces over which Routing and signaling adjacencies are formed 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: Enable a GMPLS tunnel interface at a router head-end as a fully functional IP/MPLS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 IGP adjacencies, BGP peering sessions and multicast and MPLS signaling adjacencies over the 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unicast and multicast IPv4, IPv6 and MPLS traffic over the GMPLS 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990720" y="838080"/>
            <a:ext cx="7315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-------------- ISIS, RSVP-TE, LDP, PIM, LDP, BFD ---------------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--------------- Tunnel LSP: Routing Adjacency -----------------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---Transport LSP---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MPLS UN                                                     GMPLS 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+--+                      +----+                                +----+                       +----+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R1 |+----------------+| PE1|+-----------------------+|PE2 |+---------------+| R2 |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+                       +----+                                 +----+                      +----+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ing a GMPLS tunnel interface as an IP/MPSL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PLS tunnel is bidirectional as any IP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LS encapsulation (RFC3032) defines the encapsulation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S packets over MPLS tu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packets over MPLS tunnels – can be used to encapsulate user-plane packets and control plane packets (e.g., RSVP-TE, LDP, OSPF-TE, P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packets using the IPv6 explicit NULL label (label value=2) over MPLS tunnels - can be used to encapsulate user-plane packets and control plane packets (e.g., RSVP-TE, LDP, OSPF-TE, P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mix of MPLS and IP packets on the same MPLS tunnel – demultiplexing among encapsulated protocols is inherent to RFC 3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s Gap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ing ISIS Links state Packets over MPLS is not defined – focus of the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3D97FC18-FBCD-421D-99FF-F2DDE9446B77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IS MPLS Explicit NULL Labe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240" y="685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n ISIS MPLS Explcit NULL Label to address the gap in multiplexing ISIS Link state packets, MPLS and IPv4/IPv6 unicast/multicast packets on the same GMPLS tunn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abler for supporting full IP Interfaces on GMPLS tu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function to the IPv6 Explicit NULL label – enable the identification of the carried protocol (ISIS) in an MPLS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of ISIS Link State packet encapsulation over a GMPLS tunnel interface enabled for I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16141668-5C1A-41C3-9AB3-1868B682DCE0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85800" y="3597120"/>
            <a:ext cx="8991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--------------------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nnel label header          | tunnel-label       | TC| S=0| TTL     |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---------------------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IS Explicit NULL label   | ISIS NULL label | TC| S=1| TTL=1 |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-------------------------------------------+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|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IS Packet    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----------------------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144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icit WG input on the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proposal is accepted, seek the definition of an ISIS MPLS Explicit NULL label value in the reserved MPLS label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995B7F42-EE24-4273-BDC0-A6DB28E9390E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6:57:52Z</dcterms:created>
  <dc:creator>Nabil Bitar</dc:creator>
  <dc:description/>
  <dc:language>en-US</dc:language>
  <cp:lastModifiedBy>Nabil Bitar</cp:lastModifiedBy>
  <dcterms:modified xsi:type="dcterms:W3CDTF">2011-11-13T21:24:24Z</dcterms:modified>
  <cp:revision>29</cp:revision>
  <dc:subject/>
  <dc:title>Inter-AS PCECP Requirements   draft-bitar-zhang-interas-pcecp-reqts-00.txt  </dc:title>
</cp:coreProperties>
</file>