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52C-3CF8-4138-B5B5-4E406D23E2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AF16-8DB8-44F6-973B-78F8129658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01F-DE77-47EF-A972-8E70225821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6C5D-5330-4DC1-A534-78FA64856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49BC-AEE5-4AB2-A174-492ED60EB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5112-7F35-4F3C-A12F-466301C82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7FA6-EE8C-49E3-B5BA-4AF277957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9144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99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32F1-468B-48F2-864C-5AA9D043F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CBD9-776E-405C-93E1-DD3DA8CF3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8979-EC8C-4656-A549-A1FAE1E90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A4EE-909C-4D73-9C8E-EC48DC6F5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9E7C-70CE-41C8-9F70-F30886B31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4597-736F-42B9-82B2-5F2B33CC0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7E3F-3EEA-4001-AB08-49472318E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99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D3D6-D1A2-4CEC-8761-5C8B840F0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9144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99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81EF-61D9-4729-8D84-067D988D6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67280" y="66355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726CFE48-B12E-475F-8855-3D04B979582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8600" y="685800"/>
            <a:ext cx="8457840" cy="75600"/>
            <a:chOff x="228600" y="685800"/>
            <a:chExt cx="8457840" cy="75600"/>
          </a:xfrm>
        </p:grpSpPr>
        <p:sp>
          <p:nvSpPr>
            <p:cNvPr id="4" name="Line 7"/>
            <p:cNvSpPr/>
            <p:nvPr/>
          </p:nvSpPr>
          <p:spPr>
            <a:xfrm>
              <a:off x="228600" y="685800"/>
              <a:ext cx="84578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228600" y="759600"/>
              <a:ext cx="8457840" cy="1800"/>
            </a:xfrm>
            <a:prstGeom prst="line">
              <a:avLst/>
            </a:prstGeom>
            <a:ln w="44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9"/>
          <p:cNvSpPr/>
          <p:nvPr/>
        </p:nvSpPr>
        <p:spPr>
          <a:xfrm>
            <a:off x="0" y="661356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TF-8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2438280" y="647712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aft-bitar-mpls-isis-explicit-null-label-00.tx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28E8600E-63AE-4F28-9013-84759970C395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IS MPLS Explicit NULL Label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bitar-mpls-isis-explicit-null-label-00.txt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bil Bitar (Veriz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manshu Shah (Cie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Swallow (C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F-82, Taipei, Taiw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26E1E010-9F45-4106-9B29-25D927C43FF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C 4206 defines a Forwarding Adjacency (FA) with the following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FA is a GMPLS/MPLS TE tunnel between a pair of 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FA is advertised as an IGP link in the same IGP topology over which it is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FA is used only for traffic forwarding – multicast is not explicitly addressed and implementations have traditionally lacked support for IP/MPLS packet replication over 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or signaling adjacencies are never established over F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P topology graph is assumed to be connected via layer2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083304DE-C34B-41ED-A276-2FB17E580E0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cket Transport Reference Model and Problem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68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MPLS tunnel between a pair routers is signaled over a different IGP topology than that of the rou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ntrast FAs are signaled over the same routers’ IGP top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PLS TE tunnels provide the only connectivity among routers across MPLS-TP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ntrast, in networks where FAs are established, routers are connected over layer2 interfaces over which Routing and signaling adjacencies are formed 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: Enable a GMPLS tunnel interface at a router head-end as a fully functional IP/MPLS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 IGP adjacencies, BGP peering sessions and multicast and MPLS signaling adjacencies over the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unicast and multicast IPv4, IPv6 and MPLS traffic over the GMPLS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990720" y="838080"/>
            <a:ext cx="7315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------------- ISIS, RSVP-TE, LDP, PIM, LDP, BFD ---------------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-------------- Tunnel LSP: Routing Adjacency -----------------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--Transport LSP---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MPLS UN                                                     GMPLS 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+--+                      +----+                                +----+                       +----+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R1 |+----------------+| PE1|+-----------------------+|PE2 |+---------------+| R2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+                       +----+                                 +----+                      +----+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ing a GMPLS tunnel interface as an IP/MPSL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PLS tunnel is bidirectional as any IP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LS encapsulation (RFC3032) defines the encapsulation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 packets over MPLS tu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packets over MPLS tunnels – can be used to encapsulate user-plane packets and control plane packets (e.g., RSVP-TE, LDP, OSPF-TE, P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packets using the IPv6 explicit NULL label (label value=2) over MPLS tunnels - can be used to encapsulate user-plane packets and control plane packets (e.g., RSVP-TE, LDP, OSPF-TE, P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mix of MPLS and IP packets on the same MPLS tunnel – demultiplexing among encapsulated protocols is inherent to RFC 3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 Gap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ing ISIS Links state Packets over MPLS is not defined – focus of the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76A58988-CD85-42E3-AECA-DA7BA396A89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IS MPLS Explicit NULL Labe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n ISIS MPLS Explcit NULL Label to address the gap in multiplexing ISIS Link state packets, MPLS and IPv4/IPv6 unicast/multicast packets on the same GMPLS tunn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abler for supporting full IP Interfaces on GMPLS tu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function to the IPv6 Explicit NULL label – enable the identification of the carried protocol (ISIS) in an MPLS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of ISIS Link State packet encapsulation over a GMPLS tunnel interface enabled for I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55E93CA7-A709-4D48-B985-FD2AE19AD73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85800" y="3597120"/>
            <a:ext cx="8991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nnel label header          | tunnel-label       | TC| S=0| TTL    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IS Explicit NULL label   | ISIS NULL label | TC| S=1| TTL=1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-+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|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IS Packet    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--------------------------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144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icit WG input on the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proposal is accepted, seek the definition of an ISIS MPLS Explicit NULL label value in the reserved MPLS label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767640" y="66358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- </a:t>
            </a:r>
            <a:fld id="{87E077D3-9E65-4B32-8106-ABE50FF25A8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6:57:52Z</dcterms:created>
  <dc:creator>Nabil Bitar</dc:creator>
  <dc:description/>
  <dc:language>en-US</dc:language>
  <cp:lastModifiedBy>Nabil Bitar</cp:lastModifiedBy>
  <dcterms:modified xsi:type="dcterms:W3CDTF">2011-11-13T21:24:24Z</dcterms:modified>
  <cp:revision>29</cp:revision>
  <dc:subject/>
  <dc:title>Inter-AS PCECP Requirements   draft-bitar-zhang-interas-pcecp-reqts-00.txt  </dc:title>
</cp:coreProperties>
</file>