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BB7-8F5E-4CE3-A523-610DCE15EFD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61F8-2B47-478D-BB94-4274DF2E718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311-354F-4673-8CD9-1225329CCF5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F6D-B2CA-4D16-8A7B-5522ACE5829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ADF9-4C91-4AB2-9532-73B2053EA6C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B841-BD94-489B-BA7A-B5E2DF735F6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344-A8AC-416C-B9F3-54C047B57DF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90F4-C492-4791-9692-0D2E19FB4C4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C15-88C7-4476-89CF-D7AE9A75C89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DE9B-ADB6-43D8-B0A4-8666225A595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150-9728-45B9-BB5F-F13186A3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E18-940D-4C24-B7F0-AC8B666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9CD-714C-49AE-904D-5510BE2D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1E8-338E-4710-BB7F-AB2DC922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595-3E48-4B10-A3C9-523B98A9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12D-55E8-4A92-B847-3B57EF68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FD3-E78C-4252-A2B2-2EC5708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2C5-0466-444A-87CF-90F032C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20F-F0FF-480A-BABB-A0154DD0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D2A-1ECB-44B9-A252-1B6813F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034-4B39-40AF-B212-4910D69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DA0-7598-4920-9471-0B5CAF7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2158-307C-42C7-928F-16C3AF0308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  <a:ea typeface="굴림"/>
              </a:rPr>
              <a:t>MPLS-TP Shared Mesh Protection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Calibri"/>
                <a:ea typeface="굴림"/>
              </a:rPr>
              <a:t>draft-cheung-mpls-tp-mesh-protection-0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IETF 82 – Taipei, 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Taesik Cheung and Jeong-Dong Ryoo (ET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Yaacov Weingarten and Nurit Sprecher (N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Daniel King (Old D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Main Points of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Build on existing linear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tection switching action (re-use linear prote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Coordination action (defined in this dra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One LSP for each protection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here is no shortage of lab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Each LSP has end-to-end OAM/PSC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Parallel control of protection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Minimize coordination processing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Immediate traffic swi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Rapid failover as fast as linea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End node detecting failure initiates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Inform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Protection Switching (PS) Ev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to 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Starts linea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SEN coordinates use of shared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Inform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esource Allocation (RA) Notif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o SS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Blocks low priority protection LSP and s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Lockout (LO) Requ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to the corresponding end node (For equal priority, waits for reply from S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SSN coordinates use of shared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Blocks equal or low priority protection LSP and s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LO Requ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uses Protection ID for tie-bre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Repli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A Ac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o 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491160" y="6121440"/>
            <a:ext cx="25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lock operation will be added in version 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Protocol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Calibri"/>
                <a:ea typeface="맑은 고딕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Linear protection protocol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PS Event (E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EN’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맑은 고딕"/>
              </a:rPr>
              <a:t>Or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solid): RA Notification (SE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맑은 고딕"/>
              </a:rPr>
              <a:t>Or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dotted): RA Ack (SS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  <a:ea typeface="맑은 고딕"/>
              </a:rPr>
              <a:t>Gree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LO Request (SEN/SS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직선 연결선 53"/>
          <p:cNvSpPr/>
          <p:nvPr/>
        </p:nvSpPr>
        <p:spPr>
          <a:xfrm>
            <a:off x="2695680" y="510372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55"/>
          <p:cNvSpPr/>
          <p:nvPr/>
        </p:nvSpPr>
        <p:spPr>
          <a:xfrm>
            <a:off x="235260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66"/>
          <p:cNvSpPr/>
          <p:nvPr/>
        </p:nvSpPr>
        <p:spPr>
          <a:xfrm>
            <a:off x="3040200" y="4951440"/>
            <a:ext cx="3427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68"/>
          <p:cNvSpPr/>
          <p:nvPr/>
        </p:nvSpPr>
        <p:spPr>
          <a:xfrm>
            <a:off x="4413240" y="4951440"/>
            <a:ext cx="344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82"/>
          <p:cNvSpPr/>
          <p:nvPr/>
        </p:nvSpPr>
        <p:spPr>
          <a:xfrm>
            <a:off x="510048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90"/>
          <p:cNvSpPr/>
          <p:nvPr/>
        </p:nvSpPr>
        <p:spPr>
          <a:xfrm>
            <a:off x="647532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91"/>
          <p:cNvSpPr/>
          <p:nvPr/>
        </p:nvSpPr>
        <p:spPr>
          <a:xfrm>
            <a:off x="7161120" y="4951440"/>
            <a:ext cx="344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92"/>
          <p:cNvSpPr/>
          <p:nvPr/>
        </p:nvSpPr>
        <p:spPr>
          <a:xfrm>
            <a:off x="2009880" y="617220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93"/>
          <p:cNvSpPr/>
          <p:nvPr/>
        </p:nvSpPr>
        <p:spPr>
          <a:xfrm>
            <a:off x="338292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94"/>
          <p:cNvSpPr/>
          <p:nvPr/>
        </p:nvSpPr>
        <p:spPr>
          <a:xfrm>
            <a:off x="4070520" y="617220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95"/>
          <p:cNvSpPr/>
          <p:nvPr/>
        </p:nvSpPr>
        <p:spPr>
          <a:xfrm>
            <a:off x="544356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96"/>
          <p:cNvSpPr/>
          <p:nvPr/>
        </p:nvSpPr>
        <p:spPr>
          <a:xfrm>
            <a:off x="613080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97"/>
          <p:cNvSpPr/>
          <p:nvPr/>
        </p:nvSpPr>
        <p:spPr>
          <a:xfrm>
            <a:off x="7505640" y="6172200"/>
            <a:ext cx="343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98"/>
          <p:cNvSpPr/>
          <p:nvPr/>
        </p:nvSpPr>
        <p:spPr>
          <a:xfrm>
            <a:off x="2009880" y="372888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99"/>
          <p:cNvSpPr/>
          <p:nvPr/>
        </p:nvSpPr>
        <p:spPr>
          <a:xfrm>
            <a:off x="7505640" y="3728880"/>
            <a:ext cx="343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100"/>
          <p:cNvSpPr/>
          <p:nvPr/>
        </p:nvSpPr>
        <p:spPr>
          <a:xfrm>
            <a:off x="3382920" y="510372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101"/>
          <p:cNvSpPr/>
          <p:nvPr/>
        </p:nvSpPr>
        <p:spPr>
          <a:xfrm>
            <a:off x="4757760" y="5103720"/>
            <a:ext cx="34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102"/>
          <p:cNvSpPr/>
          <p:nvPr/>
        </p:nvSpPr>
        <p:spPr>
          <a:xfrm>
            <a:off x="5443560" y="5103720"/>
            <a:ext cx="103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103"/>
          <p:cNvSpPr/>
          <p:nvPr/>
        </p:nvSpPr>
        <p:spPr>
          <a:xfrm>
            <a:off x="6818400" y="5103720"/>
            <a:ext cx="34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104"/>
          <p:cNvSpPr/>
          <p:nvPr/>
        </p:nvSpPr>
        <p:spPr>
          <a:xfrm>
            <a:off x="2181240" y="4033800"/>
            <a:ext cx="342720" cy="9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05"/>
          <p:cNvSpPr/>
          <p:nvPr/>
        </p:nvSpPr>
        <p:spPr>
          <a:xfrm flipH="1">
            <a:off x="7332840" y="4033800"/>
            <a:ext cx="344160" cy="9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06"/>
          <p:cNvSpPr/>
          <p:nvPr/>
        </p:nvSpPr>
        <p:spPr>
          <a:xfrm flipH="1">
            <a:off x="218124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07"/>
          <p:cNvSpPr/>
          <p:nvPr/>
        </p:nvSpPr>
        <p:spPr>
          <a:xfrm flipH="1">
            <a:off x="424188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08"/>
          <p:cNvSpPr/>
          <p:nvPr/>
        </p:nvSpPr>
        <p:spPr>
          <a:xfrm flipH="1">
            <a:off x="6302160" y="5256360"/>
            <a:ext cx="3445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09"/>
          <p:cNvSpPr/>
          <p:nvPr/>
        </p:nvSpPr>
        <p:spPr>
          <a:xfrm>
            <a:off x="321156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110"/>
          <p:cNvSpPr/>
          <p:nvPr/>
        </p:nvSpPr>
        <p:spPr>
          <a:xfrm>
            <a:off x="5272200" y="5256360"/>
            <a:ext cx="3445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111"/>
          <p:cNvSpPr/>
          <p:nvPr/>
        </p:nvSpPr>
        <p:spPr>
          <a:xfrm>
            <a:off x="7332840" y="5256360"/>
            <a:ext cx="34416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112"/>
          <p:cNvSpPr/>
          <p:nvPr/>
        </p:nvSpPr>
        <p:spPr>
          <a:xfrm>
            <a:off x="2352600" y="3881520"/>
            <a:ext cx="515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선 연결선 113"/>
          <p:cNvSpPr/>
          <p:nvPr/>
        </p:nvSpPr>
        <p:spPr>
          <a:xfrm>
            <a:off x="235260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선 연결선 114"/>
          <p:cNvSpPr/>
          <p:nvPr/>
        </p:nvSpPr>
        <p:spPr>
          <a:xfrm>
            <a:off x="441324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선 연결선 115"/>
          <p:cNvSpPr/>
          <p:nvPr/>
        </p:nvSpPr>
        <p:spPr>
          <a:xfrm>
            <a:off x="647532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304920" y="48006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io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&gt;P2&gt;P3&gt;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직선 화살표 연결선 2"/>
          <p:cNvCxnSpPr/>
          <p:nvPr/>
        </p:nvCxnSpPr>
        <p:spPr>
          <a:xfrm flipH="1">
            <a:off x="7272000" y="4186080"/>
            <a:ext cx="23400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직선 화살표 연결선 4"/>
          <p:cNvCxnSpPr/>
          <p:nvPr/>
        </p:nvCxnSpPr>
        <p:spPr>
          <a:xfrm flipH="1">
            <a:off x="5519520" y="4185720"/>
            <a:ext cx="19864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직선 화살표 연결선 6"/>
          <p:cNvCxnSpPr/>
          <p:nvPr/>
        </p:nvCxnSpPr>
        <p:spPr>
          <a:xfrm flipH="1">
            <a:off x="6818040" y="486216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2" name="직선 화살표 연결선 132"/>
          <p:cNvCxnSpPr/>
          <p:nvPr/>
        </p:nvCxnSpPr>
        <p:spPr>
          <a:xfrm flipH="1">
            <a:off x="4757400" y="486216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93" name="자유형 8"/>
          <p:cNvSpPr/>
          <p:nvPr/>
        </p:nvSpPr>
        <p:spPr>
          <a:xfrm>
            <a:off x="2427120" y="4067280"/>
            <a:ext cx="4972320" cy="392040"/>
          </a:xfrm>
          <a:custGeom>
            <a:avLst/>
            <a:gdLst/>
            <a:ahLst/>
            <a:rect l="l" t="t" r="r" b="b"/>
            <a:pathLst>
              <a:path w="4972050" h="391886">
                <a:moveTo>
                  <a:pt x="4972050" y="0"/>
                </a:moveTo>
                <a:lnTo>
                  <a:pt x="3812722" y="391886"/>
                </a:lnTo>
                <a:lnTo>
                  <a:pt x="122464" y="391886"/>
                </a:lnTo>
                <a:lnTo>
                  <a:pt x="0" y="57150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직선 화살표 연결선 12"/>
          <p:cNvCxnSpPr/>
          <p:nvPr/>
        </p:nvCxnSpPr>
        <p:spPr>
          <a:xfrm>
            <a:off x="7272360" y="5405040"/>
            <a:ext cx="2340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5" name="직선 화살표 연결선 133"/>
          <p:cNvCxnSpPr/>
          <p:nvPr/>
        </p:nvCxnSpPr>
        <p:spPr>
          <a:xfrm flipH="1">
            <a:off x="6471360" y="5405040"/>
            <a:ext cx="23436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6" name="직선 화살표 연결선 134"/>
          <p:cNvCxnSpPr/>
          <p:nvPr/>
        </p:nvCxnSpPr>
        <p:spPr>
          <a:xfrm>
            <a:off x="5202360" y="5405040"/>
            <a:ext cx="2340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7" name="직선 화살표 연결선 135"/>
          <p:cNvCxnSpPr/>
          <p:nvPr/>
        </p:nvCxnSpPr>
        <p:spPr>
          <a:xfrm flipH="1">
            <a:off x="4403160" y="5405040"/>
            <a:ext cx="2322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8" name="직선 화살표 연결선 136"/>
          <p:cNvCxnSpPr/>
          <p:nvPr/>
        </p:nvCxnSpPr>
        <p:spPr>
          <a:xfrm flipH="1">
            <a:off x="6818040" y="532872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prstDash val="sysDot"/>
            <a:miter/>
            <a:headEnd len="med" type="arrow" w="med"/>
          </a:ln>
        </p:spPr>
      </p:cxnSp>
      <p:cxnSp>
        <p:nvCxnSpPr>
          <p:cNvPr id="99" name="직선 화살표 연결선 137"/>
          <p:cNvCxnSpPr/>
          <p:nvPr/>
        </p:nvCxnSpPr>
        <p:spPr>
          <a:xfrm flipH="1">
            <a:off x="4757400" y="532872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prstDash val="sysDot"/>
            <a:miter/>
            <a:headEnd len="med" type="arrow" w="med"/>
          </a:ln>
        </p:spPr>
      </p:cxnSp>
      <p:sp>
        <p:nvSpPr>
          <p:cNvPr id="100" name="자유형 17"/>
          <p:cNvSpPr/>
          <p:nvPr/>
        </p:nvSpPr>
        <p:spPr>
          <a:xfrm>
            <a:off x="6591240" y="5797440"/>
            <a:ext cx="776520" cy="327240"/>
          </a:xfrm>
          <a:custGeom>
            <a:avLst/>
            <a:gdLst/>
            <a:ahLst/>
            <a:rect l="l" t="t" r="r" b="b"/>
            <a:pathLst>
              <a:path w="775607" h="326571">
                <a:moveTo>
                  <a:pt x="775607" y="318407"/>
                </a:moveTo>
                <a:lnTo>
                  <a:pt x="653143" y="0"/>
                </a:lnTo>
                <a:lnTo>
                  <a:pt x="114300" y="0"/>
                </a:lnTo>
                <a:lnTo>
                  <a:pt x="0" y="326571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자유형 138"/>
          <p:cNvSpPr/>
          <p:nvPr/>
        </p:nvSpPr>
        <p:spPr>
          <a:xfrm>
            <a:off x="4541760" y="5791320"/>
            <a:ext cx="776520" cy="326880"/>
          </a:xfrm>
          <a:custGeom>
            <a:avLst/>
            <a:gdLst/>
            <a:ahLst/>
            <a:rect l="l" t="t" r="r" b="b"/>
            <a:pathLst>
              <a:path w="775607" h="326571">
                <a:moveTo>
                  <a:pt x="775607" y="318407"/>
                </a:moveTo>
                <a:lnTo>
                  <a:pt x="653143" y="0"/>
                </a:lnTo>
                <a:lnTo>
                  <a:pt x="114300" y="0"/>
                </a:lnTo>
                <a:lnTo>
                  <a:pt x="0" y="326571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9"/>
          <p:cNvSpPr/>
          <p:nvPr/>
        </p:nvSpPr>
        <p:spPr>
          <a:xfrm>
            <a:off x="3429000" y="4645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0"/>
          <p:cNvSpPr/>
          <p:nvPr/>
        </p:nvSpPr>
        <p:spPr>
          <a:xfrm>
            <a:off x="2243160" y="5410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1"/>
          <p:cNvSpPr/>
          <p:nvPr/>
        </p:nvSpPr>
        <p:spPr>
          <a:xfrm>
            <a:off x="4255920" y="541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2"/>
          <p:cNvSpPr/>
          <p:nvPr/>
        </p:nvSpPr>
        <p:spPr>
          <a:xfrm>
            <a:off x="6324480" y="541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3"/>
          <p:cNvSpPr/>
          <p:nvPr/>
        </p:nvSpPr>
        <p:spPr>
          <a:xfrm>
            <a:off x="6705720" y="3578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선 연결선 163"/>
          <p:cNvSpPr/>
          <p:nvPr/>
        </p:nvSpPr>
        <p:spPr>
          <a:xfrm>
            <a:off x="6851520" y="3730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5"/>
          <p:cNvSpPr/>
          <p:nvPr/>
        </p:nvSpPr>
        <p:spPr>
          <a:xfrm>
            <a:off x="624852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6491160" y="1676520"/>
            <a:ext cx="25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efine another message to unblock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LO Ack (EN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SEN/S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SF at high priority LS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A Notification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 and sends LO Request to D (and replies RA Ack to P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2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SF at low priority LS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does no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1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3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3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Pre-emp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continued from Example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A Notification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, sends LO Request to D (and replies RA Ack to P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 (return to the failed W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9696"/>
          <p:cNvSpPr/>
          <p:nvPr/>
        </p:nvSpPr>
        <p:spPr>
          <a:xfrm>
            <a:off x="1344600" y="64119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occupies P-Q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696"/>
          <p:cNvSpPr/>
          <p:nvPr/>
        </p:nvSpPr>
        <p:spPr>
          <a:xfrm>
            <a:off x="5649480" y="64119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pre-empte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1"/>
          <p:cNvSpPr/>
          <p:nvPr/>
        </p:nvSpPr>
        <p:spPr>
          <a:xfrm>
            <a:off x="1295280" y="5940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선 연결선 163"/>
          <p:cNvSpPr/>
          <p:nvPr/>
        </p:nvSpPr>
        <p:spPr>
          <a:xfrm flipH="1">
            <a:off x="1441440" y="6093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3"/>
          <p:cNvSpPr/>
          <p:nvPr/>
        </p:nvSpPr>
        <p:spPr>
          <a:xfrm>
            <a:off x="1676520" y="606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5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8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2"/>
          <p:cNvSpPr/>
          <p:nvPr/>
        </p:nvSpPr>
        <p:spPr>
          <a:xfrm>
            <a:off x="58672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4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Equal priorit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First come, first 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맑은 고딕"/>
              </a:rPr>
              <a:t>P sends RA Notification to Q and waits for re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, sends LO Request to D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맑은 고딕"/>
              </a:rPr>
              <a:t>and replies RA Ack to 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 and sends LO Request to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=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5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Race condi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Equal priority resolved by Protection path 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B detects SF, sends PS Event to Q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and P sends RA Notification to each other and wait for re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eplies RA Ack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 and sends LO Request to 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 (return to the failed W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9696"/>
          <p:cNvSpPr/>
          <p:nvPr/>
        </p:nvSpPr>
        <p:spPr>
          <a:xfrm>
            <a:off x="1082520" y="64119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Simultaneous Failure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9696"/>
          <p:cNvSpPr/>
          <p:nvPr/>
        </p:nvSpPr>
        <p:spPr>
          <a:xfrm>
            <a:off x="5649480" y="64119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pre-empte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3"/>
          <p:cNvSpPr/>
          <p:nvPr/>
        </p:nvSpPr>
        <p:spPr>
          <a:xfrm>
            <a:off x="3643200" y="4572000"/>
            <a:ext cx="17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=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(PID1 &gt; PID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>
            <a:off x="1295280" y="5940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선 연결선 163"/>
          <p:cNvSpPr/>
          <p:nvPr/>
        </p:nvSpPr>
        <p:spPr>
          <a:xfrm flipH="1">
            <a:off x="1441440" y="6093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3"/>
          <p:cNvSpPr/>
          <p:nvPr/>
        </p:nvSpPr>
        <p:spPr>
          <a:xfrm>
            <a:off x="1676520" y="606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5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8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2"/>
          <p:cNvSpPr/>
          <p:nvPr/>
        </p:nvSpPr>
        <p:spPr>
          <a:xfrm>
            <a:off x="58672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90"/>
          <p:cNvSpPr/>
          <p:nvPr/>
        </p:nvSpPr>
        <p:spPr>
          <a:xfrm>
            <a:off x="2819520" y="3882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163"/>
          <p:cNvSpPr/>
          <p:nvPr/>
        </p:nvSpPr>
        <p:spPr>
          <a:xfrm>
            <a:off x="2965320" y="403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92"/>
          <p:cNvSpPr/>
          <p:nvPr/>
        </p:nvSpPr>
        <p:spPr>
          <a:xfrm>
            <a:off x="1752480" y="3733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3"/>
          <p:cNvSpPr/>
          <p:nvPr/>
        </p:nvSpPr>
        <p:spPr>
          <a:xfrm>
            <a:off x="7010280" y="3882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선 연결선 163"/>
          <p:cNvSpPr/>
          <p:nvPr/>
        </p:nvSpPr>
        <p:spPr>
          <a:xfrm>
            <a:off x="7156440" y="403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95"/>
          <p:cNvSpPr/>
          <p:nvPr/>
        </p:nvSpPr>
        <p:spPr>
          <a:xfrm>
            <a:off x="594360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aesik</dc:creator>
  <dc:description/>
  <dc:language>en-US</dc:language>
  <cp:lastModifiedBy>Taesik</cp:lastModifiedBy>
  <dcterms:modified xsi:type="dcterms:W3CDTF">2011-11-15T02:50:35Z</dcterms:modified>
  <cp:revision>92</cp:revision>
  <dc:subject/>
  <dc:title>MPLS-TP Mesh Protection draft-cheung-mpls-tp-mesh-protection-00.txt</dc:title>
</cp:coreProperties>
</file>