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E0B-4F20-4C35-8898-5F50AA1CCB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938A-E0B3-476B-A7F7-DAE3C8C495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F00-06E4-482F-87E4-16AD2007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C3C-7169-4CE9-9630-1E8D2B84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98D-C485-4BFC-A959-9F77189B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D13-CBC9-48E9-B1CD-F206C74E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12D-FE20-4A80-8B4C-48E4B345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39E-B6C2-445C-A437-10249932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43F-1357-4090-B1CD-E917F463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288-321D-46AF-A2CA-28696619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486-5805-472A-A6C4-D3F9B0F0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369-B2A9-46AF-A9F1-9909C6D5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714-E502-43EA-95AD-89B9EA46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92A-C33E-4FCC-9E5C-0924363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6C66-C9CF-43F3-B2FF-3812826213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4400" y="68400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Traffic Engineering architecture for services aware MPLS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fuxh-mpls-delay-loss-te-framework-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286080"/>
            <a:ext cx="6986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ihua Fu, Malcolm Betts, Qilei Wang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ishwas Manral,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ewlett-Packard Cor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ve McDysan, Andrew Malis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Veriz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pencer Giacalone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homson Reu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ohn E Drake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Juni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since last 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680" y="128592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at 7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CAMP and transferred to MPLS after 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ined the structure of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ed or refined some texts to keep it consistent with following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raft-giacalone-ospf-te-express-path-01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raft-previdi-isis-te-metric-extensions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raft-fuxh-mpls-delay-loss-rsvp-te-ext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ved some comments from mailing-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000" y="70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 Issues: Latency and jitter of No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28592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ertising node latency may result in oscillation risk because of queue del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 1: We may define it as a fixed or average/approximate latency (without any queuing) and add half of the fixed node latency to each lin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 2: Assumed that the node latency is a small factor of the total latency in the networks.  The node latency is hence ignored for the benefit of simpl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ggestion: Queuing delay isn’t considered. Node latency can be included in the advertised link del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comments from lis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 Issues: Anomalous state of link in IG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1285920"/>
            <a:ext cx="8501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maximum threshold could be configured to link. If the link performance exceeds the threshold, the IGP should get the anomalous state of this li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h computation entity may not select this kind of link although end-to-end performance is still m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olution should support to move one end-to-end path away from any link whose performance exceeds the configured maximum threshol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may result in heavy configuration wor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comments from lis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n Issues: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omposite Link Performance Advertisemen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785600"/>
            <a:ext cx="85010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 1: Only TLV for Composite Link. The performance may be the range, average or maximum latency/loss of all component lin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 2: Both a TLV for each component link, plus one for the bundle with the aver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related specific implementation. More comments from li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ar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120" y="1285920"/>
            <a:ext cx="8501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E loss compu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(1-lossrate_L1)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1-lossrate_L2)*…*(1-lossrate_L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 packet loss is 10% for two hops of a link. The measurements will come to 19% total packet loss. Because of 10% loss on the first link only 90% packet reach the second link where another 10% of 90% are lost, which is 9% of total packe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will be a little bit change in next version to clarify the e2e loss computation is multiplication of each link rather than s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YI: ITU-T Y.15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285920"/>
            <a:ext cx="8501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feedbacks from the meeting and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 it as WG document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39:15Z</dcterms:created>
  <dc:creator>王其磊</dc:creator>
  <dc:description/>
  <dc:language>en-US</dc:language>
  <cp:lastModifiedBy>付锡华</cp:lastModifiedBy>
  <dcterms:modified xsi:type="dcterms:W3CDTF">2011-11-17T02:34:47Z</dcterms:modified>
  <cp:revision>491</cp:revision>
  <dc:subject/>
  <dc:title>幻灯片 1</dc:title>
</cp:coreProperties>
</file>