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7BDF-BB11-40BB-A75E-22A4197143A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B4AF-2BDB-4D80-B3C7-5D97F85812D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1AE7-1EA2-4AF3-BE7E-652D7116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EF5E-96C0-4996-8846-67B6A773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EE79-E6AF-4063-96AB-A473C9F40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50C7-CDFE-484A-B2CB-EC30FDA72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1FD0-1C92-4FB3-AD11-C9A918D0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2C20-D1AB-4FEA-B6CB-5E126AEB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C016-D561-4CB5-8531-208653DB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CF87-E3A8-4CE9-AA2D-348B07DF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AC8D-500E-41CF-ADC0-73E9E20E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6520-84B3-4076-AC58-9FFBDA81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4168-67B3-4639-ADE3-7918E9FB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BE17-C998-4DC3-A147-D5ABEDCD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34D2-8FEB-40FD-BE8E-A76A38DDDC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14400" y="68400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Traffic Engineering architecture for services aware MPLS</a:t>
            </a:r>
            <a:br>
              <a:rPr sz="3000"/>
            </a:b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-fuxh-mpls-delay-loss-te-framework-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3286080"/>
            <a:ext cx="69865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ihua Fu, Malcolm Betts, Qilei Wang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Z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ishwas Manral,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Hewlett-Packard Cor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ave McDysan, Andrew Malis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Veriz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pencer Giacalone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Thomson Reu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John E Drake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Junip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s since last ve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71680" y="1285920"/>
            <a:ext cx="82152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duced at 7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CAMP and transferred to MPLS after 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ined the structure of doc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ed or refined some texts to keep it consistent with following doc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raft-giacalone-ospf-te-express-path-01.t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raft-previdi-isis-te-metric-extensions-00.t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raft-fuxh-mpls-delay-loss-rsvp-te-ext-00.t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lved some comments from mailing-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000" y="70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en Issues: Latency and jitter of No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4200" y="128592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vertising node latency may result in oscillation risk because of queue dela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 1: We may define it as a fixed or average/approximate latency (without any queuing) and add half of the fixed node latency to each lin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 2: Assumed that the node latency is a small factor of the total latency in the networks.  The node latency is hence ignored for the benefit of simplic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ggestion: Queuing delay isn’t considered. Node latency can be included in the advertised link dela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re comments from lis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en Issues: Anomalous state of link in IG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120" y="1285920"/>
            <a:ext cx="8501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maximum threshold could be configured to link. If the link performance exceeds the threshold, the IGP should get the anomalous state of this link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h computation entity may not select this kind of link although end-to-end performance is still me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olution should support to move one end-to-end path away from any link whose performance exceeds the configured maximum threshol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may result in heavy configuration work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re comments from lis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pen Issues: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omposite Link Performance Advertisemen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57120" y="1785600"/>
            <a:ext cx="85010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on 1: Only TLV for Composite Link. The performance may be the range, average or maximum latency/loss of all component link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on 2: Both a TLV for each component link, plus one for the bundle with the aver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related specific implementation. More comments from lis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arif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120" y="1285920"/>
            <a:ext cx="8501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2E loss compu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-(1-lossrate_L1)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1-lossrate_L2)*…*(1-lossrate_L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ume packet loss is 10% for two hops of a link. The measurements will come to 19% total packet loss. Because of 10% loss on the first link only 90% packet reach the second link where another 10% of 90% are lost, which is 9% of total packe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will be a little bit change in next version to clarify the e2e loss computation is multiplication of each link rather than su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YI: ITU-T Y.154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57120" y="1285920"/>
            <a:ext cx="8501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ect feedbacks from the meeting and 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opt it as WG document 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7:39:15Z</dcterms:created>
  <dc:creator>王其磊</dc:creator>
  <dc:description/>
  <dc:language>en-US</dc:language>
  <cp:lastModifiedBy>付锡华</cp:lastModifiedBy>
  <dcterms:modified xsi:type="dcterms:W3CDTF">2011-11-17T02:34:47Z</dcterms:modified>
  <cp:revision>491</cp:revision>
  <dc:subject/>
  <dc:title>幻灯片 1</dc:title>
</cp:coreProperties>
</file>