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01F7-57AF-4391-9E31-A03D22A683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4900-7B72-4238-833C-1BDCFD9C66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6E1-A8C0-445E-B267-3167AFCD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52B-8EA3-4D9B-A910-65F8EC27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C1A-B2F3-4317-9DF1-BD066F47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C75-CF5A-4955-9481-2EA58391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A98B-D27A-436D-B318-B68E96A3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1865-DD70-4BAD-8356-6599A043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274-7018-430C-91D1-C7E9C2B5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778-D632-45B7-B6D3-3E9495EA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D1D-6566-4906-9A68-E81CB56F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AF6-CD12-4089-8D86-3D93F661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B02-0370-4773-AC85-A281CB51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446-5CF6-4EBA-85E3-5AE980D6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2FF1-5384-43FB-8729-4494DB7BAC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50104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SVP-TE extensions for services aware MP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fuxh-mpls-delay-loss-rsvp-te-ext-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286080"/>
            <a:ext cx="69865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ihua Fu, Malcolm Betts, Qilei Wang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Z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ave McDysan, Andrew Malis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Veriz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. Manral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ewlett-Packard Cor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120" y="142848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d at 7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CAMP, split from framework document and transferred to MPLS after 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extend RSVP-TE protocol to promote SLA experience of latency and packet loss application in inter-AS, inter-Area or multi-layer net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facilitate the component link selection or creation based on latency and packet loss constrai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facilitate the FA selection or FA-LSP creation based on latency and packet loss constrai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umulate latency of links and nodes along one LSP across multi-domain so that an latency validation decision can be made at the source nod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coding Up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28592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d the format of “Latency SLA Parameters” to aligned with the format with ERO subo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844640" y="4929120"/>
            <a:ext cx="5629320" cy="14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785960" y="2357280"/>
            <a:ext cx="5643720" cy="1695600"/>
          </a:xfrm>
          <a:prstGeom prst="rect">
            <a:avLst/>
          </a:prstGeom>
          <a:ln w="0">
            <a:noFill/>
          </a:ln>
        </p:spPr>
      </p:pic>
      <p:sp>
        <p:nvSpPr>
          <p:cNvPr id="56" name="下箭头 6"/>
          <p:cNvSpPr/>
          <p:nvPr/>
        </p:nvSpPr>
        <p:spPr>
          <a:xfrm>
            <a:off x="4429080" y="428616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356840"/>
            <a:ext cx="8472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ine the document according to the feedback of meeting and l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7:39:15Z</dcterms:created>
  <dc:creator>王其磊</dc:creator>
  <dc:description/>
  <dc:language>en-US</dc:language>
  <cp:lastModifiedBy>付锡华</cp:lastModifiedBy>
  <dcterms:modified xsi:type="dcterms:W3CDTF">2011-11-17T02:34:38Z</dcterms:modified>
  <cp:revision>447</cp:revision>
  <dc:subject/>
  <dc:title>幻灯片 1</dc:title>
</cp:coreProperties>
</file>