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72FB-8CB7-49CA-96F1-AB39F71A81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6884-1CA3-403E-B1D0-9B9B9FFEBF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149-5229-4360-ACD7-6C16008D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A51-3F40-43EF-A209-75B9F987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F75-0108-42CB-A017-DFCC92B7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576-8804-41AA-9A79-B90BF643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22D-FC81-4B80-BD0C-C80AC856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6B0-D780-4239-BB9D-A6D2F4EF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1C0-A50C-4A19-83FA-CCDE7478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D12-9B61-4FF5-BABC-A6374C38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2C2-20A6-46CE-B3CE-5851B98C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645-C33D-4F12-980B-1262B823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05B-5D25-49B2-9052-5C31ABE0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60E-52B8-4201-8EEB-5738B1E6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DA3F-74E6-4516-9142-E218D3B1B9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50104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SVP-TE extensions for services aware MP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fuxh-mpls-delay-loss-rsvp-te-ext-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286080"/>
            <a:ext cx="69865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ihua Fu, Malcolm Betts, Qilei Wang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Z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ave McDysan, Andrew Malis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Veriz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. Manral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ewlett-Packard Cor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120" y="142848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d at 7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CAMP, split from framework document and transferred to MPLS after 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extend RSVP-TE protocol to promote SLA experience of latency and packet loss application in inter-AS, inter-Area or multi-layer net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facilitate the component link selection or creation based on latency and packet loss constrai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facilitate the FA selection or FA-LSP creation based on latency and packet loss constrai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umulate latency of links and nodes along one LSP across multi-domain so that an latency validation decision can be made at the source nod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coding Up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28592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d the format of “Latency SLA Parameters” to aligned with the format with ERO subo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844640" y="4929120"/>
            <a:ext cx="5629320" cy="14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785960" y="2357280"/>
            <a:ext cx="5643720" cy="1695600"/>
          </a:xfrm>
          <a:prstGeom prst="rect">
            <a:avLst/>
          </a:prstGeom>
          <a:ln w="0">
            <a:noFill/>
          </a:ln>
        </p:spPr>
      </p:pic>
      <p:sp>
        <p:nvSpPr>
          <p:cNvPr id="56" name="下箭头 6"/>
          <p:cNvSpPr/>
          <p:nvPr/>
        </p:nvSpPr>
        <p:spPr>
          <a:xfrm>
            <a:off x="4429080" y="428616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356840"/>
            <a:ext cx="8472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ine the document according to the feedback of meeting and l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7:39:15Z</dcterms:created>
  <dc:creator>王其磊</dc:creator>
  <dc:description/>
  <dc:language>en-US</dc:language>
  <cp:lastModifiedBy>付锡华</cp:lastModifiedBy>
  <dcterms:modified xsi:type="dcterms:W3CDTF">2011-11-17T02:34:38Z</dcterms:modified>
  <cp:revision>447</cp:revision>
  <dc:subject/>
  <dc:title>幻灯片 1</dc:title>
</cp:coreProperties>
</file>