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C065-8501-4C27-BDE7-79E0B603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983F-876E-47AA-8C0B-7E4EAF0F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1C2-4C36-4BCB-B48C-7F3E625E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E2F-BF9F-412F-A49B-B52151D1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30DE-5146-4184-B5C8-64852B0D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D8E9-D8E6-48FF-A044-09ADBBB7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3678-5CD7-4469-B686-EE273D98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BA8-7AE9-4CE1-8A23-588DA6FA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7D4-78BF-4E8C-B409-0BAAA50C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1C08-C34C-4304-8901-CB32A364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D6CD-8B62-470E-8122-D8AB6CE6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BE38-DE6C-46EB-8BBB-819C41C5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th Mar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th IETF @ Pra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A2AC-58CC-4415-AB1F-F93A3462A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LDP Extensions 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for  Multi  Topology Rou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2743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draft-ietf-mpls-ldp-multi-topology-01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914400" y="3962520"/>
            <a:ext cx="76960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Quintin Zhao, Huaimo Chen, Emily Chen, Huaw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Luyuan Fang, Chao Zhou, Kamran Raza, Cisco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Lianyuan Li, Lu Huang,  Cheng Li, China Mo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Ning So,  Veriz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Raveendra  Torvi,  Juni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Questions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&amp;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Updates in the 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ndara"/>
              </a:rPr>
              <a:t>Thanks for the comments from Eric Rosen and Daniel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New author Kamran Raza  has joined thi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ndara"/>
              </a:rPr>
              <a:t>The main updates in the drafts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ndara"/>
                <a:ea typeface="宋体"/>
              </a:rPr>
              <a:t>Cleaned up significant portions of text  by removing the discussion related to the forwarding for readability and streamlining the dra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ndara"/>
                <a:ea typeface="宋体"/>
              </a:rPr>
              <a:t>Added a Manageability Considerations s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ndara"/>
                <a:ea typeface="宋体"/>
              </a:rPr>
              <a:t>Added Requirements Language and used language across various sections of the docu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MT Applicability on FEC-based features section is ad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ndara"/>
                <a:ea typeface="宋体"/>
              </a:rPr>
              <a:t>Updated the references, especially the new LDP specification  draft (RFC5036) which recently replaced RFC30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The main  pending issues  for the current version of the draft:</a:t>
            </a:r>
            <a:r>
              <a:rPr b="0" lang="en-GB" sz="2000" spc="-1" strike="noStrike">
                <a:solidFill>
                  <a:srgbClr val="000000"/>
                </a:solidFill>
                <a:latin typeface="Candara"/>
              </a:rPr>
              <a:t>  The choices of MPLS Multiple Topology ID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Updates in the 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ndara"/>
                <a:ea typeface="宋体"/>
              </a:rPr>
              <a:t>MPLS Multiple Topology ID representation  Option 1 :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define a new TLV for MT-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72388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Updates in the 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ndara"/>
                <a:ea typeface="宋体"/>
              </a:rPr>
              <a:t>Label Mapping Message Example using MPLS Multiple Topology ID representation  Option 1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69608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Updates in the 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ndara"/>
                <a:ea typeface="宋体"/>
              </a:rPr>
              <a:t>MPLS Multiple Topology ID representation  Option 2: 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define a new FEC TLV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54380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Updates in the 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ndara"/>
                <a:ea typeface="宋体"/>
              </a:rPr>
              <a:t>Label Mapping Message Example using MPLS Multiple Topology ID representation  Option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86263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Updates in the 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ndara"/>
                <a:ea typeface="宋体"/>
              </a:rPr>
              <a:t>MPLS Multiple Topology ID representation  Option 3: 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define new address families to represent the prefixes associated to a specific topology. (The details of this option will be added into the next version of the draf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466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Updates in the 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ndara"/>
                <a:ea typeface="宋体"/>
              </a:rPr>
              <a:t>Label Mapping Message Example using MPLS Multiple Topology ID representation  Option 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693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The authors will update the draft to include the details of the third option for the representation of MPLS Multiple Topology 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The authors request WG experts to review and comment on the  three choices of the representation of MPLS Multiple Topology 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12:48Z</dcterms:created>
  <dc:creator>d70584</dc:creator>
  <dc:description/>
  <dc:language>en-US</dc:language>
  <cp:lastModifiedBy>Z73671</cp:lastModifiedBy>
  <dcterms:modified xsi:type="dcterms:W3CDTF">2011-11-13T09:57:47Z</dcterms:modified>
  <cp:revision>77</cp:revision>
  <dc:subject/>
  <dc:title>PCEP-P2MP-MI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3)V5ur/HwsoN2jRShJTC+DmrxxJWxs/8v/dEsMqmoPakhHiwOTYa60QCAVlpHl5d4tGl1UIXwZ
nJWZW2zbLca4kSZqR17p1uP9zrwPacGSPXme4xCMIRFlazZumtCWR8tdzehy/5uy4nX1y5SU
W1+HtL/pmmkidpQibSxDxxoIaXV8p6zbYlkjaiYdvwNa8OogBPV+9Hpulgbrk70fdC/MTIAx
+voEFoPi/AMqn4P9OInRm</vt:lpwstr>
  </property>
  <property fmtid="{D5CDD505-2E9C-101B-9397-08002B2CF9AE}" pid="3" name="_ms_pID_7253431">
    <vt:lpwstr>TofeKa8yACVtbhklRdTuThz+hZGpozGWItaOmTaxqdevS3sruVt
1ikCE3Ty70hlddMX3Wg6LDgYRiSw9WjDDIJL2Bcw94rwY2wRQ2JlT74r9GZ3Drssn0ls9QF/
/dgIqCK+9xFHV0n/xvJWdd954mDtMFqClmvCYkdQSSrqEe5/NEaFSNSfYXTjiTYSaOOnszdL
mmM5ur6ebDYIQ97L61UmUzYbWccGoy2Uh6SZTlaZ5Z</vt:lpwstr>
  </property>
  <property fmtid="{D5CDD505-2E9C-101B-9397-08002B2CF9AE}" pid="4" name="_ms_pID_7253432">
    <vt:lpwstr>z/KdCl3ciM3SpHxv4dlEfuFuoo29Ea
0YVVpkCtb/D2lkODJ1ql9fze90pfkABiMa2doE2l7KkVAi8Dgj4=</vt:lpwstr>
  </property>
  <property fmtid="{D5CDD505-2E9C-101B-9397-08002B2CF9AE}" pid="5" name="sflag">
    <vt:lpwstr>1321178187</vt:lpwstr>
  </property>
</Properties>
</file>