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D13-0483-4E35-8B76-D89199FA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108-936D-46B0-9731-7FA072F7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638-6F14-41DD-813F-F419C849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6E9-13C5-42DF-A041-DABE1223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83D-4166-465C-BA30-A2EFEA11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658-0E26-4547-A3A3-C94B8DCA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21E-291E-4DC9-A5A3-4936570B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433-E3AA-4D9C-84D2-C2F93389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0C9-8074-4836-875E-FE006A32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6DD-5FA8-436C-8BA1-50FB4108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7B8-DA7B-4FF6-9DFE-3F3E6B16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E46-D7B4-4EDE-9D0B-6EDEFE6B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th Ma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th IETF @ Pra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3577-10E0-449C-9248-B63A5EBFB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LDP Extensions 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for  Multi  Topology Rou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draft-ietf-mpls-ldp-multi-topology-01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914400" y="3962520"/>
            <a:ext cx="76960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Quintin Zhao, Huaimo Chen, Emily Chen, Huaw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Luyuan Fang, Chao Zhou, Kamran Raza, Cisco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Lianyuan Li, Lu Huang,  Cheng Li, China Mo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Ning So,  Veriz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Raveendra  Torvi,  Juni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Questions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&amp;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in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ndara"/>
              </a:rPr>
              <a:t>Thanks for the comments from Eric Rosen and Daniel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New author Kamran Raza  has joined thi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</a:rPr>
              <a:t>The main updates in the drafts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Cleaned up significant portions of text  by removing the discussion related to the forwarding for readability and streamlining the dra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Added a Manageability Considerations s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Added Requirements Language and used language across various sections of the docu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MT Applicability on FEC-based features section is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Updated the references, especially the new LDP specification  draft (RFC5036) which recently replaced RFC30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e main  pending issues  for the current version of the draft:</a:t>
            </a:r>
            <a:r>
              <a:rPr b="0" lang="en-GB" sz="2000" spc="-1" strike="noStrike">
                <a:solidFill>
                  <a:srgbClr val="000000"/>
                </a:solidFill>
                <a:latin typeface="Candara"/>
              </a:rPr>
              <a:t>  The choices of MPLS Multiple Topology ID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in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MPLS Multiple Topology ID representation  Option 1 :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define a new TLV for MT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72388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in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Label Mapping Message Example using MPLS Multiple Topology ID representation  Option 1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9608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in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MPLS Multiple Topology ID representation  Option 2: 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define a new FEC TLV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54380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in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Label Mapping Message Example using MPLS Multiple Topology ID representation  Option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86263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in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MPLS Multiple Topology ID representation  Option 3: 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宋体"/>
              </a:rPr>
              <a:t>define new address families to represent the prefixes associated to a specific topology. (The details of this option will be added into the next version of the draf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66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ndara"/>
              </a:rPr>
              <a:t>Updates in the 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  <a:ea typeface="宋体"/>
              </a:rPr>
              <a:t>Label Mapping Message Example using MPLS Multiple Topology ID representation  Option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9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ETF @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e authors will update the draft to include the details of the third option for the representation of MPLS Multiple Topology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e authors request WG experts to review and comment on the  three choices of the representation of MPLS Multiple Topology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d70584</dc:creator>
  <dc:description/>
  <dc:language>en-US</dc:language>
  <cp:lastModifiedBy>Z73671</cp:lastModifiedBy>
  <dcterms:modified xsi:type="dcterms:W3CDTF">2011-11-13T09:57:47Z</dcterms:modified>
  <cp:revision>77</cp:revision>
  <dc:subject/>
  <dc:title>PCEP-P2MP-M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V5ur/HwsoN2jRShJTC+DmrxxJWxs/8v/dEsMqmoPakhHiwOTYa60QCAVlpHl5d4tGl1UIXwZ
nJWZW2zbLca4kSZqR17p1uP9zrwPacGSPXme4xCMIRFlazZumtCWR8tdzehy/5uy4nX1y5SU
W1+HtL/pmmkidpQibSxDxxoIaXV8p6zbYlkjaiYdvwNa8OogBPV+9Hpulgbrk70fdC/MTIAx
+voEFoPi/AMqn4P9OInRm</vt:lpwstr>
  </property>
  <property fmtid="{D5CDD505-2E9C-101B-9397-08002B2CF9AE}" pid="3" name="_ms_pID_7253431">
    <vt:lpwstr>TofeKa8yACVtbhklRdTuThz+hZGpozGWItaOmTaxqdevS3sruVt
1ikCE3Ty70hlddMX3Wg6LDgYRiSw9WjDDIJL2Bcw94rwY2wRQ2JlT74r9GZ3Drssn0ls9QF/
/dgIqCK+9xFHV0n/xvJWdd954mDtMFqClmvCYkdQSSrqEe5/NEaFSNSfYXTjiTYSaOOnszdL
mmM5ur6ebDYIQ97L61UmUzYbWccGoy2Uh6SZTlaZ5Z</vt:lpwstr>
  </property>
  <property fmtid="{D5CDD505-2E9C-101B-9397-08002B2CF9AE}" pid="4" name="_ms_pID_7253432">
    <vt:lpwstr>z/KdCl3ciM3SpHxv4dlEfuFuoo29Ea
0YVVpkCtb/D2lkODJ1ql9fze90pfkABiMa2doE2l7KkVAi8Dgj4=</vt:lpwstr>
  </property>
  <property fmtid="{D5CDD505-2E9C-101B-9397-08002B2CF9AE}" pid="5" name="sflag">
    <vt:lpwstr>1321178187</vt:lpwstr>
  </property>
</Properties>
</file>