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610-5152-4E00-BFC8-E08FF612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57F-67F6-4FD7-B3E3-87CE1EAA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0ED-A891-4C8F-82F2-579CAE91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F5F-30CC-49A2-A950-5A6B80A1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FB4-CF64-4712-B2EE-1D59A39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365-DEAE-429B-8F04-EF12551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ACE-F519-46DF-B0C2-F9BBE4B4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3E6-6ADC-4637-937F-6C427DFE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ACB-2606-4039-BF21-5D05517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2F0-70D2-4ABA-9092-1B9BC83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9E9-93C4-4C21-8713-27C566F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393-5A2D-4905-A89F-C6559FA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611-341A-45D7-93B4-C2A6C48B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32048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MPLS-TP TE MI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3267000"/>
            <a:ext cx="70228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mpls-tp-te-mib-00.t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 Aldr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m Nadeau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nkatesan Mahaling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annan Sampat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2600" y="1828800"/>
            <a:ext cx="905508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xisting MPLS TE [RFC3812] and GMPLS MIBs [RFC4802] do not support the transport network requirements of NON-IP based management and static bidirectional tunnel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PLS TP extensions to TE MI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600" y="1828800"/>
            <a:ext cx="905508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Tunnel Table in MPLS-TE-STB-MIB is used for MPLS TP tunnels as wel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Node Configuration Table is being added to map Global ID and Node ID combination and/or ICC identifier for Ingress and Egress LSR’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local number generated for the combination, will be used to index into MPLS Tunnel Tabl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Tunnel Table is augmented to support MPLS TP specific obje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2600" y="1828800"/>
            <a:ext cx="90550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IB definitions of Textual Conventions, Identifiers and LSR extensions are retained in MPLS-TP TE MIB draft for easy mainten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s are received for making the MPLS-TP TE MIB as read-only MI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MPLS TP MIB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Working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828800"/>
            <a:ext cx="905508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support MPLS TP OAM requirements, more MIBS are being added and will appear after the IETF meeting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TP Protection Schemes (LPS, RPS and MPS) support using MI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Loss and Delay measurements using MI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1828800"/>
            <a:ext cx="90550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clusion on read-only MI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st Call will be reques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2240" y="318276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