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F84-B35F-4DA4-9FEC-88DDAC6C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A88-CC56-4316-A306-DA758682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76D-DFAB-4CED-A887-D4B15B66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1C3-CE31-4F85-B6EC-024460B4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B74-FDF6-4FCE-87B2-55292339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A98-838D-4D3D-9B9C-0A61F648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0F0-BEC0-474A-AF98-A190E4E7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B86-CD85-406A-A211-CE97EA8C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AB9A-D752-47EB-97F9-14D9AF01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40E-2BC0-4F4C-A22E-101F4CCD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37BA-82CC-45AE-8A27-13873BF4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BF6-C073-46C9-8564-8C96C6E0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4DC1-8602-4828-AABF-3C1608276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132048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MPLS-TP TE MIB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3267000"/>
            <a:ext cx="70228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-ietf-mpls-tp-te-mib-00.t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am Aldr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m Nadeau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enkatesan Mahalingam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annan Sampath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2600" y="1828800"/>
            <a:ext cx="905508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existing MPLS TE [RFC3812] and GMPLS MIBs [RFC4802] do not support the transport network requirements of NON-IP based management and static bidirectional tunnel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PLS TP extensions to TE MIB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2600" y="1828800"/>
            <a:ext cx="9055080" cy="49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PLS Tunnel Table in MPLS-TE-STB-MIB is used for MPLS TP tunnels as wel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PLS Node Configuration Table is being added to map Global ID and Node ID combination and/or ICC identifier for Ingress and Egress LSR’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local number generated for the combination, will be used to index into MPLS Tunnel Tabl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PLS Tunnel Table is augmented to support MPLS TP specific objec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2600" y="1828800"/>
            <a:ext cx="905508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MIB definitions of Textual Conventions, Identifiers and LSR extensions are retained in MPLS-TP TE MIB draft for easy mainten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ents are received for making the MPLS-TP TE MIB as read-only MI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MPLS TP MIB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Working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2600" y="1828800"/>
            <a:ext cx="9055080" cy="35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 support MPLS TP OAM requirements, more MIBS are being added and will appear after the IETF meeting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PLS TP Protection Schemes (LPS, RPS and MPS) support using MIB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PLS Loss and Delay measurements using MIB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2600" y="1828800"/>
            <a:ext cx="90550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clusion on read-only MIB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st Call will be request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2240" y="3182760"/>
            <a:ext cx="90550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