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9D90-9282-4400-BA1D-FA1811E3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7546-FB9E-476A-B694-E051F9AB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AA50-F76D-4C11-841D-79B6809C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0AF7-7B0A-4044-8EE3-C89596CCD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A8BC-BEDC-4421-904D-3D26CF15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1C02-14DE-41E6-B2E3-FBB0C816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A639-4D8C-4FCB-8A46-1466B6A1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2A41-3264-49C0-A83C-8F21EBB1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DFD8-060F-44A6-9B73-FA4B2590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DADD-D585-47DC-8CAC-789326E2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DD56-93DC-49DA-8F23-A161D993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C96C-2E49-462A-8F33-92D026B4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65E7-156B-4B3D-930F-AF643F63B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6400" y="1320480"/>
            <a:ext cx="8547120" cy="15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Arial"/>
              </a:rPr>
              <a:t>MPLS-TP OAM ID MIB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68520" y="3267000"/>
            <a:ext cx="7022880" cy="50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ft-vkst-mpls-tp-oam-id-mib-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 Aldr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m Nadea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nkatesan Mahaling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nnan Sampa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ing P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i Bou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52240" y="50760"/>
            <a:ext cx="905508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23840" y="1996920"/>
            <a:ext cx="9055080" cy="18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existing MPLS MIBs do not support the requirement of OAM operations through Transport Network specific Maintenance Identifier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52240" y="50760"/>
            <a:ext cx="905508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23840" y="1996920"/>
            <a:ext cx="905508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s draft defines the identifiers for MPLS-TP LSPs, Pseudowires and sections for OAM operation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OAM MIB module defines following tables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plsOamMegTab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plsOamMeTab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new tables are generic enough to handle both the IP and/or ICC operator based TP identifier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52240" y="50760"/>
            <a:ext cx="905508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pda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23840" y="1996920"/>
            <a:ext cx="905508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orage type MIB definitions are add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re descriptions are added for MIB objec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PLS-TP identifiers (RFC-6370) changes are incorporated in the latest vers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2600" y="1828800"/>
            <a:ext cx="9055080" cy="23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es the WG find this work useful and satisfying of the chartered items for MPLS-TP OAM identifier MIB module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o, we ask that the WG Accept draft-vkst-mpls-tp-oam-id-mib-01 as WG docu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dditional comments/review are request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2240" y="3182760"/>
            <a:ext cx="90550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