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D93-0416-4957-B16D-C9E0A7B6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CA1-9AA7-41D8-BB40-56BDEBA0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ADB-002B-47BD-A94B-8BDC58F9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39C-4356-4DCF-9469-CA1957C1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2F2-DD3D-480B-8DA7-ACB604DE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772-3D48-4CD5-8DDE-12087CFB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B9C-608F-497E-A366-8FD48A2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489-DB63-4009-A8F1-2461C06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4F7-3F02-4F12-9179-7EEA3A1E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D7D-4D22-47CC-B230-0B7E1C23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262-BF63-409A-9691-0908C6F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D0E-9C4E-4A24-B4DA-17EE23A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BF6F-8092-4B63-B01D-CF400CDBD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32048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MPLS-TP OAM ID MI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3267000"/>
            <a:ext cx="702288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vkst-mpls-tp-oam-id-mib-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 Aldr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 Nad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katesan Mahaling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nnan Sam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ng 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i Bou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23840" y="1996920"/>
            <a:ext cx="905508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xisting MPLS MIBs do not support the requirement of OAM operations through Transport Network specific Maintenance Identifi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23840" y="1996920"/>
            <a:ext cx="9055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draft defines the identifiers for MPLS-TP LSPs, Pseudowires and sections for OAM opera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OAM MIB module defines following table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plsOamMeg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plsOamMe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ew tables are generic enough to handle both the IP and/or ICC operator based TP identifi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3840" y="1996920"/>
            <a:ext cx="9055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 type MIB definitions are add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descriptions are added for MIB ob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PLS-TP identifiers (RFC-6370) changes are incorporated in the latest vers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828800"/>
            <a:ext cx="90550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the WG find this work useful and satisfying of the chartered items for MPLS-TP OAM identifier MIB modul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o, we ask that the WG Accept draft-vkst-mpls-tp-oam-id-mib-01 as WG docu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itional comments/review are reques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318276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