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D52F-D430-4303-A8F8-F599AB176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4074-A12B-42F9-A9AF-2B08323B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522C-D16E-4F93-AF33-76CF9EA30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9D94-80C3-4D2B-AE34-CA2B9FB12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9F86-D7FB-4BBF-A954-338B8964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E732-4E48-4D6E-97EC-06707EDD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321F-F8E6-4913-B744-574A110B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DE45-B009-4944-AA36-09BA9C43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DA7C-2B0E-43AB-A391-DE35D11B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A200-9891-4025-A83F-3277E9F3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3326-B4CD-4BCB-8F6C-6E2FFC71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D310-A972-47B8-A5EE-B6D9296C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2C2D-A7FD-460B-9DBD-8B81A0151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4960" y="660240"/>
            <a:ext cx="854712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BFD MIB Extensions for MPLS and MPLS-TP Network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2520" y="2099880"/>
            <a:ext cx="702324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ft-vkst-bfd-mpls-mib-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3460680"/>
            <a:ext cx="7023240" cy="31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 Aldr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m Nad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katesan Mahaling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kund M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nnan KV Sam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2240" y="182880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isting BFD MIB [draft-ietf-bfd-mib-10] models the BFD protocol functionality to support neighbor monitoring in IP networks. It does not support the requirements for usage of BFD over MPLS and MPLS-TP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52240" y="182880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draft defines extensions to the BFD-STD-MIB to configure BFD for MPLS and MPLS-TP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s described in the MIB will support the functionalities for BFD over MPLS [RFC 5884] and Proactive CC-CV-RDI for MPLS-TP using BFD [draft-ietf-mpls-tp-cc-cv-rdi-06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IB defines the follo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s to BFD Session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s to BFD Session Performance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FD MIB Extension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52240" y="182880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FD Session Extension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 defined to identify BFD session parameters catering to MPLS/MPLS-TP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ssion Role (Active/Passiv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ssion Mode (CC/C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r Negotiation Flag – To enable/disable timer negot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 to associate the BFD session to the MPLS or MPLS-TP pa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Type – To specify the type of path being monitored (Non-TE LSP / TE LSP / PW / ME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pointer – Row pointer to associate the BFD session to the respective instance of the path being monitor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0">
              <a:lnSpc>
                <a:spcPct val="9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FD Session Performance Table Exten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counters for Mis-connectivity defects, Loss of Continuity defects, Remote Defect Ind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52240" y="355680"/>
            <a:ext cx="905508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sage of existing object bfdSessTyp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2000" y="2068560"/>
            <a:ext cx="9055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ing value “multiHopOutOfBandSignaling” of the object bfdSessType in BFD-STD-MIB will be used to identify OOB bootstrap mechanism for BFD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4160" y="1946160"/>
            <a:ext cx="6127560" cy="1981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245120" y="2770200"/>
            <a:ext cx="63000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45120" y="2021040"/>
            <a:ext cx="6300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ap Typ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64040" y="2770200"/>
            <a:ext cx="13525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plsTunnelName.100.1.10.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38560" y="2770200"/>
            <a:ext cx="91764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39920" y="2770200"/>
            <a:ext cx="9097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39920" y="2770200"/>
            <a:ext cx="8110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2770200"/>
            <a:ext cx="92700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64040" y="2021040"/>
            <a:ext cx="13525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ap Poin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38560" y="2021040"/>
            <a:ext cx="917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imer Negoti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39920" y="2021040"/>
            <a:ext cx="909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ession Mod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39920" y="2021040"/>
            <a:ext cx="8110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ession Ro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2021040"/>
            <a:ext cx="9270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BFD Session Index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095720" y="3005280"/>
            <a:ext cx="5556240" cy="3503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193240" y="5292720"/>
            <a:ext cx="9205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unnel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193240" y="4340160"/>
            <a:ext cx="920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PLS Tunnel Nam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86680" y="5292720"/>
            <a:ext cx="9205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6880" y="5292720"/>
            <a:ext cx="9223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72120" y="5292720"/>
            <a:ext cx="91764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65560" y="5292720"/>
            <a:ext cx="9190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86680" y="4340160"/>
            <a:ext cx="920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gress LSR I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76880" y="4340160"/>
            <a:ext cx="9223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gress LSR I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72120" y="4340160"/>
            <a:ext cx="917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unnel Inst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65560" y="4340160"/>
            <a:ext cx="9190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unnel Index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9153360" y="5280120"/>
            <a:ext cx="489240" cy="96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6359400" y="2994120"/>
            <a:ext cx="3283200" cy="23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924520" y="6740640"/>
            <a:ext cx="24638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tandard MPLS Tunnel T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84160" y="4179960"/>
            <a:ext cx="25066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FD Session Extension T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4640" y="1380960"/>
            <a:ext cx="47102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: BFD Session for MPLS TE tu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52240" y="182880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the WG find this work useful and satisfying for the chartered items towards BFD MIB module for MPLS and MPLS-TP network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o, we ask that the WG accept draft-vkst-bfd-mpls-mib-00 as WG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comments/reviews are reques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552240" y="182880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