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F53-4DC9-463F-B80D-B0FCCDF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CC5-3A35-4742-91B3-369F65F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3C7-4A90-46DC-8FDC-2FF39C16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8A6-C8E7-4466-B83F-599905D6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95F-A9C6-46FE-9D03-43CA0B8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4F6-AF6C-45CD-89E8-856376A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259-73F4-4793-8CD3-76A238E0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080-E55F-49A1-9457-D0E0366D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5ED-43D6-477B-81D1-48C8459A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5DC-188F-4B17-A9E7-AE34752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E86-2156-431A-B27B-04EF291A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7B8-AAEB-4BFA-B5E7-1EAF780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30E3-FD3E-4DF7-8FD6-9F0667C3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4960" y="660240"/>
            <a:ext cx="85471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FD MIB Extensions for MPLS and MPLS-TP Networ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520" y="2099880"/>
            <a:ext cx="70232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vkst-bfd-mpls-mib-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460680"/>
            <a:ext cx="702324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kund M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nan KV Sam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isting BFD MIB [draft-ietf-bfd-mib-10] models the BFD protocol functionality to support neighbor monitoring in IP networks. It does not support the requirements for usage of BFD over MPLS and MPLS-TP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raft defines extensions to the BFD-STD-MIB to configure BFD for MPLS and MPLS-TP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described in the MIB will support the functionalities for BFD over MPLS [RFC 5884] and Proactive CC-CV-RDI for MPLS-TP using BFD [draft-ietf-mpls-tp-cc-cv-rdi-0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B defines the fol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BFD Sess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BFD Session Performanc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FD MIB Exten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FD Session Extens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defined to identify BFD session parameters catering to MPLS/MPLS-TP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Role (Active/Pass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Mode (CC/C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Negotiation Flag – To enable/disable timer nego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to associate the BFD session to the MPLS or MPLS-TP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Type – To specify the type of path being monitored (Non-TE LSP / TE LSP / PW / M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pointer – Row pointer to associate the BFD session to the respective instance of the path being monito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FD Session Performance Table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ounters for Mis-connectivity defects, Loss of Continuity defects, Remote Defect Ind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355680"/>
            <a:ext cx="905508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age of existing object bfdSessTyp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068560"/>
            <a:ext cx="9055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value “multiHopOutOfBandSignaling” of the object bfdSessType in BFD-STD-MIB will be used to identify OOB bootstrap mechanism for BFD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1946160"/>
            <a:ext cx="6127560" cy="19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45120" y="2770200"/>
            <a:ext cx="630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45120" y="2021040"/>
            <a:ext cx="630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p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64040" y="2770200"/>
            <a:ext cx="1352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lsTunnelName.100.1.10.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38560" y="2770200"/>
            <a:ext cx="917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39920" y="2770200"/>
            <a:ext cx="909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9920" y="2770200"/>
            <a:ext cx="8110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770200"/>
            <a:ext cx="927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64040" y="2021040"/>
            <a:ext cx="1352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p Poin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38560" y="2021040"/>
            <a:ext cx="91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imer Negot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920" y="2021040"/>
            <a:ext cx="909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ession Mo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39920" y="2021040"/>
            <a:ext cx="81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ession Ro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21040"/>
            <a:ext cx="927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FD Session Ind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95720" y="3005280"/>
            <a:ext cx="5556240" cy="350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93240" y="5292720"/>
            <a:ext cx="920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nel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3240" y="4340160"/>
            <a:ext cx="920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PLS Tunnel 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6680" y="5292720"/>
            <a:ext cx="920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6880" y="5292720"/>
            <a:ext cx="922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2120" y="5292720"/>
            <a:ext cx="917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5292720"/>
            <a:ext cx="9190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86680" y="4340160"/>
            <a:ext cx="92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gress LSR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6880" y="4340160"/>
            <a:ext cx="922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gress LSR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2120" y="4340160"/>
            <a:ext cx="91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unnel Inst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65560" y="4340160"/>
            <a:ext cx="919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unnel Ind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53360" y="5280120"/>
            <a:ext cx="489240" cy="96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59400" y="2994120"/>
            <a:ext cx="3283200" cy="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24520" y="6740640"/>
            <a:ext cx="2463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 MPLS Tunnel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4160" y="4179960"/>
            <a:ext cx="2506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FD Session Extension 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640" y="1380960"/>
            <a:ext cx="4710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BFD Session for MPLS TE 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WG find this work useful and satisfying for the chartered items towards BFD MIB module for MPLS and MPLS-T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, we ask that the WG accept draft-vkst-bfd-mpls-mib-00 as WG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mments/reviews ar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