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1B4-26FA-4E24-BC02-BC1FC9F1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FE0-985F-44B5-A947-13A2470B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C6C-6CC9-4197-B6DE-33E89925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8F5-56B6-490E-83B3-85F9FD5A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3F6-9AF8-4EB6-90C3-9A4B0A06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5C7-35E1-4D68-BF57-D1F891FC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F66-05D0-49F6-9FFC-C572AB06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973-EE9B-4DAD-8F3B-E29F06C6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1DC-17CA-4B46-9B7D-2D189D78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AD0-D669-4F5B-9800-C16BD51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B79-FF9D-4ED8-B442-34A94393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8DE-5AAC-4942-A435-C96A76AC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84DE-B81C-4B20-9105-5B7BF38AA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and Framework for Unified MPLS Sub-Network Interconnection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allan-unified-mpls-req-frmwk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e A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.i.allan@erics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 was “Interworking between MPLS-TP and IP/MP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aft-martinotti-mpls-tp-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alized it was a prime, but not the only practical example of  “FOO to BAR” interworking in the MPL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 to FOO” had been previously expl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IP/MPLS Forum M-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uld make sense to generalize mechanisms to support “FOO to BAR” interworking scenarios to maximize ut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456480"/>
            <a:ext cx="8273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 has numerous operating models or “profiles” that can be interconnected or sta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rastruct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pology driven, traffic engineered,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ic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PLS, VPWS, BGP L3 VPN, BGP MPLS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with a variety of control plane/management pla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ing MPLS has typically seen a logical decoupling of the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operational impacts and permits “separation of interest” between infrastructure, operation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: overlaying BGP VPN on hop-by-hop LDP just “work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has permitted process “re-engineering” by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s be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ate is the same logical decoupling and “separation of interests” for peer interconn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his is what the Sub-Network Interconnect draft sets out to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3840" y="381960"/>
            <a:ext cx="7826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of the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19320"/>
            <a:ext cx="835164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aft lays out a framework and requirements to permit definition of the “meta rules” for mapping connectivity in one sub-network to another sub-network at a particular labe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ed to the level of how LSPs are identified in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his domain “A” LSP to this domain “B”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ultimately resolve down to label mappings at a bord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required is a generalized object that permits any MPLS LSP/PW description to be mapped to any other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object will have a number of attributes independent of the sub-networks that are inter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overall solution will have a number of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a common set of OAM DP identifiers/encaps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enabled by the MPLS-TP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able operation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tless adds/moves/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binding is independent of the state of the LSP in each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83516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 link (effectively two border nodes back to back, with a one-hop sub-network between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033640"/>
            <a:ext cx="3556080" cy="1395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ub-network “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03480"/>
            <a:ext cx="7826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er draft-martino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6640" y="2079720"/>
            <a:ext cx="3556080" cy="1395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ub-network “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7000" y="1854360"/>
            <a:ext cx="1395360" cy="16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41640" y="1989000"/>
            <a:ext cx="1125720" cy="405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P/MP I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41640" y="2619360"/>
            <a:ext cx="405000" cy="316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37000" y="261936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62360" y="3024360"/>
            <a:ext cx="405000" cy="31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1640" y="302436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6640" y="2664000"/>
            <a:ext cx="135000" cy="1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571280" y="3114720"/>
            <a:ext cx="135000" cy="1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22360" y="1628640"/>
            <a:ext cx="628920" cy="495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3440" y="1673280"/>
            <a:ext cx="628560" cy="495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1898640"/>
            <a:ext cx="1170000" cy="225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067360" y="1854360"/>
            <a:ext cx="1170000" cy="225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02360" y="4959360"/>
            <a:ext cx="2386080" cy="1395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ub-network “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6640" y="4959360"/>
            <a:ext cx="2430720" cy="1395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ub-network “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780080"/>
            <a:ext cx="1395720" cy="16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06640" y="4915080"/>
            <a:ext cx="1125720" cy="404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P/MP I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6640" y="5545080"/>
            <a:ext cx="405000" cy="316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02000" y="554508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27360" y="5950080"/>
            <a:ext cx="405000" cy="31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06640" y="595008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1640" y="5589720"/>
            <a:ext cx="135000" cy="1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36280" y="6040440"/>
            <a:ext cx="135000" cy="1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85920" y="4554360"/>
            <a:ext cx="628560" cy="495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36640" y="4824360"/>
            <a:ext cx="1170000" cy="225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76640" y="4778280"/>
            <a:ext cx="1395720" cy="16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1640" y="4915080"/>
            <a:ext cx="1125720" cy="404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P/MP I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11640" y="5543640"/>
            <a:ext cx="405000" cy="31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07000" y="554364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32360" y="5948280"/>
            <a:ext cx="405000" cy="316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11640" y="5948280"/>
            <a:ext cx="630360" cy="314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H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16640" y="5587920"/>
            <a:ext cx="135000" cy="1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1280" y="6039000"/>
            <a:ext cx="135000" cy="1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283440" y="4599000"/>
            <a:ext cx="1574640" cy="495360"/>
            <a:chOff x="6283440" y="4599000"/>
            <a:chExt cx="1574640" cy="495360"/>
          </a:xfrm>
        </p:grpSpPr>
        <p:sp>
          <p:nvSpPr>
            <p:cNvPr id="86" name=""/>
            <p:cNvSpPr/>
            <p:nvPr/>
          </p:nvSpPr>
          <p:spPr>
            <a:xfrm>
              <a:off x="7229520" y="4599000"/>
              <a:ext cx="628560" cy="495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283440" y="4780080"/>
              <a:ext cx="11700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 rot="16200000">
            <a:off x="4368600" y="5385960"/>
            <a:ext cx="360360" cy="944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ly seeking WG feedb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we identified all the iss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gaps in current work to produce a “complete sol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36:04Z</dcterms:created>
  <dc:creator>ealldav</dc:creator>
  <dc:description/>
  <dc:language>en-US</dc:language>
  <cp:lastModifiedBy>ealldav</cp:lastModifiedBy>
  <dcterms:modified xsi:type="dcterms:W3CDTF">2011-11-10T14:59:05Z</dcterms:modified>
  <cp:revision>5</cp:revision>
  <dc:subject/>
  <dc:title>Requirements and Framework for Unified MPLS Sub-Network Interconnection  draft-allan-unified-mpls-req-frmwk-00</dc:title>
</cp:coreProperties>
</file>