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6AC0-1CB2-4152-8662-3A223390E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2D97-C0A1-4AC2-954A-DFA44DAF4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645-D326-43DC-B69E-0675A383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ECC-C309-4A65-BC04-CF686045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C39-EB27-4634-A2DE-9D54D2AA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77F-21D5-4BA5-B3F7-89705FB3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ADA-9D5E-4FBF-98F4-21F7693D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F22-C3AA-4E4D-BF3C-3D174F68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92F-B83B-4309-9BA6-CEF1CADC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374-0EC0-4961-BB9F-65920B8D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AC0-75B3-49B7-9DCB-F9E46D84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690-869C-4DDE-820E-53801C40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7CC-DB01-48EC-80EC-02810AF2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BD1-C592-4B64-8206-105A2F3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D591-A895-42B5-A455-2882F3CF7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etf.org/meeting/82/index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ETF -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aipei,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J. Wijn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e@cisc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Hitc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.hitchen@b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 Leyma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leymann@telekom.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. Henderick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m.henderickx@alcatel-lucen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3623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-wijnands-mpls-mldp-vpn-in-band-signaling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 VPNv6 bidir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Type          | Length                        | Mask Length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         RP               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        Group             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Route Distinguisher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: (to be assigned by IAN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: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k Length: Length of the mask for group address, 1 oct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P: IPv6 multicast address, 16 oct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: IPv6 multicast group address, 16 oc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: Route Distinguisher, 8 octets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P multicast flow maps to a L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if the number of multicast flows is under control by the op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DP is receiver driven, so its expected to scale well for thousands of LS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calability consideration is the same for both global table and VPN sourced multicast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olution is NOT intended to be used as general purpose MVPN, like in;  draft-ietf-l3vpn-2547bis-mcast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specific use-case where VRF’s just happen to be used for transporting IPTV like multicast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an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3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raft does describe minimal L3VPN specific procedures, the use of 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ietf-mpls-mldp-recurs-fec-04, does exactly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opose to follow the same path as done for recurs-fec, do the work in MPLS WG, potentially do an last-call in L3VPN W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s like to get comments on the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to make this a WG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we’re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raft-ietf-mpls-mldp-in-band-signaling-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cuments a solution to map (1:1) Multicast Source trees (S,G) to mLDP LS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ocumented for the sources that are in the global table context, no VR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umption at the time was that this is mostly used for IPTV like deployment which is in global table con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we’re solving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viders use specific, dedicated VRF’s to transport IPTV content across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licability of a simple 1:1 mapping of multicast Source trees to mLDP LSPs applies here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raft documents the procedures needed to transport Multicast sources trees in a VRF context over mLDP LSPs via in-band signa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ree information, like (S,G) or (*/M,G) is encoded in the opaque field of the mLDP FEC by the egress router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ing the RD of the Source (or RP) as advertised by BG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LDP LSP is build through the MPLS core with (S,G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or (*/M,G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ollows a similar approach as the VPN-recursive opaque encoding in:                  draft-ietf-mpls-mldp-recurs-fec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dding the RD we’re making the LSP unique in the cor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vents overlapping addr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PN IP multicast flow creates a unique LSP in the c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aque enco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fined 4 new opaque encod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 VPNv4 Source T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 VPNv6 Source T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 VPNv4 Bidir T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 VPNv6 Bidir T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 VPNv4 Source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Type          | Length                        |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Route Distinguisher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: (to be assigned by IAN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: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Pv4 multicast source address, 4 oct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: IPv4 multicast group address, 4 oc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: Route Distinguisher, 8 octets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 VPNv6 Source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Type          | Length                        | Source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                       | Group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                       |  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Route Distinguisher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: (to be assigned by IAN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: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Pv6 multicast source address, 16 oct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: IPv6 multicast group address, 16 oc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: Route Distinguisher, 8 octets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 VPNv4 bidir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Type          | Length                        | Mask Length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RP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Group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Route Distinguisher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: (to be assigned by IAN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: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k Length: Length of the mask for group address, 1 oct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P: IPv4 multicast address, 4 oct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: IPv4 multicast group address, 4 oc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: Route Distinguisher, 8 octets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7:19:31Z</dcterms:created>
  <dc:creator>Office 2004 Test Drive User</dc:creator>
  <dc:description/>
  <dc:language>en-US</dc:language>
  <cp:lastModifiedBy>Cisco</cp:lastModifiedBy>
  <dcterms:modified xsi:type="dcterms:W3CDTF">2011-11-13T10:26:17Z</dcterms:modified>
  <cp:revision>22</cp:revision>
  <dc:subject/>
  <dc:title>IETF Chicago</dc:title>
</cp:coreProperties>
</file>