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63D3-B4AE-46DB-BD33-1109276A2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CF48-2F53-415A-B1A5-0B5D082C8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7A79-D0E6-4C8C-ADB2-87F22BB6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D413-AF51-4B92-8A34-B059015F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6F55-BD77-4308-988A-C91C0AB5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49BC-F0D8-4D2F-B634-33848819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FFC0-A49E-4178-BE33-A5821807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3B08-1E3C-4245-9EDF-F49AFF46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73F1-DFD3-40E3-A760-CCD6DE7B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FDE9-2EC1-4D36-8799-7D62439C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CFD0-2B15-42DF-9A86-22CDF306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0A2C-216F-403E-B701-10CC03AB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BA53-2775-455A-9979-F0A9B4BB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5000-6654-4F2C-9F9E-BE4CEF3D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B346-FE73-4438-9348-555405ECB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etf.org/meeting/82/index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ETF -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aipei, Taiw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335232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J. Wijna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e@cisco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. Hitc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l.hitchen@b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. Leyman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.leymann@telekom.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. Henderick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m.henderickx@alcatel-lucen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23623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1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ft-wijnands-mpls-mldp-vpn-in-band-signaling-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it VPNv6 bidir TL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Type          | Length                        | Mask Length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~                                 RP                            ~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~                                Group                          ~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~                    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Route Distinguisher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~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e: (to be assigned by IAN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ngth: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k Length: Length of the mask for group address, 1 oct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P: IPv6 multicast address, 16 octet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: IPv6 multicast group address, 16 octe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: Route Distinguisher, 8 octets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IP multicast flow maps to a LS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ell if the number of multicast flows is under control by the oper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DP is receiver driven, so its expected to scale well for thousands of LS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calability consideration is the same for both global table and VPN sourced multicast tr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olution is NOT intended to be used as general purpose MVPN, like in;  draft-ietf-l3vpn-2547bis-mcast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specific use-case where VRF’s just happen to be used for transporting IPTV like multicast traff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pan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3V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draft does describe minimal L3VPN specific procedures, the use of 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-ietf-mpls-mldp-recurs-fec-04, does exactly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ropose to follow the same path as done for recurs-fec, do the work in MPLS WG, potentially do an last-call in L3VPN W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ing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s like to get comments on the dra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ntion is to make this a WG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we’re sol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raft-ietf-mpls-mldp-in-band-signaling-0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ocuments a solution to map (1:1) Multicast Source trees (S,G) to mLDP LS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documented for the sources that are in the global table context, no VR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ssumption at the time was that this is mostly used for IPTV like deployment which is in global table con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we’re solving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roviders use specific, dedicated VRF’s to transport IPTV content across the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pplicability of a simple 1:1 mapping of multicast Source trees to mLDP LSPs applies here as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draft documents the procedures needed to transport Multicast sources trees in a VRF context over mLDP LSPs via in-band signa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tree information, like (S,G) or (*/M,G) is encoded in the opaque field of the mLDP FEC by the egress router(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cluding the RD of the Source (or RP) as advertised by BG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LDP LSP is build through the MPLS core with (S,G,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or (*/M,G,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follows a similar approach as the VPN-recursive opaque encoding in:                  draft-ietf-mpls-mldp-recurs-fec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adding the RD we’re making the LSP unique in the core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vents overlapping addre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VPN IP multicast flow creates a unique LSP in the c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aque enco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efined 4 new opaque encod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 VPNv4 Source TL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 VPNv6 Source TL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 VPNv4 Bidir TL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 VPNv6 Bidir TL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it VPNv4 Source TL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Type          | Length                        |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  ~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~     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Route Distinguisher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e: (to be assigned by IAN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ngth: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IPv4 multicast source address, 4 octet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: IPv4 multicast group address, 4 octe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: Route Distinguisher, 8 octets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it VPNv6 Source TL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Type          | Length                        | Source        ~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~                                               | Group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~                                               |               ~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~     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Route Distinguisher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e: (to be assigned by IAN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ngth: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IPv6 multicast source address, 16 octet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: IPv6 multicast group address, 16 octe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: Route Distinguisher, 8 octets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it VPNv4 bidir TL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Type          | Length                        | Mask Length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                    RP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                   Group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~                    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Route Distinguisher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~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e: (to be assigned by IAN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ngth: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k Length: Length of the mask for group address, 1 oct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P: IPv4 multicast address, 4 octet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: IPv4 multicast group address, 4 octe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: Route Distinguisher, 8 octets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07:19:31Z</dcterms:created>
  <dc:creator>Office 2004 Test Drive User</dc:creator>
  <dc:description/>
  <dc:language>en-US</dc:language>
  <cp:lastModifiedBy>Cisco</cp:lastModifiedBy>
  <dcterms:modified xsi:type="dcterms:W3CDTF">2011-11-13T10:26:17Z</dcterms:modified>
  <cp:revision>22</cp:revision>
  <dc:subject/>
  <dc:title>IETF Chicago</dc:title>
</cp:coreProperties>
</file>