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2E22-AF2A-4241-B186-DC9705314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37F6-7F13-439D-83CC-C494586C6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7D4D-E05A-4E93-8307-DC8DEFD36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76AA-1DE0-4B0C-BD6E-433F570C1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5F60-E30F-4C92-8858-26AC3D2E9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0B6D-8D57-4379-BE7A-FE732E716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C466-C0BB-4C36-A02B-6AA070643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1677-F586-4917-95B4-B70AFDC2B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5E8E-D134-4FF2-B1EE-4A1AEED1D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CAC7-0744-4C81-A4C2-D44B67C2D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724F-A522-4B82-92F8-6188DF419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9029-7BFF-4D93-94EC-081D6BF9A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bdbd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3D73B-4478-4093-B4C4-7FE521DA3A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bdbd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37720" y="2209320"/>
            <a:ext cx="7162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P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ic Associated Channel Advertisement Protoc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raft-fbb-mpls-gach-adv-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2133720" y="4800600"/>
            <a:ext cx="5562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n Fro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danfrost@cisco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wart Bry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tbryant@cisco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thew Bocc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matthew.bocci@alcatel-lucen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1"/>
          <p:cNvSpPr/>
          <p:nvPr/>
        </p:nvSpPr>
        <p:spPr>
          <a:xfrm>
            <a:off x="7620120" y="304920"/>
            <a:ext cx="1371600" cy="5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ETF 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vember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P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bdbd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838080" y="151920"/>
            <a:ext cx="792504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-ACh Advertisement Protoc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990720" y="914400"/>
            <a:ext cx="7391160" cy="56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3200" indent="-403200">
              <a:spcBef>
                <a:spcPts val="15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e protocol f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e-way advertis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lication-specific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3200" indent="-403200">
              <a:spcBef>
                <a:spcPts val="15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damental use-case: a link-layer-agnostic equivalent to Ethernet’s Link Layer Discovery Protocol (LLDP) for MPLS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3200" indent="-403200">
              <a:spcBef>
                <a:spcPts val="15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s network operators an easy way to see basic information about adjacent nodes, and verify the network top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3200" indent="-403200">
              <a:spcBef>
                <a:spcPts val="15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tstrap capability: next-hop Ethernet address determination, MCC/SCC setup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3200" indent="-403200">
              <a:spcBef>
                <a:spcPts val="15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be used to advertise device capabilities and configuration parameters, alerting the operator of mismatches: link-layer settings, MTU, OAM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bdbd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716292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3"/>
          <p:cNvSpPr/>
          <p:nvPr/>
        </p:nvSpPr>
        <p:spPr>
          <a:xfrm>
            <a:off x="762120" y="1219320"/>
            <a:ext cx="8001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3200" indent="-403200">
              <a:spcBef>
                <a:spcPts val="15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operators find this functionality usefu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3200" indent="-403200">
              <a:spcBef>
                <a:spcPts val="15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 the WG want to pursue this wor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4"/>
          <p:cNvSpPr/>
          <p:nvPr/>
        </p:nvSpPr>
        <p:spPr>
          <a:xfrm>
            <a:off x="990720" y="4800600"/>
            <a:ext cx="739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ietf-1"/>
          <p:cNvPicPr/>
          <p:nvPr/>
        </p:nvPicPr>
        <p:blipFill>
          <a:blip r:embed="rId1"/>
          <a:stretch/>
        </p:blipFill>
        <p:spPr>
          <a:xfrm>
            <a:off x="4038480" y="5181480"/>
            <a:ext cx="990720" cy="5256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6"/>
          <p:cNvSpPr/>
          <p:nvPr/>
        </p:nvSpPr>
        <p:spPr>
          <a:xfrm>
            <a:off x="4191120" y="5638680"/>
            <a:ext cx="68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8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8T14:30:24Z</dcterms:created>
  <dc:creator>-</dc:creator>
  <dc:description/>
  <cp:keywords/>
  <dc:language>en-US</dc:language>
  <cp:lastModifiedBy>danfrost</cp:lastModifiedBy>
  <dcterms:modified xsi:type="dcterms:W3CDTF">2011-11-08T16:04:18Z</dcterms:modified>
  <cp:revision>23</cp:revision>
  <dc:subject/>
  <dc:title>IETF 82</dc:title>
</cp:coreProperties>
</file>