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791-6980-463C-B601-2437D56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2AF-C340-4A49-AD5C-743C1C8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B93-863D-4A70-B198-A259B3E7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00-F528-47ED-8788-678B14C9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8C5-18B2-4F3F-9557-8BCAFF7F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F6F-45F1-4054-BD3B-321357D3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86C-83B1-4E35-AB57-A2C67D1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593-085A-48E8-B37A-AC856BED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7B0-6893-4DD8-9EF7-B3F93528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31C-C7D7-4453-92B5-F408A0EA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2B2-7CA9-47BC-B7E5-A27A408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BD6-69A1-40A2-96C9-F6DFD1E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586-0DA9-417F-ABE0-5E4761EE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ssociated Channel Advertis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ft-fbb-mpls-gach-adv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3720" y="480060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anfros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wart Bry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bryan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Boc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620120" y="304920"/>
            <a:ext cx="13716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-ACh Advertisement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990720" y="914400"/>
            <a:ext cx="73911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otocol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way advertis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-specif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use-case: a link-layer-agnostic equivalent to Ethernet’s Link Layer Discovery Protocol (LLDP) for MPL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network operators an easy way to see basic information about adjacent nodes, and verify the 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capability: next-hop Ethernet address determination, MCC/SCC setu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advertise device capabilities and configuration parameters, alerting the operator of mismatches: link-layer settings, MTU, OA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621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operators find this functionality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G want to pursue thi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990720" y="4800600"/>
            <a:ext cx="739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etf-1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525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191120" y="5638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30:24Z</dcterms:created>
  <dc:creator>-</dc:creator>
  <dc:description/>
  <cp:keywords/>
  <dc:language>en-US</dc:language>
  <cp:lastModifiedBy>danfrost</cp:lastModifiedBy>
  <dcterms:modified xsi:type="dcterms:W3CDTF">2011-11-08T16:04:18Z</dcterms:modified>
  <cp:revision>23</cp:revision>
  <dc:subject/>
  <dc:title>IETF 82</dc:title>
</cp:coreProperties>
</file>