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c23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371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98840" y="0"/>
            <a:ext cx="337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618A1-6DD4-4B98-996B-8053DDD0C43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BE422-4A0C-4633-BB7C-C462D116BDF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54AE8-3DF0-4599-AD32-9B78B2FAB72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26FE-5F33-4517-9399-4FDD77EDF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9273-4BD2-4371-88DD-FABD56C73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EFAD-BF70-4B08-B109-36C185D8C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BD07-E887-4948-89A0-3AD60A53B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6D95-F91A-41EF-B08A-1CCB49BF3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9152-9E80-4A29-92F1-DF26587F7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C8A1-A543-4E9E-B5D4-2DB3940E1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22D8-D54A-477D-9DEB-D1EECFE0B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C8EE-4CFF-47C8-B35B-654BF6F79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9571-8A67-4E7E-A941-90065C6F3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4105-D5E7-4551-8722-F4357160C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5703-F4E6-4B2D-AE6B-B4E9C22A8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c23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c2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EFAF7-EA0F-4F97-8530-7C556A787E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76360" y="6880320"/>
            <a:ext cx="1030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26272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rans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68760" y="4356000"/>
            <a:ext cx="64292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g Q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Tele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e Chongfe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Tel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y Zhou, Huawei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a Tsou, Huawei Technologies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94400" y="2987640"/>
            <a:ext cx="1317600" cy="792360"/>
          </a:xfrm>
          <a:prstGeom prst="roundRect">
            <a:avLst>
              <a:gd name="adj" fmla="val 333"/>
            </a:avLst>
          </a:prstGeom>
          <a:solidFill>
            <a:srgbClr val="c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600" spc="-1" strike="noStrike">
                <a:solidFill>
                  <a:srgbClr val="dc2300"/>
                </a:solidFill>
                <a:latin typeface="Arial"/>
              </a:rPr>
              <a:t>6-6-4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16160" y="2935440"/>
            <a:ext cx="861840" cy="846000"/>
          </a:xfrm>
          <a:prstGeom prst="roundRect">
            <a:avLst>
              <a:gd name="adj" fmla="val 185"/>
            </a:avLst>
          </a:prstGeom>
          <a:solidFill>
            <a:srgbClr val="65b8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7560" y="1908000"/>
            <a:ext cx="2797200" cy="2843280"/>
          </a:xfrm>
          <a:prstGeom prst="ellipse">
            <a:avLst/>
          </a:prstGeom>
          <a:solidFill>
            <a:srgbClr val="65b8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lticast 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88000" y="3059280"/>
            <a:ext cx="811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73960" y="2843280"/>
            <a:ext cx="1166760" cy="1081080"/>
          </a:xfrm>
          <a:prstGeom prst="roundRect">
            <a:avLst>
              <a:gd name="adj" fmla="val 185"/>
            </a:avLst>
          </a:prstGeom>
          <a:solidFill>
            <a:srgbClr val="65b8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9520" y="2890800"/>
            <a:ext cx="55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76560" y="3665520"/>
            <a:ext cx="80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5003640"/>
            <a:ext cx="82090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ng IPv4-formatted multicast content from an IPv6-only receiver. The access network is IPv6 cap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adaptation function instance is needed, at the IPv4/IPv6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>
            <a:off x="2160360" y="3203640"/>
            <a:ext cx="719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>
            <a:off x="2160360" y="3564000"/>
            <a:ext cx="79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flipH="1">
            <a:off x="6840360" y="334764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H="1">
            <a:off x="8278560" y="5003640"/>
            <a:ext cx="7952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64160" y="2627280"/>
            <a:ext cx="889200" cy="887400"/>
            <a:chOff x="5564160" y="2627280"/>
            <a:chExt cx="889200" cy="887400"/>
          </a:xfrm>
        </p:grpSpPr>
        <p:sp>
          <p:nvSpPr>
            <p:cNvPr id="65" name=""/>
            <p:cNvSpPr/>
            <p:nvPr/>
          </p:nvSpPr>
          <p:spPr>
            <a:xfrm>
              <a:off x="5981760" y="2627280"/>
              <a:ext cx="471600" cy="878040"/>
            </a:xfrm>
            <a:custGeom>
              <a:avLst/>
              <a:gdLst>
                <a:gd name="textAreaLeft" fmla="*/ 360 w 471600"/>
                <a:gd name="textAreaRight" fmla="*/ 471240 w 471600"/>
                <a:gd name="textAreaTop" fmla="*/ 360 h 878040"/>
                <a:gd name="textAreaBottom" fmla="*/ 877680 h 878040"/>
              </a:gdLst>
              <a:ahLst/>
              <a:rect l="textAreaLeft" t="textAreaTop" r="textAreaRight" b="textAreaBottom"/>
              <a:pathLst>
                <a:path w="21600" h="40201">
                  <a:moveTo>
                    <a:pt x="72" y="0"/>
                  </a:moveTo>
                  <a:arcTo wR="72" hR="72" stAng="16200000" swAng="-5400000"/>
                  <a:lnTo>
                    <a:pt x="0" y="40129"/>
                  </a:lnTo>
                  <a:arcTo wR="72" hR="72" stAng="10800000" swAng="-5400000"/>
                  <a:lnTo>
                    <a:pt x="21528" y="40201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4160" y="2637000"/>
              <a:ext cx="471600" cy="877680"/>
            </a:xfrm>
            <a:custGeom>
              <a:avLst/>
              <a:gdLst>
                <a:gd name="textAreaLeft" fmla="*/ 360 w 471600"/>
                <a:gd name="textAreaRight" fmla="*/ 471240 w 471600"/>
                <a:gd name="textAreaTop" fmla="*/ 360 h 877680"/>
                <a:gd name="textAreaBottom" fmla="*/ 877320 h 877680"/>
              </a:gdLst>
              <a:ahLst/>
              <a:rect l="textAreaLeft" t="textAreaTop" r="textAreaRight" b="textAreaBottom"/>
              <a:pathLst>
                <a:path w="21600" h="40185">
                  <a:moveTo>
                    <a:pt x="72" y="0"/>
                  </a:moveTo>
                  <a:arcTo wR="72" hR="72" stAng="16200000" swAng="-5400000"/>
                  <a:lnTo>
                    <a:pt x="0" y="40113"/>
                  </a:lnTo>
                  <a:arcTo wR="72" hR="72" stAng="10800000" swAng="-5400000"/>
                  <a:lnTo>
                    <a:pt x="21528" y="40185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eb613d"/>
            </a:solidFill>
            <a:ln w="9360">
              <a:solidFill>
                <a:srgbClr val="b8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600" spc="-1" strike="noStrike">
                <a:solidFill>
                  <a:srgbClr val="dc2300"/>
                </a:solidFill>
                <a:latin typeface="Arial"/>
              </a:rPr>
              <a:t>6-4-6-4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2660760"/>
            <a:ext cx="861840" cy="846000"/>
          </a:xfrm>
          <a:prstGeom prst="roundRect">
            <a:avLst>
              <a:gd name="adj" fmla="val 1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55760" y="2620800"/>
            <a:ext cx="889200" cy="893880"/>
            <a:chOff x="2255760" y="2620800"/>
            <a:chExt cx="889200" cy="893880"/>
          </a:xfrm>
        </p:grpSpPr>
        <p:sp>
          <p:nvSpPr>
            <p:cNvPr id="70" name=""/>
            <p:cNvSpPr/>
            <p:nvPr/>
          </p:nvSpPr>
          <p:spPr>
            <a:xfrm>
              <a:off x="2255760" y="2620800"/>
              <a:ext cx="471600" cy="878040"/>
            </a:xfrm>
            <a:custGeom>
              <a:avLst/>
              <a:gdLst>
                <a:gd name="textAreaLeft" fmla="*/ 360 w 471600"/>
                <a:gd name="textAreaRight" fmla="*/ 471240 w 471600"/>
                <a:gd name="textAreaTop" fmla="*/ 360 h 878040"/>
                <a:gd name="textAreaBottom" fmla="*/ 877680 h 878040"/>
              </a:gdLst>
              <a:ahLst/>
              <a:rect l="textAreaLeft" t="textAreaTop" r="textAreaRight" b="textAreaBottom"/>
              <a:pathLst>
                <a:path w="21600" h="40201">
                  <a:moveTo>
                    <a:pt x="72" y="0"/>
                  </a:moveTo>
                  <a:arcTo wR="72" hR="72" stAng="16200000" swAng="-5400000"/>
                  <a:lnTo>
                    <a:pt x="0" y="40129"/>
                  </a:lnTo>
                  <a:arcTo wR="72" hR="72" stAng="10800000" swAng="-5400000"/>
                  <a:lnTo>
                    <a:pt x="21528" y="40201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3360" y="2637000"/>
              <a:ext cx="471600" cy="877680"/>
            </a:xfrm>
            <a:custGeom>
              <a:avLst/>
              <a:gdLst>
                <a:gd name="textAreaLeft" fmla="*/ 360 w 471600"/>
                <a:gd name="textAreaRight" fmla="*/ 471240 w 471600"/>
                <a:gd name="textAreaTop" fmla="*/ 360 h 877680"/>
                <a:gd name="textAreaBottom" fmla="*/ 877320 h 877680"/>
              </a:gdLst>
              <a:ahLst/>
              <a:rect l="textAreaLeft" t="textAreaTop" r="textAreaRight" b="textAreaBottom"/>
              <a:pathLst>
                <a:path w="21600" h="40185">
                  <a:moveTo>
                    <a:pt x="72" y="0"/>
                  </a:moveTo>
                  <a:arcTo wR="72" hR="72" stAng="16200000" swAng="-5400000"/>
                  <a:lnTo>
                    <a:pt x="0" y="40113"/>
                  </a:lnTo>
                  <a:arcTo wR="72" hR="72" stAng="10800000" swAng="-5400000"/>
                  <a:lnTo>
                    <a:pt x="21528" y="40185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eb613d"/>
            </a:solidFill>
            <a:ln w="9360">
              <a:solidFill>
                <a:srgbClr val="b8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406600" y="2919240"/>
            <a:ext cx="6508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40200" y="2077920"/>
            <a:ext cx="1708200" cy="1935360"/>
          </a:xfrm>
          <a:prstGeom prst="ellipse">
            <a:avLst/>
          </a:prstGeom>
          <a:solidFill>
            <a:srgbClr val="eb6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not m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p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399080" y="4417920"/>
            <a:ext cx="879840" cy="912600"/>
            <a:chOff x="7399080" y="4417920"/>
            <a:chExt cx="879840" cy="912600"/>
          </a:xfrm>
        </p:grpSpPr>
        <p:sp>
          <p:nvSpPr>
            <p:cNvPr id="75" name=""/>
            <p:cNvSpPr/>
            <p:nvPr/>
          </p:nvSpPr>
          <p:spPr>
            <a:xfrm rot="5400000">
              <a:off x="7602480" y="4214520"/>
              <a:ext cx="471240" cy="878040"/>
            </a:xfrm>
            <a:custGeom>
              <a:avLst/>
              <a:gdLst>
                <a:gd name="textAreaLeft" fmla="*/ 360 w 471240"/>
                <a:gd name="textAreaRight" fmla="*/ 470880 w 471240"/>
                <a:gd name="textAreaTop" fmla="*/ 360 h 878040"/>
                <a:gd name="textAreaBottom" fmla="*/ 877680 h 878040"/>
              </a:gdLst>
              <a:ahLst/>
              <a:rect l="textAreaLeft" t="textAreaTop" r="textAreaRight" b="textAreaBottom"/>
              <a:pathLst>
                <a:path w="21600" h="40232">
                  <a:moveTo>
                    <a:pt x="72" y="0"/>
                  </a:moveTo>
                  <a:arcTo wR="72" hR="72" stAng="16200000" swAng="-5400000"/>
                  <a:lnTo>
                    <a:pt x="0" y="40160"/>
                  </a:lnTo>
                  <a:arcTo wR="72" hR="72" stAng="10800000" swAng="-5400000"/>
                  <a:lnTo>
                    <a:pt x="21528" y="40232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400000">
              <a:off x="7604280" y="4655880"/>
              <a:ext cx="471240" cy="877680"/>
            </a:xfrm>
            <a:custGeom>
              <a:avLst/>
              <a:gdLst>
                <a:gd name="textAreaLeft" fmla="*/ 360 w 471240"/>
                <a:gd name="textAreaRight" fmla="*/ 470880 w 471240"/>
                <a:gd name="textAreaTop" fmla="*/ 360 h 877680"/>
                <a:gd name="textAreaBottom" fmla="*/ 877320 h 877680"/>
              </a:gdLst>
              <a:ahLst/>
              <a:rect l="textAreaLeft" t="textAreaTop" r="textAreaRight" b="textAreaBottom"/>
              <a:pathLst>
                <a:path w="21600" h="40216">
                  <a:moveTo>
                    <a:pt x="72" y="0"/>
                  </a:moveTo>
                  <a:arcTo wR="72" hR="72" stAng="16200000" swAng="-5400000"/>
                  <a:lnTo>
                    <a:pt x="0" y="40144"/>
                  </a:lnTo>
                  <a:arcTo wR="72" hR="72" stAng="10800000" swAng="-5400000"/>
                  <a:lnTo>
                    <a:pt x="21528" y="40216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eb613d"/>
            </a:solidFill>
            <a:ln w="9360">
              <a:solidFill>
                <a:srgbClr val="b8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400800" y="1654200"/>
            <a:ext cx="2797200" cy="2843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lticast 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2360" y="4641840"/>
            <a:ext cx="639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889840" y="4643280"/>
            <a:ext cx="1046160" cy="846360"/>
          </a:xfrm>
          <a:prstGeom prst="roundRect">
            <a:avLst>
              <a:gd name="adj" fmla="val 185"/>
            </a:avLst>
          </a:prstGeom>
          <a:solidFill>
            <a:srgbClr val="eb6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67480" y="2924280"/>
            <a:ext cx="639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33680" y="2932200"/>
            <a:ext cx="620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60800" y="2925720"/>
            <a:ext cx="785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10240" y="1697040"/>
            <a:ext cx="135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LD over 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151680" y="2058840"/>
            <a:ext cx="18720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0240" y="1604880"/>
            <a:ext cx="137484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156120" y="3271680"/>
            <a:ext cx="8078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28640" y="3289320"/>
            <a:ext cx="62712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5580000"/>
            <a:ext cx="91454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Receiver Connected to an IPv4 Source Through an IPv4 Multicast-Disabled Access Network and an IPv6 Multicas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2 performs similar function as AF in 6-6-4 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04000" y="1258920"/>
            <a:ext cx="53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3.2, draft-jaclee-behave-v4v6-mcast-ps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95480" y="3673080"/>
            <a:ext cx="665280" cy="849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0680" y="4626000"/>
            <a:ext cx="16365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ustomer-own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ot under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5:20:13Z</dcterms:created>
  <dc:creator/>
  <dc:description/>
  <dc:language>en-US</dc:language>
  <cp:lastModifiedBy>Cathy ZHOU</cp:lastModifiedBy>
  <dcterms:modified xsi:type="dcterms:W3CDTF">2011-11-02T06:30:56Z</dcterms:modified>
  <cp:revision>16</cp:revision>
  <dc:subject/>
  <dc:title>Basic presentation</dc:title>
</cp:coreProperties>
</file>