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074FD-5126-4EF3-AE31-3D0A22D74EF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A945E-502A-4843-9BB6-6AF802ACA7F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A016E-6384-4A08-BFE3-2DFC6233A70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F58C-592F-47B7-B9F9-F1C8E9552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FC5E-3055-4687-91B7-B5B1E7DF3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510D-908C-441C-8C6F-491E4DA2F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BECF-1336-49E0-B371-B013EA266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30A-0EE5-4E76-BB48-4BF413D4E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2ACA-05B0-4A32-AA80-673F50B1E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A341-DD16-48C5-8798-6C7550909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2E2C-5408-4CA0-9880-E67F1249A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9336-9DAE-4E63-AE28-E6F2E83E7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EDF0-2CEA-4C65-8725-25AC31F72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D018-C83F-4EA1-B4E5-E8500E8F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B3C1-6F8E-4669-90C9-7ED8FB768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44D8-2ECC-4327-9427-3293304103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6360" y="6880320"/>
            <a:ext cx="1030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26272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rans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68760" y="4356000"/>
            <a:ext cx="64292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g Q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Tele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e Chongfe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y Zhou, Huawei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sou, Huawei Technologies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94400" y="2987640"/>
            <a:ext cx="1317600" cy="792360"/>
          </a:xfrm>
          <a:prstGeom prst="roundRect">
            <a:avLst>
              <a:gd name="adj" fmla="val 333"/>
            </a:avLst>
          </a:prstGeom>
          <a:solidFill>
            <a:srgbClr val="c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c2300"/>
                </a:solidFill>
                <a:latin typeface="Arial"/>
              </a:rPr>
              <a:t>6-6-4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6160" y="2935440"/>
            <a:ext cx="861840" cy="846000"/>
          </a:xfrm>
          <a:prstGeom prst="roundRect">
            <a:avLst>
              <a:gd name="adj" fmla="val 185"/>
            </a:avLst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7560" y="1908000"/>
            <a:ext cx="2797200" cy="2843280"/>
          </a:xfrm>
          <a:prstGeom prst="ellipse">
            <a:avLst/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lticast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88000" y="3059280"/>
            <a:ext cx="811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73960" y="2843280"/>
            <a:ext cx="1166760" cy="1081080"/>
          </a:xfrm>
          <a:prstGeom prst="roundRect">
            <a:avLst>
              <a:gd name="adj" fmla="val 185"/>
            </a:avLst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2890800"/>
            <a:ext cx="55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76560" y="3665520"/>
            <a:ext cx="80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003640"/>
            <a:ext cx="8209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IPv4-formatted multicast content from an IPv6-only receiver. The access network is IPv6 cap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adaptation function instance is needed, at the IPv4/IPv6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2160360" y="3203640"/>
            <a:ext cx="71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>
            <a:off x="2160360" y="3564000"/>
            <a:ext cx="79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>
            <a:off x="6840360" y="334764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H="1">
            <a:off x="8278560" y="5003640"/>
            <a:ext cx="7952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4160" y="2627280"/>
            <a:ext cx="889200" cy="887400"/>
            <a:chOff x="5564160" y="2627280"/>
            <a:chExt cx="889200" cy="887400"/>
          </a:xfrm>
        </p:grpSpPr>
        <p:sp>
          <p:nvSpPr>
            <p:cNvPr id="65" name=""/>
            <p:cNvSpPr/>
            <p:nvPr/>
          </p:nvSpPr>
          <p:spPr>
            <a:xfrm>
              <a:off x="5981760" y="2627280"/>
              <a:ext cx="471600" cy="87804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01">
                  <a:moveTo>
                    <a:pt x="72" y="0"/>
                  </a:moveTo>
                  <a:arcTo wR="72" hR="72" stAng="16200000" swAng="-5400000"/>
                  <a:lnTo>
                    <a:pt x="0" y="40129"/>
                  </a:lnTo>
                  <a:arcTo wR="72" hR="72" stAng="10800000" swAng="-5400000"/>
                  <a:lnTo>
                    <a:pt x="21528" y="40201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4160" y="2637000"/>
              <a:ext cx="471600" cy="87768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185">
                  <a:moveTo>
                    <a:pt x="72" y="0"/>
                  </a:moveTo>
                  <a:arcTo wR="72" hR="72" stAng="16200000" swAng="-5400000"/>
                  <a:lnTo>
                    <a:pt x="0" y="40113"/>
                  </a:lnTo>
                  <a:arcTo wR="72" hR="72" stAng="10800000" swAng="-5400000"/>
                  <a:lnTo>
                    <a:pt x="21528" y="40185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c2300"/>
                </a:solidFill>
                <a:latin typeface="Arial"/>
              </a:rPr>
              <a:t>6-4-6-4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2660760"/>
            <a:ext cx="861840" cy="846000"/>
          </a:xfrm>
          <a:prstGeom prst="roundRect">
            <a:avLst>
              <a:gd name="adj" fmla="val 1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55760" y="2620800"/>
            <a:ext cx="889200" cy="893880"/>
            <a:chOff x="2255760" y="2620800"/>
            <a:chExt cx="889200" cy="893880"/>
          </a:xfrm>
        </p:grpSpPr>
        <p:sp>
          <p:nvSpPr>
            <p:cNvPr id="70" name=""/>
            <p:cNvSpPr/>
            <p:nvPr/>
          </p:nvSpPr>
          <p:spPr>
            <a:xfrm>
              <a:off x="2255760" y="2620800"/>
              <a:ext cx="471600" cy="87804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01">
                  <a:moveTo>
                    <a:pt x="72" y="0"/>
                  </a:moveTo>
                  <a:arcTo wR="72" hR="72" stAng="16200000" swAng="-5400000"/>
                  <a:lnTo>
                    <a:pt x="0" y="40129"/>
                  </a:lnTo>
                  <a:arcTo wR="72" hR="72" stAng="10800000" swAng="-5400000"/>
                  <a:lnTo>
                    <a:pt x="21528" y="40201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3360" y="2637000"/>
              <a:ext cx="471600" cy="87768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185">
                  <a:moveTo>
                    <a:pt x="72" y="0"/>
                  </a:moveTo>
                  <a:arcTo wR="72" hR="72" stAng="16200000" swAng="-5400000"/>
                  <a:lnTo>
                    <a:pt x="0" y="40113"/>
                  </a:lnTo>
                  <a:arcTo wR="72" hR="72" stAng="10800000" swAng="-5400000"/>
                  <a:lnTo>
                    <a:pt x="21528" y="40185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406600" y="2919240"/>
            <a:ext cx="650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40200" y="2077920"/>
            <a:ext cx="1708200" cy="1935360"/>
          </a:xfrm>
          <a:prstGeom prst="ellipse">
            <a:avLst/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not m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p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99080" y="4417920"/>
            <a:ext cx="879840" cy="912600"/>
            <a:chOff x="7399080" y="4417920"/>
            <a:chExt cx="879840" cy="912600"/>
          </a:xfrm>
        </p:grpSpPr>
        <p:sp>
          <p:nvSpPr>
            <p:cNvPr id="75" name=""/>
            <p:cNvSpPr/>
            <p:nvPr/>
          </p:nvSpPr>
          <p:spPr>
            <a:xfrm rot="5400000">
              <a:off x="7602480" y="4214520"/>
              <a:ext cx="471240" cy="878040"/>
            </a:xfrm>
            <a:custGeom>
              <a:avLst/>
              <a:gdLst>
                <a:gd name="textAreaLeft" fmla="*/ 360 w 471240"/>
                <a:gd name="textAreaRight" fmla="*/ 470880 w 47124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32">
                  <a:moveTo>
                    <a:pt x="72" y="0"/>
                  </a:moveTo>
                  <a:arcTo wR="72" hR="72" stAng="16200000" swAng="-5400000"/>
                  <a:lnTo>
                    <a:pt x="0" y="40160"/>
                  </a:lnTo>
                  <a:arcTo wR="72" hR="72" stAng="10800000" swAng="-5400000"/>
                  <a:lnTo>
                    <a:pt x="21528" y="40232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7604280" y="4655880"/>
              <a:ext cx="471240" cy="877680"/>
            </a:xfrm>
            <a:custGeom>
              <a:avLst/>
              <a:gdLst>
                <a:gd name="textAreaLeft" fmla="*/ 360 w 471240"/>
                <a:gd name="textAreaRight" fmla="*/ 470880 w 47124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216">
                  <a:moveTo>
                    <a:pt x="72" y="0"/>
                  </a:moveTo>
                  <a:arcTo wR="72" hR="72" stAng="16200000" swAng="-5400000"/>
                  <a:lnTo>
                    <a:pt x="0" y="40144"/>
                  </a:lnTo>
                  <a:arcTo wR="72" hR="72" stAng="10800000" swAng="-5400000"/>
                  <a:lnTo>
                    <a:pt x="21528" y="40216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400800" y="1654200"/>
            <a:ext cx="2797200" cy="2843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lticast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2360" y="4641840"/>
            <a:ext cx="639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89840" y="4643280"/>
            <a:ext cx="1046160" cy="846360"/>
          </a:xfrm>
          <a:prstGeom prst="roundRect">
            <a:avLst>
              <a:gd name="adj" fmla="val 185"/>
            </a:avLst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67480" y="2924280"/>
            <a:ext cx="639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33680" y="2932200"/>
            <a:ext cx="620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60800" y="2925720"/>
            <a:ext cx="785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10240" y="1697040"/>
            <a:ext cx="135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LD over 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151680" y="2058840"/>
            <a:ext cx="18720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0240" y="1604880"/>
            <a:ext cx="137484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56120" y="3271680"/>
            <a:ext cx="8078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28640" y="3289320"/>
            <a:ext cx="6271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5580000"/>
            <a:ext cx="9145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Receiver Connected to an IPv4 Source Through an IPv4 Multicast-Disabled Access Network and an IPv6 Multicas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2 performs similar function as AF in 6-6-4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4000" y="1258920"/>
            <a:ext cx="53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3.2, draft-jaclee-behave-v4v6-mcast-ps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95480" y="3673080"/>
            <a:ext cx="665280" cy="849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0680" y="4626000"/>
            <a:ext cx="16365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ustomer-own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ot under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20:13Z</dcterms:created>
  <dc:creator/>
  <dc:description/>
  <dc:language>en-US</dc:language>
  <cp:lastModifiedBy>Cathy ZHOU</cp:lastModifiedBy>
  <dcterms:modified xsi:type="dcterms:W3CDTF">2011-11-02T06:30:56Z</dcterms:modified>
  <cp:revision>16</cp:revision>
  <dc:subject/>
  <dc:title>Basic presentation</dc:title>
</cp:coreProperties>
</file>