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A05-7B92-4BA3-8296-7E981E9F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E14-DBE4-44C6-895A-23F159B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51C-464B-4301-AAC9-ACA5867D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89C-AD25-4DEA-BC63-549191A5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54B-9693-47F0-B95C-B1985D14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3E2-1AC0-4CD2-BA6B-284E37B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9B2-D5AA-423A-963A-7F0CAB8A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099-B70C-42C6-9E6E-351DB64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833-4D55-467B-B5ED-74E2DF42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BA9-4F3A-41D2-86A2-34E464F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607-5FA3-4C64-9D48-3C76704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3E2-51E6-4E36-84E0-B7ABBF8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288C-BC7F-4AEF-8402-A61EBD851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93CD-51A9-4150-A7F8-A4A130C2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mework for IPv4/IPv6 Multicast Trans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venaas-behave-v4v6mc-framework-0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C0B8-BE8A-46AC-99F1-033B1457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pend on whether either content provider or receiver is aware of translation taking place, and the mapp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Pv6 receiving from IPv4, stateless translation i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1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known prefi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Pv4 receiving from IPv6, stateful translation may b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1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the state/mapp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0BAC-519A-44A6-9337-9F2E99C4D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e did a unicast translation framework, RFC 6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raft started out as a multicast version of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s talk about Internet which is not so common for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it as a large network or a set of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t thing is scale, and whether you have administrativ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944D-00A3-476E-9EB4-FF5FD330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Pv6 network receiving multicast from IPv4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Internet receiving multicast from an IPv4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Pv4 network receiving multicast from IPv6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Internet receiving multicast from an IPv6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Pv6 network receiving multicast from an IPv4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Pv4 network receiving multicast from an IPv6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DE6D-4ECA-413E-A23F-D06104C21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ast and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ing multicast translation, you have a source S sending to a group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eiver of translated content would join T(G) and receive from T(S), where T is some translation/mapp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 defined, stateful/stateless? Well-kn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receiver know T(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SM the receiver would need to know T(S)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"/>
          <p:cNvSpPr/>
          <p:nvPr/>
        </p:nvSpPr>
        <p:spPr>
          <a:xfrm>
            <a:off x="380880" y="4191120"/>
            <a:ext cx="3733920" cy="2501640"/>
          </a:xfrm>
          <a:custGeom>
            <a:avLst/>
            <a:gdLst>
              <a:gd name="textAreaLeft" fmla="*/ 514440 w 3733920"/>
              <a:gd name="textAreaRight" fmla="*/ 2953800 w 3733920"/>
              <a:gd name="textAreaTop" fmla="*/ 377640 h 2501640"/>
              <a:gd name="textAreaBottom" fmla="*/ 2008080 h 2501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"/>
          <p:cNvSpPr/>
          <p:nvPr/>
        </p:nvSpPr>
        <p:spPr>
          <a:xfrm>
            <a:off x="4876920" y="4114800"/>
            <a:ext cx="3733560" cy="2502000"/>
          </a:xfrm>
          <a:custGeom>
            <a:avLst/>
            <a:gdLst>
              <a:gd name="textAreaLeft" fmla="*/ 514440 w 3733560"/>
              <a:gd name="textAreaRight" fmla="*/ 2953440 w 3733560"/>
              <a:gd name="textAreaTop" fmla="*/ 377640 h 2502000"/>
              <a:gd name="textAreaBottom" fmla="*/ 2008440 h 250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odem"/>
          <p:cNvSpPr/>
          <p:nvPr/>
        </p:nvSpPr>
        <p:spPr>
          <a:xfrm>
            <a:off x="3581280" y="4952880"/>
            <a:ext cx="1809720" cy="914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62120" y="510552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848720" y="487692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72385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 flipV="1">
            <a:off x="6857640" y="4876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6857640" y="51814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 flipV="1">
            <a:off x="6476760" y="5028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>
            <a:off x="6552720" y="5334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>
            <a:off x="6324480" y="5562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 flipV="1">
            <a:off x="6095520" y="5333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H="1">
            <a:off x="6095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63241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H="1">
            <a:off x="54864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6553080" y="5562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7620120" y="4952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4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H="1">
            <a:off x="312372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8"/>
          <p:cNvSpPr/>
          <p:nvPr/>
        </p:nvSpPr>
        <p:spPr>
          <a:xfrm flipH="1" flipV="1">
            <a:off x="2666520" y="5105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 flipH="1">
            <a:off x="266652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0"/>
          <p:cNvSpPr/>
          <p:nvPr/>
        </p:nvSpPr>
        <p:spPr>
          <a:xfrm flipH="1" flipV="1">
            <a:off x="2285640" y="5486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1"/>
          <p:cNvSpPr/>
          <p:nvPr/>
        </p:nvSpPr>
        <p:spPr>
          <a:xfrm flipH="1">
            <a:off x="2285640" y="5791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 flipH="1" flipV="1">
            <a:off x="1904760" y="5638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20574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914400" y="56386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7"/>
          <p:cNvSpPr/>
          <p:nvPr/>
        </p:nvSpPr>
        <p:spPr>
          <a:xfrm>
            <a:off x="5486400" y="56386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5334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28954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4843-9F67-4DEF-AF29-13E230ED3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v6 network receiving multicast from IPv4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o hard since IPv4 address space can be embedded into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T(224.1.2.3) = ff1e::ffff:224.1.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accommodate for SSM and 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232.1.2.3) = ff3e::ffff:232.1.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239.1.2.3) = ff35::ffff:239.1.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wants to receive G and joins T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is may also allow IPv4 to receive from IPv6, if IPv6 sources send do T(G), it can be translated back to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FA15-08D6-4189-9059-4383DF6B1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v6 network receiving multicast from IPv4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 know T(G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r is unaware of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provider could provide SDP with both T and T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content provider knows translation may take place and the functio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data may be translated by an A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r is aware of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r stack on R know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IPv4 address in SDP, app/stack can apply T and join T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know/learn T? Well-known pref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1FA6-2EB9-4FD1-BA22-1F88A8C6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l-known multicast prefix(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known multicast prefixes could be hardcoded in apps/stacks so that they know T() and join translated groups whe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well-known, there can be different prefixes for different trans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hoose which translator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rees to pass through the translator, it may need to be an IPv6 Rendezvous Point. In that case embedded-RP might b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-RP encodes the unicast address of the RP in the group address. Hence well-known multicast prefix is hard, unless also well-known unicast address (any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3542-2F1B-4A74-8F26-5F35710D5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v4 network receiving multicast from IPv6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not use a simple embedding and stateless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ranslator get a mapping so it can translate an IPv4-join into IPv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ranslate data from IPv6 to IP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use some ALG to translate e.g. SDP as it passes through the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new signaling mechanisms between receiver and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ministrator might add static mappings and inform users, or create new SDP, with groups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E204-483A-4AF6-94C4-B1108347C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signaling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need new signaling mechanisms for an IPv4 host or network  to be able to receive arbitrary IPv6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nslation aware application or stack could send a query to the translator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to receive G, which T(G) should I jo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lator can have a pool of IPv4 addresses and allocate them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9:58:20Z</dcterms:created>
  <dc:creator>Cisco Systems, Inc.</dc:creator>
  <dc:description/>
  <dc:language>en-US</dc:language>
  <cp:lastModifiedBy>Stig Venaas (svenaas)</cp:lastModifiedBy>
  <dcterms:modified xsi:type="dcterms:W3CDTF">2011-11-16T03:05:30Z</dcterms:modified>
  <cp:revision>55</cp:revision>
  <dc:subject/>
  <dc:title>Thoughts on PIM over Reliable Transport</dc:title>
</cp:coreProperties>
</file>