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754-5521-424A-A514-1AD76497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B5D-FA39-4D71-B93D-9861BF1B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DB1-BE07-43C8-94DD-3C279CBB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166-EF3C-4A75-B57A-883C46E3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286-9D14-4545-BB15-23D2FECE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BD4-2877-414E-B099-C32DF83F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174-B87F-4244-A7C3-E708CA81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DBD-49AC-44DB-AA17-D92770CE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1BF-322A-4D3D-A3EE-F9A9F09D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79C-77A8-4DB0-AFFE-ABE32578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5C3-4DCC-48E2-B7C1-37BA4D27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942-A231-4B43-9C07-AED49C1F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42CC-C1B6-4184-98B0-EC05D0095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4F98-8398-4740-B940-E05A3549A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mework for IPv4/IPv6 Multicast Transl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venaas-behave-v4v6mc-framework-03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0C1F-FC94-4090-AE50-75F39EA95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pend on whether either content provider or receiver is aware of translation taking place, and the mapping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Pv6 receiving from IPv4, stateless translation is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11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known prefi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Pv4 receiving from IPv6, stateful translation may b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11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the state/mapp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769B-AEC9-4D53-8BBE-3FF20983D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e did a unicast translation framework, RFC 6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raft started out as a multicast version of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s talk about Internet which is not so common for 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it as a large network or a set of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ortant thing is scale, and whether you have administrativ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1A0B-D0D5-4F50-936D-642853F0E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Pv6 network receiving multicast from IPv4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Internet receiving multicast from an IPv4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Pv4 network receiving multicast from IPv6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4 Internet receiving multicast from an IPv6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Pv6 network receiving multicast from an IPv4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Pv4 network receiving multicast from an IPv6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D990-0E94-4FC2-9AAD-A11B0DE79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ast and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oing multicast translation, you have a source S sending to a group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ceiver of translated content would join T(G) and receive from T(S), where T is some translation/mapp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T defined, stateful/stateless? Well-kn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receiver know T(G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SM the receiver would need to know T(S)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loud"/>
          <p:cNvSpPr/>
          <p:nvPr/>
        </p:nvSpPr>
        <p:spPr>
          <a:xfrm>
            <a:off x="380880" y="4191120"/>
            <a:ext cx="3733920" cy="2501640"/>
          </a:xfrm>
          <a:custGeom>
            <a:avLst/>
            <a:gdLst>
              <a:gd name="textAreaLeft" fmla="*/ 514440 w 3733920"/>
              <a:gd name="textAreaRight" fmla="*/ 2953800 w 3733920"/>
              <a:gd name="textAreaTop" fmla="*/ 377640 h 2501640"/>
              <a:gd name="textAreaBottom" fmla="*/ 2008080 h 2501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loud"/>
          <p:cNvSpPr/>
          <p:nvPr/>
        </p:nvSpPr>
        <p:spPr>
          <a:xfrm>
            <a:off x="4876920" y="4114800"/>
            <a:ext cx="3733560" cy="2502000"/>
          </a:xfrm>
          <a:custGeom>
            <a:avLst/>
            <a:gdLst>
              <a:gd name="textAreaLeft" fmla="*/ 514440 w 3733560"/>
              <a:gd name="textAreaRight" fmla="*/ 2953440 w 3733560"/>
              <a:gd name="textAreaTop" fmla="*/ 377640 h 2502000"/>
              <a:gd name="textAreaBottom" fmla="*/ 2008440 h 2502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odem"/>
          <p:cNvSpPr/>
          <p:nvPr/>
        </p:nvSpPr>
        <p:spPr>
          <a:xfrm>
            <a:off x="3581280" y="4952880"/>
            <a:ext cx="1809720" cy="914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62120" y="5105520"/>
            <a:ext cx="5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7848720" y="4876920"/>
            <a:ext cx="5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H="1">
            <a:off x="72385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 flipV="1">
            <a:off x="6857640" y="48765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H="1">
            <a:off x="6857640" y="51814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 flipV="1">
            <a:off x="6476760" y="50288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H="1">
            <a:off x="6552720" y="53341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 flipH="1">
            <a:off x="6324480" y="5562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H="1" flipV="1">
            <a:off x="6095520" y="5333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 flipH="1">
            <a:off x="6095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 flipV="1">
            <a:off x="6324120" y="4723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 flipH="1">
            <a:off x="548640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6553080" y="55627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7620120" y="4952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4"/>
          <p:cNvSpPr/>
          <p:nvPr/>
        </p:nvSpPr>
        <p:spPr>
          <a:xfrm>
            <a:off x="114300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 flipH="1">
            <a:off x="312372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8"/>
          <p:cNvSpPr/>
          <p:nvPr/>
        </p:nvSpPr>
        <p:spPr>
          <a:xfrm flipH="1" flipV="1">
            <a:off x="2666520" y="5105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9"/>
          <p:cNvSpPr/>
          <p:nvPr/>
        </p:nvSpPr>
        <p:spPr>
          <a:xfrm flipH="1">
            <a:off x="266652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0"/>
          <p:cNvSpPr/>
          <p:nvPr/>
        </p:nvSpPr>
        <p:spPr>
          <a:xfrm flipH="1" flipV="1">
            <a:off x="2285640" y="5486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1"/>
          <p:cNvSpPr/>
          <p:nvPr/>
        </p:nvSpPr>
        <p:spPr>
          <a:xfrm flipH="1">
            <a:off x="2285640" y="57913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 flipH="1" flipV="1">
            <a:off x="1904760" y="5638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20574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914400" y="56386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7"/>
          <p:cNvSpPr/>
          <p:nvPr/>
        </p:nvSpPr>
        <p:spPr>
          <a:xfrm>
            <a:off x="5486400" y="56386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8"/>
          <p:cNvSpPr/>
          <p:nvPr/>
        </p:nvSpPr>
        <p:spPr>
          <a:xfrm>
            <a:off x="5334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28954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E7B0-CC06-488C-BE3D-1A90B0F93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Pv6 network receiving multicast from IPv4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o hard since IPv4 address space can be embedded into 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T(224.1.2.3) = ff1e::ffff:224.1.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accommodate for SSM and 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232.1.2.3) = ff3e::ffff:232.1.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239.1.2.3) = ff35::ffff:239.1.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wants to receive G and joins T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is may also allow IPv4 to receive from IPv6, if IPv6 sources send do T(G), it can be translated back to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C265-A6D4-4ABF-AC3C-BE7965FDB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Pv6 network receiving multicast from IPv4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 know T(G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ceiver is unaware of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provider could provide SDP with both T and T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content provider knows translation may take place and the function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P data may be translated by an A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ceiver is aware of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r stack on R knows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ly IPv4 address in SDP, app/stack can apply T and join T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know/learn T? Well-known prefi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2DD1-93A2-4758-B1DD-E3A221A37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ll-known multicast prefix(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known multicast prefixes could be hardcoded in apps/stacks so that they know T() and join translated groups whe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well-known, there can be different prefixes for different trans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hoose which translator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rees to pass through the translator, it may need to be an IPv6 Rendezvous Point. In that case embedded-RP might be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-RP encodes the unicast address of the RP in the group address. Hence well-known multicast prefix is hard, unless also well-known unicast address (any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BD4E-71C7-40B6-9187-D2AAA4506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Pv4 network receiving multicast from IPv6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not use a simple embedding and stateless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ranslator get a mapping so it can translate an IPv4-join into IPv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ranslate data from IPv6 to IPv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use some ALG to translate e.g. SDP as it passes through the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new signaling mechanisms between receiver and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ministrator might add static mappings and inform users, or create new SDP, with groups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8E48-B332-4E7A-9B75-4F1DADED4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signaling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ay need new signaling mechanisms for an IPv4 host or network  to be able to receive arbitrary IPv6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nslation aware application or stack could send a query to the translator 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nt to receive G, which T(G) should I jo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lator can have a pool of IPv4 addresses and allocate them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9:58:20Z</dcterms:created>
  <dc:creator>Cisco Systems, Inc.</dc:creator>
  <dc:description/>
  <dc:language>en-US</dc:language>
  <cp:lastModifiedBy>Stig Venaas (svenaas)</cp:lastModifiedBy>
  <dcterms:modified xsi:type="dcterms:W3CDTF">2011-11-16T03:05:30Z</dcterms:modified>
  <cp:revision>55</cp:revision>
  <dc:subject/>
  <dc:title>Thoughts on PIM over Reliable Transport</dc:title>
</cp:coreProperties>
</file>