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07240" cy="993924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38">
                <a:moveTo>
                  <a:pt x="4" y="0"/>
                </a:moveTo>
                <a:arcTo wR="4" hR="4" stAng="16200000" swAng="-5400000"/>
                <a:lnTo>
                  <a:pt x="0" y="31534"/>
                </a:lnTo>
                <a:arcTo wR="4" hR="4" stAng="10800000" swAng="-5400000"/>
                <a:lnTo>
                  <a:pt x="21596" y="3153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7760" y="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705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5360" bIns="4536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  <a:def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3970F8B2-25F6-4F4D-8D36-E7A77E0F020C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D1997C40-5864-4454-A78F-04A3076D5C8E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i, I’m Tomoyuki Iijima from Hitach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’m going to talk about the NETCONF over WebSocket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4D5A1981-A90E-4F48-84B3-9AF5A859FE9B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rst of all, this is the objective of the I-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ive of the I-D is to propose a way of sending NETCONF over WebSocket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, we are not intend to make this proposal as mand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C482D701-8721-4657-8F78-DFAB7154811D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ckground of this I-D is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browser-based management system is increasing with the advancement of web technologies and cloud compu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though NETCONF has high compatibility with HTML/HTTP in that it uses XML as its messaging, NETCONF is rarely used for browser-based management system. Some of the reasons might be that there’s no easy way to develop browser-based management system. And HTTP lacks bi-directional cap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 now, WebSocket, an extension of HTTP with bi-directional capability, is under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bSocket provides JavaScript APIs to be used for web browser as well as bi-directional cap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 think NETCONF should be used for browser-based management systems by supporting WebSoc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the meeting before last, we’ve made following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’ve expanded the description into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’ve changed the NETCONF diagram from the one from RFC5277 to the one from RFC624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, we’ve expanded the description about secu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スライド番号プレースホルダ 3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E38A737F-347F-4FA0-AB38-D02E0E9075AB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43407406-929F-42EC-9298-73CC72A2CEC7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y of exchanging NETCONF messages is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CONF messages are exchanged after WebSocket handshake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uring WebSocket handshake, declaration of protocol needs to be made between client and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CONF notification from NETCONF server are sent after NETCONF session is established by &lt;hello&gt; exchange and session ID allo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4E9A801A-262B-4643-B3BA-66E84C542204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CONF messages should be sent according to the specification of Data Framing specified by WebSocket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cording to the recent specification, NETCONF messages should be encapsulated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CONF messages itself is created and parsed by using JavaScript DOM A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S header is added when NETCONF message is handed over to WS stack through WebSocket A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urity should be ensured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rst of all, according to WebSocekt I-D, NETCONF’s requirements for transport protocol are fulfilled by following security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thentication is fulfilled by mechanisms available to generic HTTP server during WS handshake, which include Cookies, HTTP Authentication, and TLS Authent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grity and confidentiality are fulfilled by T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us, the use of TLS is necessary NETCONF over WebSocket, as in the case of NETCONF/SOAP/HTT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 TLS is provided as a set of WebSocket. So, it’s easy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addition, WebSocket itself has its own security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ient is checked by origin header at server during WS handsh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rver is checked by sec-websocket-accept header at cl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payload is masked by masking-ke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スライド番号プレースホルダ 3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69D74000-2DD2-48C4-8F30-57942656F3F4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0E7B4006-87A4-4DA6-AB61-0F9EBDA0F96D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example, this kind of thing is re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image shows that operator A is configuring network device while operator B is just subscribing no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rst, browser-based network management system is realized, which doesn’t require install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ond, real time notification is realized, which is useful for failure no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C2751EE6-7FE5-4690-83D9-3EF619CA21E1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6720" y="765000"/>
            <a:ext cx="4970520" cy="3727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conclusion, we proposed a way of sending NETCONF over WebSocket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think that for NETCONF to support WebSocket is meaningful for NETCONF’s deploy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es WG have intere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YES, should this I-D move forward as an Experimental I-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t’s it for our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09D-F00B-46D0-A9D1-97E1C892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3B1-ECFD-4FA2-91A3-F960EEB4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6A3-5DB8-464A-93AA-B457F0B4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75A-7DF9-41E1-8907-1A43858B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168-8DD5-420F-B055-D8D556D0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50B-B09D-4F8B-BFE4-D236CCA8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1DE-E8F4-422F-8218-852C5144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D04-AF4D-446C-A3A9-8F87BBD6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3A3-D050-44F4-955F-8FA9C24F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990-2F7C-43D7-81ED-95ABE544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0A9-64D4-4828-9001-FC521333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D52-2CA7-4C4D-9BC8-C7E6B3D1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A3B922-60A0-4B47-8EC7-96DB313ED579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5" name="Picture 8" descr="ietflogo"/>
          <p:cNvPicPr/>
          <p:nvPr/>
        </p:nvPicPr>
        <p:blipFill>
          <a:blip r:embed="rId2"/>
          <a:stretch/>
        </p:blipFill>
        <p:spPr>
          <a:xfrm>
            <a:off x="3809880" y="6029280"/>
            <a:ext cx="14479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A0DB80-EE6E-49FB-BB87-500B061D1A57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5700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ETF meeting</a:t>
            </a:r>
            <a:br>
              <a:rPr sz="32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CONF over WebSocke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tp://tools.ietf.org/html/draft-iijima-netconf-websocket-ps-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40080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oyuki Iiji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tach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oyasu Kimura, Yoshifumi Atarashi, and Hidemitsu Higuch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axala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7EBC7E-C3F2-41AB-A489-AFB5FF5F14E1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 of the I-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pose a way of sending NETCONF over WebSocket protoc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not to intend to make this proposal as manda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34B9AE-2D78-4EDC-AD01-159618C2C333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browser-based management system is increasing with the advancement of web technologies and cloud compu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26676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AWS (Amazon Web Service), DMTF CIMI (Cloud Infrastructure Management Interfa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NETCONF has high compatibility with HTML/HTTP in that it uses XML as its messaging, NETCONF is rarely used for browser-based management system. Some of the reasons might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26676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’s no easy way to develop browser-based management syst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26676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 lacks bi-directional capabi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now, WebSocket, an extension of HTTP, is under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26676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ocket provides JavaScript API to be used for web brow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26676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ocket provides bi-directional capabi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CONF should be used for browser-based management systems by supporting WebS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since 8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ETF mee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er comments received at the 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ETF meeting, we’ve made following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ed the description into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the NETCONF diagram from the one from RFC5277 to the one from RFC624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ed the description about secur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スライド番号プレースホルダ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026D45-567F-4634-829A-2BB0B7EFF306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78F2BA-4991-492E-88F8-8F261192C5AD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CONF messag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CONF messages are exchanged after WS handshake is 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CONF notifications from NETCONF server are sent after NETCONF session is established by &lt;hello&gt; exchange and session ID alloc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1447920" y="3200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" name="Line 5"/>
          <p:cNvSpPr/>
          <p:nvPr/>
        </p:nvSpPr>
        <p:spPr>
          <a:xfrm>
            <a:off x="7467480" y="3200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" name="Line 6"/>
          <p:cNvSpPr/>
          <p:nvPr/>
        </p:nvSpPr>
        <p:spPr>
          <a:xfrm>
            <a:off x="32767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276720" y="4648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609480" y="2895480"/>
            <a:ext cx="1752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NETCONF Client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647040" y="2895480"/>
            <a:ext cx="1752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NETCONF Server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276720" y="320040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grade: WebSocket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tocol: NETCONF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276720" y="388620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/1.1 101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grade: WebSocket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tocol: NETCONF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1447920" y="5562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048120" y="52578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create-subscription&gt;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1447920" y="5943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048120" y="5638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otification&gt;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1447920" y="609588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1447920" y="62485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5867280" y="397836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Socket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shake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" name="AutoShape 19"/>
          <p:cNvSpPr/>
          <p:nvPr/>
        </p:nvSpPr>
        <p:spPr>
          <a:xfrm>
            <a:off x="5791320" y="380988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7620120" y="5029200"/>
            <a:ext cx="144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CONF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s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session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" name="AutoShape 21"/>
          <p:cNvSpPr/>
          <p:nvPr/>
        </p:nvSpPr>
        <p:spPr>
          <a:xfrm>
            <a:off x="7543800" y="48769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1447560"/>
              <a:gd name="textAreaBottom" fmla="*/ 14238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9"/>
                  <a:pt x="10800" y="1137"/>
                </a:cubicBezTo>
                <a:lnTo>
                  <a:pt x="10800" y="9663"/>
                </a:lnTo>
                <a:cubicBezTo>
                  <a:pt x="10800" y="10232"/>
                  <a:pt x="16200" y="10800"/>
                  <a:pt x="21600" y="10800"/>
                </a:cubicBezTo>
                <a:cubicBezTo>
                  <a:pt x="16200" y="10800"/>
                  <a:pt x="10800" y="11369"/>
                  <a:pt x="10800" y="11937"/>
                </a:cubicBezTo>
                <a:lnTo>
                  <a:pt x="10800" y="20463"/>
                </a:lnTo>
                <a:cubicBezTo>
                  <a:pt x="10800" y="2103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3" name="Picture 22" descr=""/>
          <p:cNvPicPr/>
          <p:nvPr/>
        </p:nvPicPr>
        <p:blipFill>
          <a:blip r:embed="rId1"/>
          <a:stretch/>
        </p:blipFill>
        <p:spPr>
          <a:xfrm>
            <a:off x="76320" y="3276720"/>
            <a:ext cx="1209600" cy="1176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AX2430S-48T2X_S"/>
          <p:cNvPicPr/>
          <p:nvPr/>
        </p:nvPicPr>
        <p:blipFill>
          <a:blip r:embed="rId2"/>
          <a:stretch/>
        </p:blipFill>
        <p:spPr>
          <a:xfrm>
            <a:off x="7561440" y="3276720"/>
            <a:ext cx="1201680" cy="358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4"/>
          <p:cNvSpPr/>
          <p:nvPr/>
        </p:nvSpPr>
        <p:spPr>
          <a:xfrm>
            <a:off x="2438280" y="2895480"/>
            <a:ext cx="1752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WS Client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4800600" y="2895480"/>
            <a:ext cx="1752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WS Server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" name="Line 26"/>
          <p:cNvSpPr/>
          <p:nvPr/>
        </p:nvSpPr>
        <p:spPr>
          <a:xfrm>
            <a:off x="3276720" y="3200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5715000" y="3200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" name="Line 28"/>
          <p:cNvSpPr/>
          <p:nvPr/>
        </p:nvSpPr>
        <p:spPr>
          <a:xfrm>
            <a:off x="1447920" y="3743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1371600" y="32004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d html file that uses WebSocket API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1447920" y="495288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048120" y="46483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hello&gt;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47920" y="52578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1447920" y="4724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048120" y="49528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hello&gt;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5259A9-8FDC-4E0A-B0AC-AD0C229F1F8A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CONF messag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CONF messages should be sent according to the specification of Data Framing specified by WebSocket protoc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the recent specification (-17, and in RFC queue), NETCONF message should be encapsulated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066680" y="419112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CP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2895480" y="419112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WS header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1066680" y="4191120"/>
            <a:ext cx="693432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4724280" y="4191120"/>
            <a:ext cx="3276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NETCONF message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" name="Text Box 95"/>
          <p:cNvSpPr/>
          <p:nvPr/>
        </p:nvSpPr>
        <p:spPr>
          <a:xfrm>
            <a:off x="5329800" y="4800600"/>
            <a:ext cx="35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CONF message is created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parsed by using JavaScript DOM API.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" name="Text Box 95"/>
          <p:cNvSpPr/>
          <p:nvPr/>
        </p:nvSpPr>
        <p:spPr>
          <a:xfrm>
            <a:off x="5180040" y="5486400"/>
            <a:ext cx="395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 header is added when NETCONF message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handed over to WS through WebSocket API.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" name="Line 100"/>
          <p:cNvSpPr/>
          <p:nvPr/>
        </p:nvSpPr>
        <p:spPr>
          <a:xfrm>
            <a:off x="3733920" y="4724280"/>
            <a:ext cx="137160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" name="Line 100"/>
          <p:cNvSpPr/>
          <p:nvPr/>
        </p:nvSpPr>
        <p:spPr>
          <a:xfrm>
            <a:off x="4952880" y="4732200"/>
            <a:ext cx="304920" cy="22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WebSocket I-D, NETCONF’s requirements for transport protocol are fulfilled by following security mechanis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ed by mechanisms available to generic HTTP server during WS handshake, which include Cookies, HTTP Authentication, and TLS authentication  (see WebSocket I-D, sec. 10.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and Confidenti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ed by TLS (see WebSocket I-D, sec. 10.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use of TLS is necessary for NETCONF over WebSocket, as in the case of NETCONF/SOAP/HTT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S is provided as a set of WebSocket. Easy to 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, WebSocket itself has its own security mechanis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is check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at server during WS handsh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is check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-WebSocket-Acce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at cli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load is masked by masking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スライド番号プレースホルダ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6649D3-87E1-4ED9-9762-D71D26EC145B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4F3E0A-D011-4AAF-A553-2C4D3C8AE24E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of NETCONF/WebS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0"/>
          <p:cNvSpPr/>
          <p:nvPr/>
        </p:nvSpPr>
        <p:spPr>
          <a:xfrm>
            <a:off x="2809800" y="2743200"/>
            <a:ext cx="139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3" name="Rectangle 111"/>
          <p:cNvSpPr/>
          <p:nvPr/>
        </p:nvSpPr>
        <p:spPr>
          <a:xfrm>
            <a:off x="6607080" y="2743200"/>
            <a:ext cx="139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114" name="Picture 99" descr="AX2430S-48T2X_S"/>
          <p:cNvPicPr/>
          <p:nvPr/>
        </p:nvPicPr>
        <p:blipFill>
          <a:blip r:embed="rId1"/>
          <a:stretch/>
        </p:blipFill>
        <p:spPr>
          <a:xfrm>
            <a:off x="3919680" y="5584680"/>
            <a:ext cx="1201680" cy="35892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115"/>
          <p:cNvGrpSpPr/>
          <p:nvPr/>
        </p:nvGrpSpPr>
        <p:grpSpPr>
          <a:xfrm>
            <a:off x="4834080" y="4619520"/>
            <a:ext cx="2100240" cy="892440"/>
            <a:chOff x="4834080" y="4619520"/>
            <a:chExt cx="2100240" cy="892440"/>
          </a:xfrm>
        </p:grpSpPr>
        <p:sp>
          <p:nvSpPr>
            <p:cNvPr id="116" name="Line 101"/>
            <p:cNvSpPr/>
            <p:nvPr/>
          </p:nvSpPr>
          <p:spPr>
            <a:xfrm flipH="1">
              <a:off x="4834080" y="4619520"/>
              <a:ext cx="457200" cy="89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17" name="Text Box 103"/>
            <p:cNvSpPr/>
            <p:nvPr/>
          </p:nvSpPr>
          <p:spPr>
            <a:xfrm>
              <a:off x="5168880" y="4736520"/>
              <a:ext cx="176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nt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　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tification</a:t>
              </a:r>
              <a:endParaRPr b="0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18" name="Group 114"/>
          <p:cNvGrpSpPr/>
          <p:nvPr/>
        </p:nvGrpSpPr>
        <p:grpSpPr>
          <a:xfrm>
            <a:off x="2594880" y="4619520"/>
            <a:ext cx="1629360" cy="892440"/>
            <a:chOff x="2594880" y="4619520"/>
            <a:chExt cx="1629360" cy="892440"/>
          </a:xfrm>
        </p:grpSpPr>
        <p:sp>
          <p:nvSpPr>
            <p:cNvPr id="119" name="Line 100"/>
            <p:cNvSpPr/>
            <p:nvPr/>
          </p:nvSpPr>
          <p:spPr>
            <a:xfrm>
              <a:off x="3767040" y="4619520"/>
              <a:ext cx="457200" cy="89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0" name="Text Box 104"/>
            <p:cNvSpPr/>
            <p:nvPr/>
          </p:nvSpPr>
          <p:spPr>
            <a:xfrm>
              <a:off x="2594880" y="4723920"/>
              <a:ext cx="12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figuration</a:t>
              </a:r>
              <a:endParaRPr b="0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21" name="Text Box 105"/>
          <p:cNvSpPr/>
          <p:nvPr/>
        </p:nvSpPr>
        <p:spPr>
          <a:xfrm>
            <a:off x="2195280" y="54864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CONF server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HTTP + WS server)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" name="Text Box 106"/>
          <p:cNvSpPr/>
          <p:nvPr/>
        </p:nvSpPr>
        <p:spPr>
          <a:xfrm>
            <a:off x="2248200" y="4030560"/>
            <a:ext cx="193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CONF client A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HTTP + WS browser)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Text Box 109"/>
          <p:cNvSpPr/>
          <p:nvPr/>
        </p:nvSpPr>
        <p:spPr>
          <a:xfrm>
            <a:off x="4578120" y="403056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CONF client B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" name="円/楕円 41"/>
          <p:cNvSpPr/>
          <p:nvPr/>
        </p:nvSpPr>
        <p:spPr>
          <a:xfrm>
            <a:off x="2984400" y="5006880"/>
            <a:ext cx="31687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25" name="グループ化 47"/>
          <p:cNvGrpSpPr/>
          <p:nvPr/>
        </p:nvGrpSpPr>
        <p:grpSpPr>
          <a:xfrm>
            <a:off x="4965840" y="1523880"/>
            <a:ext cx="3898440" cy="2476800"/>
            <a:chOff x="4965840" y="1523880"/>
            <a:chExt cx="3898440" cy="2476800"/>
          </a:xfrm>
        </p:grpSpPr>
        <p:grpSp>
          <p:nvGrpSpPr>
            <p:cNvPr id="126" name="Group 93"/>
            <p:cNvGrpSpPr/>
            <p:nvPr/>
          </p:nvGrpSpPr>
          <p:grpSpPr>
            <a:xfrm>
              <a:off x="7810200" y="1950480"/>
              <a:ext cx="1054080" cy="1221120"/>
              <a:chOff x="7810200" y="1950480"/>
              <a:chExt cx="1054080" cy="1221120"/>
            </a:xfrm>
          </p:grpSpPr>
          <p:pic>
            <p:nvPicPr>
              <p:cNvPr id="127" name="Picture 94" descr="d3-011"/>
              <p:cNvPicPr/>
              <p:nvPr/>
            </p:nvPicPr>
            <p:blipFill>
              <a:blip r:embed="rId2"/>
              <a:stretch/>
            </p:blipFill>
            <p:spPr>
              <a:xfrm>
                <a:off x="7914600" y="1950480"/>
                <a:ext cx="924480" cy="90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Text Box 95"/>
              <p:cNvSpPr/>
              <p:nvPr/>
            </p:nvSpPr>
            <p:spPr>
              <a:xfrm>
                <a:off x="7810200" y="2864520"/>
                <a:ext cx="105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perator B</a:t>
                </a:r>
                <a:endParaRPr b="0" lang="en-US" sz="14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9" name="Line 96"/>
            <p:cNvSpPr/>
            <p:nvPr/>
          </p:nvSpPr>
          <p:spPr>
            <a:xfrm>
              <a:off x="7619760" y="1523880"/>
              <a:ext cx="29448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" name="Line 97"/>
            <p:cNvSpPr/>
            <p:nvPr/>
          </p:nvSpPr>
          <p:spPr>
            <a:xfrm flipV="1">
              <a:off x="7619760" y="2559960"/>
              <a:ext cx="294480" cy="1401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131" name="Picture 3" descr=""/>
            <p:cNvPicPr/>
            <p:nvPr/>
          </p:nvPicPr>
          <p:blipFill>
            <a:blip r:embed="rId3"/>
            <a:stretch/>
          </p:blipFill>
          <p:spPr>
            <a:xfrm>
              <a:off x="4965840" y="1523880"/>
              <a:ext cx="2679120" cy="247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グループ化 46"/>
          <p:cNvGrpSpPr/>
          <p:nvPr/>
        </p:nvGrpSpPr>
        <p:grpSpPr>
          <a:xfrm>
            <a:off x="272880" y="1523880"/>
            <a:ext cx="3934080" cy="2476800"/>
            <a:chOff x="272880" y="1523880"/>
            <a:chExt cx="3934080" cy="2476800"/>
          </a:xfrm>
        </p:grpSpPr>
        <p:pic>
          <p:nvPicPr>
            <p:cNvPr id="133" name="Picture 82" descr="d3-011"/>
            <p:cNvPicPr/>
            <p:nvPr/>
          </p:nvPicPr>
          <p:blipFill>
            <a:blip r:embed="rId4"/>
            <a:stretch/>
          </p:blipFill>
          <p:spPr>
            <a:xfrm>
              <a:off x="3256920" y="1950480"/>
              <a:ext cx="924480" cy="9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83"/>
            <p:cNvSpPr/>
            <p:nvPr/>
          </p:nvSpPr>
          <p:spPr>
            <a:xfrm>
              <a:off x="3152880" y="286488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perator A</a:t>
              </a:r>
              <a:endParaRPr b="0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135" name="Picture 2" descr=""/>
            <p:cNvPicPr/>
            <p:nvPr/>
          </p:nvPicPr>
          <p:blipFill>
            <a:blip r:embed="rId5"/>
            <a:stretch/>
          </p:blipFill>
          <p:spPr>
            <a:xfrm>
              <a:off x="272880" y="1523880"/>
              <a:ext cx="2679120" cy="24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Line 96"/>
            <p:cNvSpPr/>
            <p:nvPr/>
          </p:nvSpPr>
          <p:spPr>
            <a:xfrm>
              <a:off x="2952000" y="1523880"/>
              <a:ext cx="29448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" name="Line 97"/>
            <p:cNvSpPr/>
            <p:nvPr/>
          </p:nvSpPr>
          <p:spPr>
            <a:xfrm flipV="1">
              <a:off x="2952000" y="2559960"/>
              <a:ext cx="294480" cy="1401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38" name="正方形/長方形 29"/>
          <p:cNvSpPr/>
          <p:nvPr/>
        </p:nvSpPr>
        <p:spPr>
          <a:xfrm>
            <a:off x="6248520" y="2514600"/>
            <a:ext cx="1447560" cy="6094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" name="正方形/長方形 30"/>
          <p:cNvSpPr/>
          <p:nvPr/>
        </p:nvSpPr>
        <p:spPr>
          <a:xfrm>
            <a:off x="152280" y="1447920"/>
            <a:ext cx="2895840" cy="2590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0" name="Text Box 83"/>
          <p:cNvSpPr/>
          <p:nvPr/>
        </p:nvSpPr>
        <p:spPr>
          <a:xfrm>
            <a:off x="101520" y="4138560"/>
            <a:ext cx="238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. Browser-based NMS 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s realized, which doesn’t 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quire installment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1" name="Text Box 83"/>
          <p:cNvSpPr/>
          <p:nvPr/>
        </p:nvSpPr>
        <p:spPr>
          <a:xfrm>
            <a:off x="6705720" y="4075200"/>
            <a:ext cx="24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. Real time notification is realized, which is useful for failure notification.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2" name="Text Box 83"/>
          <p:cNvSpPr/>
          <p:nvPr/>
        </p:nvSpPr>
        <p:spPr>
          <a:xfrm>
            <a:off x="304920" y="31240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ETCONF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figuration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essage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3" name="Text Box 83"/>
          <p:cNvSpPr/>
          <p:nvPr/>
        </p:nvSpPr>
        <p:spPr>
          <a:xfrm>
            <a:off x="5029200" y="31240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ETCONF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otification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essage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" name="Line 100"/>
          <p:cNvSpPr/>
          <p:nvPr/>
        </p:nvSpPr>
        <p:spPr>
          <a:xfrm>
            <a:off x="7467480" y="3124080"/>
            <a:ext cx="457200" cy="8924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38C147-170F-46A2-88D5-EC206BEE98DA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d a way of sending NETCONF over WebSocket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think that for NETCONF to support WebSocket is meaningful for NETCONF’s deploy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WG have interes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, should this I-D move forward as an Experimental I-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신명기</dc:creator>
  <dc:description/>
  <dc:language>en-US</dc:language>
  <cp:lastModifiedBy>10011897</cp:lastModifiedBy>
  <dcterms:modified xsi:type="dcterms:W3CDTF">2011-11-02T02:25:35Z</dcterms:modified>
  <cp:revision>482</cp:revision>
  <dc:subject/>
  <dc:title>Using a Single IPv4 Global Address in DSTM  &lt;draft-shin-dstm-si</dc:title>
</cp:coreProperties>
</file>