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07240" cy="993924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38">
                <a:moveTo>
                  <a:pt x="4" y="0"/>
                </a:moveTo>
                <a:arcTo wR="4" hR="4" stAng="16200000" swAng="-5400000"/>
                <a:lnTo>
                  <a:pt x="0" y="31534"/>
                </a:lnTo>
                <a:arcTo wR="4" hR="4" stAng="10800000" swAng="-5400000"/>
                <a:lnTo>
                  <a:pt x="21596" y="3153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5360" bIns="4536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  <a:def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BC3D4B28-DEAD-4E90-A75F-C57A6E1C4DB7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DA76DA3C-F46A-457F-9B2E-4E9F5396E65E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, I’m Tomoyuki Iijima from Hitach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’m going to talk about the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139C27F5-EBD0-45F0-AE91-7E91993EF1F6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 of all, this is the objective of the I-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ive of the I-D is to propose a way of sending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, we are not intend to make this proposal as mand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1A94705D-953B-4057-9CD6-952D0820D8B3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 of this I-D i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browser-based management system is increasing with the advancement of web technologies and cloud compu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though NETCONF has high compatibility with HTML/HTTP in that it uses XML as its messaging, NETCONF is rarely used for browser-based management system. Some of the reasons might be that there’s no easy way to develop browser-based management system. And HTTP lacks bi-directional cap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now, WebSocket, an extension of HTTP with bi-directional capability, is under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bSocket provides JavaScript APIs to be used for web browser as well as bi-directional cap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 think NETCONF should be used for browser-based management systems by supporting WebSo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the meeting before last, we’ve made following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’ve expanded the description into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’ve changed the NETCONF diagram from the one from RFC5277 to the one from RFC624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, we’ve expanded the description about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スライド番号プレースホルダ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36FCDE40-54B3-4608-BCAC-46D21B4887AB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C54D02F4-491E-4320-ABCF-481633F57CD5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y of exchanging NETCONF messages i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are exchanged after WebSocket handshake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ring WebSocket handshake, declaration of protocol needs to be made between client and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notification from NETCONF server are sent after NETCONF session is established by &lt;hello&gt; exchange and session ID allo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BDB97194-4C9A-4849-B031-805742B53C09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should be sent according to the specification of Data Framing specified by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ording to the recent specification, NETCONF messages should be encapsulat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CONF messages itself is created and parsed by using JavaScript DOM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S header is added when NETCONF message is handed over to WS stack through WebSocket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 should be ensur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 of all, according to WebSocekt I-D, NETCONF’s requirements for transport protocol are fulfilled by following security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entication is fulfilled by mechanisms available to generic HTTP server during WS handshake, which include Cookies, HTTP Authentication, and TLS Authent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grity and confidentiality are fulfilled by T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us, the use of TLS is necessary NETCONF over WebSocket, as in the case of NETCONF/SOAP/HTT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TLS is provided as a set of WebSocket. So, it’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addition, WebSocket itself has its own security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ient is checked by origin header at server during WS handsh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er is checked by sec-websocket-accept header at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payload is masked by masking-ke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スライド番号プレースホルダ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89F8395D-4E47-4CDC-9629-38C77D443F6B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0BB9A980-A835-43C0-93D9-DD64596507E2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example, this kind of thing is re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image shows that operator A is configuring network device while operator B is just subscribing no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rst, browser-based network management system is realized, which doesn’t require install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, real time notification is realized, which is useful for failure no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6880"/>
                <a:tab algn="l" pos="2649600"/>
                <a:tab algn="l" pos="3533760"/>
                <a:tab algn="l" pos="4416480"/>
                <a:tab algn="l" pos="5300640"/>
                <a:tab algn="l" pos="6183360"/>
                <a:tab algn="l" pos="7067520"/>
                <a:tab algn="l" pos="7950240"/>
                <a:tab algn="l" pos="8834400"/>
                <a:tab algn="l" pos="9717120"/>
                <a:tab algn="l" pos="9968040"/>
                <a:tab algn="l" pos="10401480"/>
                <a:tab algn="l" pos="10834560"/>
              </a:tabLst>
            </a:pPr>
            <a:fld id="{749D6C2E-482D-4F9A-B52E-CF0D8189F44D}" type="slidenum">
              <a:rPr b="0" lang="ja-JP" sz="13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6720" y="765000"/>
            <a:ext cx="4970520" cy="3727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conclusion, we proposed a way of sending NETCONF over WebSocket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think that for NETCONF to support WebSocket is meaningful for NETCONF’s deplo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es WG have inter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YES, should this I-D move forward as an Experimental I-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t’s it for our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6EB-5558-47B3-9E6E-FAE31F92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738-7AC5-41FB-B095-0FD84AC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0A1-42AE-4A4E-AED9-7236BE27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B79-7654-4E78-8F1D-91106FBD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5D7-B48A-452E-A2BE-5C324F81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1A4-4A43-4ABC-BFEE-EF992BA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9D2-9B89-422F-9775-EA53CAD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0C1-3CC7-477C-8789-FEB24EFE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2C0-18A1-4E9E-8AE0-3732CEF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F27-200A-43C4-A658-DFB2E723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ED4-6EF2-461F-9AC3-4740907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77C-DCCC-4B4C-BA85-2B6D2F4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41B79F-B15A-45BB-9B5A-929BEEEA4FBE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" name="Picture 8" descr="ietflogo"/>
          <p:cNvPicPr/>
          <p:nvPr/>
        </p:nvPicPr>
        <p:blipFill>
          <a:blip r:embed="rId2"/>
          <a:stretch/>
        </p:blipFill>
        <p:spPr>
          <a:xfrm>
            <a:off x="3809880" y="6029280"/>
            <a:ext cx="14479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FEC6CF-FDEE-479A-91D4-B8954927CD08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5700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TF meeting</a:t>
            </a:r>
            <a:br>
              <a:rPr sz="32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CONF over WebSocke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tools.ietf.org/html/draft-iijima-netconf-websocket-ps-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4008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yuki Iij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tac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yasu Kimura, Yoshifumi Atarashi, and Hidemitsu Higuch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axala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6981DF-7C0F-42A0-8583-34BDED9F2A2C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of the I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pose a way of sending NETCONF over WebSocket proto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not to intend to make this proposal as manda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FD0CB-5C2A-4199-9CC0-8A6EB7E18969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rowser-based management system is increasing with the advancement of web technologies and cloud comp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AWS (Amazon Web Service), DMTF CIMI (Cloud Infrastructure Management Interf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NETCONF has high compatibility with HTML/HTTP in that it uses XML as its messaging, NETCONF is rarely used for browser-based management system. Some of the reasons might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’s no easy way to develop browser-based management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 lacks bi-directional cap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w, WebSocket, an extension of HTTP, is under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ocket provides JavaScript API to be used for web brow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ocket provides bi-directional cap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CONF should be used for browser-based management systems by supporting Web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since 8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TF me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er comments received at the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ETF meeting, we’ve made following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he description into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he NETCONF diagram from the one from RFC5277 to the one from RFC62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he description about secu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スライド番号プレースホルダ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4B5A00-DA0E-438A-912F-C2C83B71BDFB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65EA51-5F63-4110-B94F-F938E398A622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CONF messag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CONF messages are exchanged after WS handshake is 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CONF notifications from NETCONF server are sent after NETCONF session is established by &lt;hello&gt; exchange and session ID allo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44792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Line 5"/>
          <p:cNvSpPr/>
          <p:nvPr/>
        </p:nvSpPr>
        <p:spPr>
          <a:xfrm>
            <a:off x="746748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2767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609480" y="289548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NETCONF Client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47040" y="28954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NETCONF Server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76720" y="32004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grade: 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ocol: 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76720" y="38862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/1.1 101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grade: 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ocol: 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1447920" y="5562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048120" y="52578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create-subscription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447920" y="5943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048120" y="5638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otification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1447920" y="6095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1447920" y="62485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867280" y="39783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Socke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shak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5791320" y="38098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620120" y="5029200"/>
            <a:ext cx="144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s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session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7543800" y="48769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1447560"/>
              <a:gd name="textAreaBottom" fmla="*/ 1423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9"/>
                  <a:pt x="10800" y="1137"/>
                </a:cubicBezTo>
                <a:lnTo>
                  <a:pt x="10800" y="9663"/>
                </a:lnTo>
                <a:cubicBezTo>
                  <a:pt x="10800" y="10232"/>
                  <a:pt x="16200" y="10800"/>
                  <a:pt x="21600" y="10800"/>
                </a:cubicBezTo>
                <a:cubicBezTo>
                  <a:pt x="16200" y="10800"/>
                  <a:pt x="10800" y="11369"/>
                  <a:pt x="10800" y="11937"/>
                </a:cubicBezTo>
                <a:lnTo>
                  <a:pt x="10800" y="20463"/>
                </a:lnTo>
                <a:cubicBezTo>
                  <a:pt x="10800" y="210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76320" y="3276720"/>
            <a:ext cx="1209600" cy="117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AX2430S-48T2X_S"/>
          <p:cNvPicPr/>
          <p:nvPr/>
        </p:nvPicPr>
        <p:blipFill>
          <a:blip r:embed="rId2"/>
          <a:stretch/>
        </p:blipFill>
        <p:spPr>
          <a:xfrm>
            <a:off x="7561440" y="3276720"/>
            <a:ext cx="1201680" cy="358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4"/>
          <p:cNvSpPr/>
          <p:nvPr/>
        </p:nvSpPr>
        <p:spPr>
          <a:xfrm>
            <a:off x="2438280" y="289548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WS Client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4800600" y="28954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WS Server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327672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5715000" y="3200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1447920" y="3743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1371600" y="32004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 html file that uses WebSocket API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4479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812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llo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47920" y="5257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144792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048120" y="49528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llo&gt;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199B85-4EEC-41D6-8532-E33DD1327CC7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CONF messag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ONF messages should be sent according to the specification of Data Framing specified by WebSocket protoc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the recent specification (-17, and in RFC queue), NETCONF message should be encapsulat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066680" y="41911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895480" y="41911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WS heade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6680" y="4191120"/>
            <a:ext cx="69343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724280" y="4191120"/>
            <a:ext cx="3276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NETCONF message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Text Box 95"/>
          <p:cNvSpPr/>
          <p:nvPr/>
        </p:nvSpPr>
        <p:spPr>
          <a:xfrm>
            <a:off x="5329800" y="480060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message is created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arsed by using JavaScript DOM API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" name="Text Box 95"/>
          <p:cNvSpPr/>
          <p:nvPr/>
        </p:nvSpPr>
        <p:spPr>
          <a:xfrm>
            <a:off x="5180040" y="5486400"/>
            <a:ext cx="395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 header is added when NETCONF 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handed over to WS through WebSocket API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Line 100"/>
          <p:cNvSpPr/>
          <p:nvPr/>
        </p:nvSpPr>
        <p:spPr>
          <a:xfrm>
            <a:off x="3733920" y="4724280"/>
            <a:ext cx="13716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" name="Line 100"/>
          <p:cNvSpPr/>
          <p:nvPr/>
        </p:nvSpPr>
        <p:spPr>
          <a:xfrm>
            <a:off x="4952880" y="4732200"/>
            <a:ext cx="304920" cy="22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ebSocket I-D, NETCONF’s requirements for transport protocol are fulfilled by following security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ed by mechanisms available to generic HTTP server during WS handshake, which include Cookies, HTTP Authentication, and TLS authentication  (see WebSocket I-D, sec. 10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and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ed by TLS (see WebSocket I-D, sec. 10.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use of TLS is necessary for NETCONF over WebSocket, as in the case of NETCONF/SOAP/HT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S is provided as a set of WebSocket. Easy to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WebSocket itself has its own security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is check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at server during WS handsh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is check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-WebSocket-Acce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at cli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6000"/>
              </a:lnSpc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 is masked by masking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スライド番号プレースホルダ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BA8AF-B435-40FA-8A15-37A9A8B4DA9E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1788E-B8B2-447B-A91B-0B15E091EA07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NETCONF/WebS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0"/>
          <p:cNvSpPr/>
          <p:nvPr/>
        </p:nvSpPr>
        <p:spPr>
          <a:xfrm>
            <a:off x="2809800" y="2743200"/>
            <a:ext cx="13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" name="Rectangle 111"/>
          <p:cNvSpPr/>
          <p:nvPr/>
        </p:nvSpPr>
        <p:spPr>
          <a:xfrm>
            <a:off x="6607080" y="2743200"/>
            <a:ext cx="13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14" name="Picture 99" descr="AX2430S-48T2X_S"/>
          <p:cNvPicPr/>
          <p:nvPr/>
        </p:nvPicPr>
        <p:blipFill>
          <a:blip r:embed="rId1"/>
          <a:stretch/>
        </p:blipFill>
        <p:spPr>
          <a:xfrm>
            <a:off x="3919680" y="5584680"/>
            <a:ext cx="1201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15"/>
          <p:cNvGrpSpPr/>
          <p:nvPr/>
        </p:nvGrpSpPr>
        <p:grpSpPr>
          <a:xfrm>
            <a:off x="4834080" y="4619520"/>
            <a:ext cx="2100240" cy="892440"/>
            <a:chOff x="4834080" y="4619520"/>
            <a:chExt cx="2100240" cy="892440"/>
          </a:xfrm>
        </p:grpSpPr>
        <p:sp>
          <p:nvSpPr>
            <p:cNvPr id="116" name="Line 101"/>
            <p:cNvSpPr/>
            <p:nvPr/>
          </p:nvSpPr>
          <p:spPr>
            <a:xfrm flipH="1">
              <a:off x="4834080" y="4619520"/>
              <a:ext cx="457200" cy="89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17" name="Text Box 103"/>
            <p:cNvSpPr/>
            <p:nvPr/>
          </p:nvSpPr>
          <p:spPr>
            <a:xfrm>
              <a:off x="5168880" y="4736520"/>
              <a:ext cx="17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nt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tification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18" name="Group 114"/>
          <p:cNvGrpSpPr/>
          <p:nvPr/>
        </p:nvGrpSpPr>
        <p:grpSpPr>
          <a:xfrm>
            <a:off x="2594880" y="4619520"/>
            <a:ext cx="1629360" cy="892440"/>
            <a:chOff x="2594880" y="4619520"/>
            <a:chExt cx="1629360" cy="892440"/>
          </a:xfrm>
        </p:grpSpPr>
        <p:sp>
          <p:nvSpPr>
            <p:cNvPr id="119" name="Line 100"/>
            <p:cNvSpPr/>
            <p:nvPr/>
          </p:nvSpPr>
          <p:spPr>
            <a:xfrm>
              <a:off x="3767040" y="4619520"/>
              <a:ext cx="457200" cy="89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0" name="Text Box 104"/>
            <p:cNvSpPr/>
            <p:nvPr/>
          </p:nvSpPr>
          <p:spPr>
            <a:xfrm>
              <a:off x="2594880" y="472392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figuration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1" name="Text Box 105"/>
          <p:cNvSpPr/>
          <p:nvPr/>
        </p:nvSpPr>
        <p:spPr>
          <a:xfrm>
            <a:off x="2195280" y="54864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server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HTTP + WS server)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Text Box 106"/>
          <p:cNvSpPr/>
          <p:nvPr/>
        </p:nvSpPr>
        <p:spPr>
          <a:xfrm>
            <a:off x="2248200" y="4030560"/>
            <a:ext cx="193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client A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HTTP + WS browser)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Text Box 109"/>
          <p:cNvSpPr/>
          <p:nvPr/>
        </p:nvSpPr>
        <p:spPr>
          <a:xfrm>
            <a:off x="4578120" y="403056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CONF client B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円/楕円 41"/>
          <p:cNvSpPr/>
          <p:nvPr/>
        </p:nvSpPr>
        <p:spPr>
          <a:xfrm>
            <a:off x="2984400" y="5006880"/>
            <a:ext cx="3168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5" name="グループ化 47"/>
          <p:cNvGrpSpPr/>
          <p:nvPr/>
        </p:nvGrpSpPr>
        <p:grpSpPr>
          <a:xfrm>
            <a:off x="4965840" y="1523880"/>
            <a:ext cx="3898440" cy="2476800"/>
            <a:chOff x="4965840" y="1523880"/>
            <a:chExt cx="3898440" cy="2476800"/>
          </a:xfrm>
        </p:grpSpPr>
        <p:grpSp>
          <p:nvGrpSpPr>
            <p:cNvPr id="126" name="Group 93"/>
            <p:cNvGrpSpPr/>
            <p:nvPr/>
          </p:nvGrpSpPr>
          <p:grpSpPr>
            <a:xfrm>
              <a:off x="7810200" y="1950480"/>
              <a:ext cx="1054080" cy="1221120"/>
              <a:chOff x="7810200" y="1950480"/>
              <a:chExt cx="1054080" cy="1221120"/>
            </a:xfrm>
          </p:grpSpPr>
          <p:pic>
            <p:nvPicPr>
              <p:cNvPr id="127" name="Picture 94" descr="d3-011"/>
              <p:cNvPicPr/>
              <p:nvPr/>
            </p:nvPicPr>
            <p:blipFill>
              <a:blip r:embed="rId2"/>
              <a:stretch/>
            </p:blipFill>
            <p:spPr>
              <a:xfrm>
                <a:off x="7914600" y="1950480"/>
                <a:ext cx="924480" cy="9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95"/>
              <p:cNvSpPr/>
              <p:nvPr/>
            </p:nvSpPr>
            <p:spPr>
              <a:xfrm>
                <a:off x="7810200" y="2864520"/>
                <a:ext cx="105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Operator B</a:t>
                </a:r>
                <a:endParaRPr b="0" lang="en-US" sz="14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9" name="Line 96"/>
            <p:cNvSpPr/>
            <p:nvPr/>
          </p:nvSpPr>
          <p:spPr>
            <a:xfrm>
              <a:off x="7619760" y="1523880"/>
              <a:ext cx="2944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" name="Line 97"/>
            <p:cNvSpPr/>
            <p:nvPr/>
          </p:nvSpPr>
          <p:spPr>
            <a:xfrm flipV="1">
              <a:off x="7619760" y="2559960"/>
              <a:ext cx="2944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131" name="Picture 3" descr=""/>
            <p:cNvPicPr/>
            <p:nvPr/>
          </p:nvPicPr>
          <p:blipFill>
            <a:blip r:embed="rId3"/>
            <a:stretch/>
          </p:blipFill>
          <p:spPr>
            <a:xfrm>
              <a:off x="4965840" y="1523880"/>
              <a:ext cx="2679120" cy="247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グループ化 46"/>
          <p:cNvGrpSpPr/>
          <p:nvPr/>
        </p:nvGrpSpPr>
        <p:grpSpPr>
          <a:xfrm>
            <a:off x="272880" y="1523880"/>
            <a:ext cx="3934080" cy="2476800"/>
            <a:chOff x="272880" y="1523880"/>
            <a:chExt cx="3934080" cy="2476800"/>
          </a:xfrm>
        </p:grpSpPr>
        <p:pic>
          <p:nvPicPr>
            <p:cNvPr id="133" name="Picture 82" descr="d3-011"/>
            <p:cNvPicPr/>
            <p:nvPr/>
          </p:nvPicPr>
          <p:blipFill>
            <a:blip r:embed="rId4"/>
            <a:stretch/>
          </p:blipFill>
          <p:spPr>
            <a:xfrm>
              <a:off x="3256920" y="1950480"/>
              <a:ext cx="9244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83"/>
            <p:cNvSpPr/>
            <p:nvPr/>
          </p:nvSpPr>
          <p:spPr>
            <a:xfrm>
              <a:off x="3152880" y="286488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perator A</a:t>
              </a:r>
              <a:endParaRPr b="0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135" name="Picture 2" descr=""/>
            <p:cNvPicPr/>
            <p:nvPr/>
          </p:nvPicPr>
          <p:blipFill>
            <a:blip r:embed="rId5"/>
            <a:stretch/>
          </p:blipFill>
          <p:spPr>
            <a:xfrm>
              <a:off x="272880" y="1523880"/>
              <a:ext cx="267912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96"/>
            <p:cNvSpPr/>
            <p:nvPr/>
          </p:nvSpPr>
          <p:spPr>
            <a:xfrm>
              <a:off x="2952000" y="1523880"/>
              <a:ext cx="2944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" name="Line 97"/>
            <p:cNvSpPr/>
            <p:nvPr/>
          </p:nvSpPr>
          <p:spPr>
            <a:xfrm flipV="1">
              <a:off x="2952000" y="2559960"/>
              <a:ext cx="2944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8" name="正方形/長方形 29"/>
          <p:cNvSpPr/>
          <p:nvPr/>
        </p:nvSpPr>
        <p:spPr>
          <a:xfrm>
            <a:off x="6248520" y="2514600"/>
            <a:ext cx="1447560" cy="609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正方形/長方形 30"/>
          <p:cNvSpPr/>
          <p:nvPr/>
        </p:nvSpPr>
        <p:spPr>
          <a:xfrm>
            <a:off x="152280" y="1447920"/>
            <a:ext cx="2895840" cy="2590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Text Box 83"/>
          <p:cNvSpPr/>
          <p:nvPr/>
        </p:nvSpPr>
        <p:spPr>
          <a:xfrm>
            <a:off x="101520" y="4138560"/>
            <a:ext cx="238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 Browser-based NMS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 realized, which doesn’t 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quire installment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" name="Text Box 83"/>
          <p:cNvSpPr/>
          <p:nvPr/>
        </p:nvSpPr>
        <p:spPr>
          <a:xfrm>
            <a:off x="6705720" y="407520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. Real time notification is realized, which is useful for failure notification.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Text Box 83"/>
          <p:cNvSpPr/>
          <p:nvPr/>
        </p:nvSpPr>
        <p:spPr>
          <a:xfrm>
            <a:off x="304920" y="31240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ETCON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figuratio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5029200" y="31240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ETCON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tification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" name="Line 100"/>
          <p:cNvSpPr/>
          <p:nvPr/>
        </p:nvSpPr>
        <p:spPr>
          <a:xfrm>
            <a:off x="7467480" y="3124080"/>
            <a:ext cx="457200" cy="892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スライド番号プレースホルダ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B8E55-A2CF-4773-94FC-0F404A0A25A4}" type="slidenum">
              <a:rPr b="0" lang="ja-JP" sz="1400" spc="-1" strike="noStrike">
                <a:solidFill>
                  <a:srgbClr val="000000"/>
                </a:solidFill>
                <a:latin typeface="Gulim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d a way of sending NETCONF over WebSocket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hink that for NETCONF to support WebSocket is meaningful for NETCONF’s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WG have interes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should this I-D move forward as an Experimental I-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신명기</dc:creator>
  <dc:description/>
  <dc:language>en-US</dc:language>
  <cp:lastModifiedBy>10011897</cp:lastModifiedBy>
  <dcterms:modified xsi:type="dcterms:W3CDTF">2011-11-02T02:25:35Z</dcterms:modified>
  <cp:revision>482</cp:revision>
  <dc:subject/>
  <dc:title>Using a Single IPv4 Global Address in DSTM  &lt;draft-shin-dstm-si</dc:title>
</cp:coreProperties>
</file>