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B2D6-087B-47CE-B2CB-E1146BAAC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327C-7C42-4F01-B4FF-5077D464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BF77-7445-4DE0-AAFD-171BA9455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911C-54D7-4172-B604-636CD0980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53FA-169E-427B-91CF-453D1071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06E2-2E1D-4E75-8496-E638BDA2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853F-81A0-4409-A4B6-7949C927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5DA5-D5C7-40DB-8805-4E1D6E91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7D23-B8BF-43C8-8E9C-E773D460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6A60-6FE5-44AA-AE2C-2AA2605B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64FC-C182-49CB-99F4-0F68B781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2936-D170-456E-85F9-DC79B4AD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385F-413A-4E76-8BFA-11FCEB02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6A3F-5A40-4827-89DC-EE5E9B5E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819B-C559-4DAE-A1F3-BD8E11A7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CE27-9B81-444D-B0BB-9A4F7BB4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347E-00BF-417A-ABEA-4D20A612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8851-300C-48A6-A53E-5839931B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77E1-A3C7-4439-B9B0-E3FF8002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78C2-89DE-4955-880A-20417EC2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FA1E-E6D1-4D47-8632-351926B2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59B2-9E92-4988-82F4-42946B79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226F-E388-45E6-9B58-B79A7567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9ADF-8706-474F-ABB3-7E6ACD63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9113-ED93-440B-B87C-CE7985C988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440" cy="474840"/>
              <a:chOff x="417600" y="2968560"/>
              <a:chExt cx="7394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8400" y="2968560"/>
                <a:ext cx="36864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C566-48E1-4C3B-BC32-109C6FFBA65F}" type="slidenum">
              <a:rPr b="0" lang="fr-FR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FC 5539 Update Status</a:t>
            </a:r>
            <a:br>
              <a:rPr sz="4400"/>
            </a:b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draft-badra-netconf-rfc5539bis-00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ohamad Bad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F 82, Taipei, Taiw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ibutors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Juergen Schoenwaeld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lan Luchuk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FF79-B5ED-4CD5-999D-63195D3BBEE9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Ste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any agreed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G i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6F47-B975-449C-9578-31E95AC71CFA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oals of RFC5539b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RFC 4742 based 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generate a NETCONF username and how does the document  fulfill the requirements in 6241 for the format of the usernam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es the NETCONF transport handle the following two scenari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peers advertise :base:1.1 capabilit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e or only one peer advertises :base:1.1 capabili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re the security considerations for using the EOM frame for the &lt;hello&gt; message or using it if one of the peers does not support :base:1.1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fix the EoM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3D0E-043F-4F40-9293-34C596492C2B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ent/Server, Agent/Manag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ggestion for global terminology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op client/server, manager/agent termi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ead, refer to the TLS client, the TLS server, the NETCONF client and the NETCONF server through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1DDB-C53B-4258-A6F7-3FFDEDBD0CC8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TCONF username generation: certificate c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ocument defines the </a:t>
            </a:r>
            <a:r>
              <a:rPr b="0" lang="en-US" sz="3200" spc="-1" strike="noStrike">
                <a:solidFill>
                  <a:srgbClr val="262673"/>
                </a:solidFill>
                <a:latin typeface="Tahoma"/>
              </a:rPr>
              <a:t>ietf-netconf-tls-userna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ANG modul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bjects for remotely configuring the mapping of TLS certificates to NETCONF usernam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4DBE-87E3-479C-B399-1B03F7E272AF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TCONF username generation: certificate c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enumerated value listed above, the NETCONF server derives the NETCONF from the presented client certifica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eaf map-typ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ype enumeration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um specified                                    { value 1;  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um rfc822Name                               { value 2;  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um dnsName                                   { value 3;  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um ipAddress                                   { value 4;  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um rfc822Name-dnsName-ipAddress  { value 5;  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um rfc822Name-ipAddress-dnsName  { value 6;  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um dnsName-ipAddress-rfc822Name  { value 7;  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um dnsName-rfc822Name-ipAddress  { value 8;  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um ipAddress-dnsName-rfc822Name  { value 9;  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um ipAddress-rfc822Name-dnsName  { value 10; 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4D86-0C12-4DEE-8ED9-EDEF1C1279CC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TCONF username generation: PSK c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K-based authentication is described in RFC427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he TLS Handshake, the client indicates which key to use by including a "PSK identity" in the T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KeyExchange mess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K identity is used as the NETCONF username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4279 provides more details on how the PSK identity MAY be encoded in UTF-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37E4-17E3-4D33-A3DB-5A06ABD4DEA3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quirements in 6241 for the format of the userna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username provided by the TLS implementation will be made available to the NETCONF message layer as the NETCONF user name without modific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username does not comply to the NETCONF requirements on usernames [RFC6241], i.e., the username is not representable in XML, the TLS session MUST be dropp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7F0F-32C7-46BE-A3E7-1C96BE6AF32E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EoM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&lt;hello&gt; message MUST be followed by the character sequence ]]&gt;]]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:base:1.1 capability is advertised by both peers, the chunked framing mechanism defined in Section 4.2 of RFC6242 is used for the remainder of the NETCONF ses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the old end-of-message-based mechanism (see Section 4.3 of RFC6242) is u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85E8-42DB-4DE1-B8BB-F9CB4B736505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pability advertisement 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security conside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he :base:1.1 capability is not advertised by both peers, an attacker might be able to deliberately insert the delimiter sequence ]]&gt;]]&gt; in a NETCONF message to create a DoS attack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:base:1.1 capability is not advertised by both peers, applications and NETCONF APIs MUST ensure that the delimiter sequence ]]&gt;]]&gt; never appears in NETCONF messages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those messages can be dropped, garbled, or misinterprete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C27F-5DA3-4B9A-82DD-3B88933608E7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20:12:28Z</dcterms:created>
  <dc:creator>Rouba</dc:creator>
  <dc:description/>
  <dc:language>en-US</dc:language>
  <cp:lastModifiedBy>mbadra</cp:lastModifiedBy>
  <dcterms:modified xsi:type="dcterms:W3CDTF">2011-11-15T06:12:03Z</dcterms:modified>
  <cp:revision>5</cp:revision>
  <dc:subject/>
  <dc:title>RFC 5539 Update Status draft-badra-netconf-rfc5539bis-00</dc:title>
</cp:coreProperties>
</file>