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8F2-A0C6-44D6-8213-3D045BF1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21D-065B-4EA4-8B2D-5C4ED5E7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B53-B554-4BDA-9D7D-D382513A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C54-B94F-4901-966A-3ABBAECB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BDCA-1DA7-4E43-9A61-497A9EF7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337F-4D2F-43A4-B2A5-F44529FF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A2B0-6CB9-418F-96EC-CC9F7708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F839-B828-468F-82B3-F4E3E708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0AA9-4D76-4FF1-AEC4-799A3329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F3A6-5EA6-412D-9E77-AA1E3F6F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5DE2-696C-4E37-A9EE-A2390A5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DD3-692A-4657-8433-12CFD213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0A46-A76F-44C3-95E3-B7BD3AAB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0CC4-02FB-48B8-A5CF-73232E4E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1FC4-8398-472A-BD4C-377302F4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B08C-930E-4C93-89B9-62A2A4FF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C406-320D-4CDE-B59B-B91EE529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040-CD29-492C-987D-64CA1D3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F5A-6301-4AF4-9CA0-244FC93B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07A-7C7D-4F2A-81B7-DE803864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AD0-DDF4-474F-B4A1-04A1B68E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3A2-B385-41CA-906C-F105EA4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5DA-34BA-4003-B2E0-FA966E23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E48-E964-46CD-97C7-3D54349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3C8C-42A8-444F-8196-3170D624A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0FE4-7E08-4C67-8C16-1B6C1D77A509}" type="slidenum">
              <a:rPr b="0" lang="fr-F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FC 5539 Update Status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raft-badra-netconf-rfc5539bis-00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hamad Bad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F 82, Taipei, Taiw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ors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Juergen Schoenwaeld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an Luchu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21A7-A89B-4F3B-9D95-42823E7BE87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any agreed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G i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E877-147A-4E7D-90EF-7924547EAB8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s of RFC5539b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RFC 4742 based 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generate a NETCONF username and how does the document  fulfill the requirements in 6241 for the format of the usern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the NETCONF transport handle the following two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peers advertise :base:1.1 capabi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 or only one peer advertises :base:1.1 cap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security considerations for using the EOM frame for the &lt;hello&gt; message or using it if one of the peers does not support :base:1.1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fix the EoM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3557-D5A0-4197-8130-C5DB14D3503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ent/Server, Agent/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ion for global terminology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client/server, manager/agent termi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ead, refer to the TLS client, the TLS server, the NETCONF client and the NETCONF server through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BEF3-117A-4D60-BDD6-3ABFC029A63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CONF username generation: certificate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ocument defines the </a:t>
            </a:r>
            <a:r>
              <a:rPr b="0" lang="en-US" sz="3200" spc="-1" strike="noStrike">
                <a:solidFill>
                  <a:srgbClr val="262673"/>
                </a:solidFill>
                <a:latin typeface="Tahoma"/>
              </a:rPr>
              <a:t>ietf-netconf-tls-usern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ANG modu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bjects for remotely configuring the mapping of TLS certificates to NETCONF usern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9DC6-B0B7-4A1C-881D-2F67AE80508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CONF username generation: certificate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enumerated value listed above, the NETCONF server derives the NETCONF from the presented client certific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af map-typ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ype enumeration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specified                                    { value 1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rfc822Name                               { value 2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dnsName                                   { value 3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ipAddress                                   { value 4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rfc822Name-dnsName-ipAddress  { value 5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rfc822Name-ipAddress-dnsName  { value 6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dnsName-ipAddress-rfc822Name  { value 7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dnsName-rfc822Name-ipAddress  { value 8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ipAddress-dnsName-rfc822Name  { value 9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ipAddress-rfc822Name-dnsName  { value 10;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9822-5C44-43BF-AB02-FC95CBEB195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CONF username generation: PSK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K-based authentication is described in RFC427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he TLS Handshake, the client indicates which key to use by including a "PSK identity" in the T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KeyExchange mess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K identity is used as the NETCONF usernam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4279 provides more details on how the PSK identity MAY be encoded in UTF-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FC76-23E7-4B5D-8D5A-C0548D84FAA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quirements in 6241 for the format of the userna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rname provided by the TLS implementation will be made available to the NETCONF message layer as the NETCONF user name without modific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username does not comply to the NETCONF requirements on usernames [RFC6241], i.e., the username is not representable in XML, the TLS session MUST be dropp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8066-D1A0-4D63-A762-A045E503446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oM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&lt;hello&gt; message MUST be followed by the character sequence ]]&gt;]]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:base:1.1 capability is advertised by both peers, the chunked framing mechanism defined in Section 4.2 of RFC6242 is used for the remainder of the NETCONF s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the old end-of-message-based mechanism (see Section 4.3 of RFC6242) i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F4C9-6F81-421F-BB69-8B4902BBE87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bility advertisement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ecurity consid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:base:1.1 capability is not advertised by both peers, an attacker might be able to deliberately insert the delimiter sequence ]]&gt;]]&gt; in a NETCONF message to create a DoS attack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:base:1.1 capability is not advertised by both peers, applications and NETCONF APIs MUST ensure that the delimiter sequence ]]&gt;]]&gt; never appears in NETCONF message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those messages can be dropped, garbled, or misinterpre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26B-617D-4E05-9133-B2E56849129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12:28Z</dcterms:created>
  <dc:creator>Rouba</dc:creator>
  <dc:description/>
  <dc:language>en-US</dc:language>
  <cp:lastModifiedBy>mbadra</cp:lastModifiedBy>
  <dcterms:modified xsi:type="dcterms:W3CDTF">2011-11-15T06:12:03Z</dcterms:modified>
  <cp:revision>5</cp:revision>
  <dc:subject/>
  <dc:title>RFC 5539 Update Status draft-badra-netconf-rfc5539bis-00</dc:title>
</cp:coreProperties>
</file>