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DB77-D873-4282-8B7D-D87C8CBE4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8683-3434-485C-A619-6256D9D1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B16D-EC8E-4917-8A0B-FDCBDE547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3F56-91FA-48B6-A7F4-8AA66E72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0C43-CF4D-4C77-A276-EE3D732A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C813-9837-4CD0-99C4-DC2AF0AC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04CA-6CD7-4A3A-9FAA-873F0E6A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7C73-2104-445E-A84F-2CA04627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7E17-2DA3-4876-88F9-FF963C2C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CB21-BF62-450A-BF59-A331D1B1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BBA3-E5C4-4C0D-A190-CDF122CE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F61D-CBB5-40D3-98E3-368346DA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01AA-1150-4D56-969F-2C9B43AB0C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21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roblem Statement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Flow Mobility Trigger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  <a:ea typeface="宋体"/>
              </a:rPr>
              <a:t>draft-tian-netext-flow-mobility-trigger-ps-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宋体"/>
              </a:rPr>
              <a:t>Tian Tia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宋体"/>
              </a:rPr>
              <a:t>Wei Y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宋体"/>
              </a:rPr>
              <a:t>Yuan We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low Mobility Trigger Summ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ther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0004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Flow mobility is an important issue and many related works are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Without making the trigger for flow mobility clear, the execution of flow mobility will be a castle in the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This draft summarizes the active discussion on flow mobility trigger in the mailing l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It aims to achieve a common consensus and make progress for the further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Flow mobility trigger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Host based trigg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L3-signaling trig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L2-signaling trigger (MAG trigg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Explicit flow trig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etwork based triggering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LMA trig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Other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N capability discov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MN capabilities are kn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Layer 2 signaling extension to provide h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MN capabilities are unkn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olicy synchro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Static configu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004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Work scope of flow mobility trigger in Netext W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Trigger solution related to the common protocol (e.g.  EAP) which is used  in specific L2 signaling, could it be discussed in this W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Where could the LMA get the policies for flow mobility, and how the policies are synchronized with the MN'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Strong reason for the LMA to obtain the information of MN in access networks, such as connectivity status, link characteristics and even the location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Specific limitation stat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宋体"/>
              </a:rPr>
              <a:t>Other questions and decision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eosborne</dc:creator>
  <dc:description/>
  <dc:language>en-US</dc:language>
  <cp:lastModifiedBy>刘博洋</cp:lastModifiedBy>
  <dcterms:modified xsi:type="dcterms:W3CDTF">2011-11-15T14:21:31Z</dcterms:modified>
  <cp:revision>56</cp:revision>
  <dc:subject/>
  <dc:title>1:n protection for MPLS-TP</dc:title>
</cp:coreProperties>
</file>