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73C-9971-4263-B743-CF9B39C8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503-0DDD-432D-B2D1-982121D8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BAD-0533-499C-9C36-AD947D24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FB5-2CB9-4FA3-B0B2-B7767456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F8A-FB4B-432C-A308-BEDDD18B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C3E-242C-4401-B1F1-59F6F23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783-B63B-43EE-85A1-DDB0376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C9A-12A1-4A25-8E3F-0B30AD17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97A-306C-4D8C-8841-03B3DD8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AFD-FDCE-47FF-8E42-E23F693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A22-7FAE-4979-BA89-1BB9B1B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06E-311B-4289-A973-24C9610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6FBA-F055-4751-B7A6-8ACFD44E5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roblem State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Trigg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draft-tian-netext-flow-mobility-trigger-ps-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宋体"/>
              </a:rPr>
              <a:t>Tian Ti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宋体"/>
              </a:rPr>
              <a:t>Wei Y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宋体"/>
              </a:rPr>
              <a:t>Yuan W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Trigger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is an important issue and many related works are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ithout making the trigger for flow mobility clear, the execution of flow mobility will be a castle in the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is draft summarizes the active discussion on flow mobility trigger in the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aims to achieve a common consensus and make progress for the further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trigger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st based trigg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3-signaling tri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2-signaling trigger (MAG trigg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plicit flow tri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twork based trigger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MA tri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N capability dis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MN capabilities are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ayer 2 signaling extension to provide h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MN capabilities are un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licy synchr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tatic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ork scope of flow mobility trigger in Netext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rigger solution related to the common protocol (e.g.  EAP) which is used  in specific L2 signaling, could it be discussed in this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here could the LMA get the policies for flow mobility, and how the policies are synchronized with the MN'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trong reason for the LMA to obtain the information of MN in access networks, such as connectivity status, link characteristics and even the location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pecific limitation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Other questions and decis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osborne</dc:creator>
  <dc:description/>
  <dc:language>en-US</dc:language>
  <cp:lastModifiedBy>刘博洋</cp:lastModifiedBy>
  <dcterms:modified xsi:type="dcterms:W3CDTF">2011-11-15T14:21:31Z</dcterms:modified>
  <cp:revision>56</cp:revision>
  <dc:subject/>
  <dc:title>1:n protection for MPLS-TP</dc:title>
</cp:coreProperties>
</file>