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7FE6EB-A68E-4294-9230-0E446DEFB8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F0211D-8976-4C1C-8525-3E74D140A9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CB7797-1E1E-481C-852F-F5C39513F2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0B27F0-EC4D-4CA5-8E9E-B4FFC9D4BA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164-68EA-41EA-94C6-1EB3E1F2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2F9-16DE-42D7-997C-6ADED2E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2EF-CE9F-4D4E-9935-A8C57844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CDE-AC61-4EA5-AE5D-0C7A9E5D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2DB-4235-40E3-8EFD-A593329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8D5-0A98-4F44-96BD-F3E52D82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213-4321-485E-88EB-23223E9E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EB2-A5D0-4338-9464-919F5EF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051-D684-4023-8148-61AF92D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4C5-D396-4D02-B70A-0B47A7C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82C-D646-44DE-A26A-EDC60F3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B20-B8F1-4A7E-B463-9287CB5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1C1-2F16-4A6A-A619-8A9FB704CE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fix Delegation for Proxy Mobile IPv6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aft-ietf-netext-pd-pmip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Xingyue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Jouni Korh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ri Gunda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ional Requi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eans to enable DHCPv6 Prefix Delegation for a Proxy Mobile IPv6 de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v6 Prefix Delegation as defined in RFC3633 does not work as of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N hands off from a MAG to another MAG, the target MAG does not have the knowledge of the delegated prefix set, thus it also lacks the forwarding state for the delegated prefi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MA does not necessarily have the knowledge of the delegated prefix set, thus it is not able to forward packets destined to delegated prefi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creen shot 2011-11-15 at 6.29.17 AM.png"/>
          <p:cNvPicPr/>
          <p:nvPr/>
        </p:nvPicPr>
        <p:blipFill>
          <a:blip r:embed="rId1"/>
          <a:stretch/>
        </p:blipFill>
        <p:spPr>
          <a:xfrm>
            <a:off x="2050920" y="1390680"/>
            <a:ext cx="5112000" cy="488304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6"/>
          <p:cNvSpPr/>
          <p:nvPr/>
        </p:nvSpPr>
        <p:spPr>
          <a:xfrm>
            <a:off x="4952880" y="1295280"/>
            <a:ext cx="2286000" cy="838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4818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sion to Data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ing Cach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(BCE) and Binding Upda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try (BULE)  need to be extended with a new prefix information field as specified in RFC39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fix information fiel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store the mobile network prefix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warding on M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a packet from the bi-directional tunnel established with the MR's LMA, the MAG must use the destination address of the inner packet to forward it on the interface where the destination MNP is ho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packets from a MR connected to its access link, the MAG must ensure that there is an established binding for the MR and its LMA before tunneling the packet to the MR's L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warding on 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A must be able to receive packets destined to the MR's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eiving packets from a MR connected to its access link, the MAG must ensure that there is an established binding for the MR and its LMA before tunneling the packet to the MR's L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out a new revision fixing known issues and based on received com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review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59:26Z</dcterms:created>
  <dc:creator>Rajeev-K</dc:creator>
  <dc:description/>
  <dc:language>en-US</dc:language>
  <cp:lastModifiedBy>Carl Williams</cp:lastModifiedBy>
  <dcterms:modified xsi:type="dcterms:W3CDTF">2011-11-15T08:40:22Z</dcterms:modified>
  <cp:revision>270</cp:revision>
  <dc:subject/>
  <dc:title>NetExt BOF</dc:title>
</cp:coreProperties>
</file>