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F595BB-7A77-4B1E-ABD0-C581F0A7D7F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479802-8827-48C3-8615-B339B722615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C6DF6-CCA3-43AB-8C42-5050E7F84D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AA0331-D1E6-4E49-8799-599FE38E62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99F-ACB1-41E8-B34B-352B2FF9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344-FCFE-47A6-ACC4-3DDE54E6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2D6-DD1B-42C5-8281-0EE1C35D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F95-C595-4AE4-BF1D-21A4721A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6DA-A8F4-49D0-8977-7DE50DD6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FAD-57CB-46C5-951D-F4F649F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D8E-C1DE-4C45-A1FF-0DFD004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2C5-76D1-460B-A118-08A65AC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845-EE89-4593-A8DC-AC065B2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B2D-98FD-4469-80B4-1256F27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FB5-E6EF-49D8-A2B9-0699585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190-089E-4A34-96C5-B1089B7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F97-CFC4-4A3E-962C-F2EFB0C9F5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fix Delegation for Proxy Mobile IPv6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aft-ietf-netext-pd-pmip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Xingyue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Jouni Korh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ri Gunda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ional Requi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eans to enable DHCPv6 Prefix Delegation for a Proxy Mobile IPv6 de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v6 Prefix Delegation as defined in RFC3633 does not work as of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N hands off from a MAG to another MAG, the target MAG does not have the knowledge of the delegated prefix set, thus it also lacks the forwarding state for the delegated prefi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MA does not necessarily have the knowledge of the delegated prefix set, thus it is not able to forward packets destined to delegated prefi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creen shot 2011-11-15 at 6.29.17 AM.png"/>
          <p:cNvPicPr/>
          <p:nvPr/>
        </p:nvPicPr>
        <p:blipFill>
          <a:blip r:embed="rId1"/>
          <a:stretch/>
        </p:blipFill>
        <p:spPr>
          <a:xfrm>
            <a:off x="2050920" y="1390680"/>
            <a:ext cx="5112000" cy="488304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6"/>
          <p:cNvSpPr/>
          <p:nvPr/>
        </p:nvSpPr>
        <p:spPr>
          <a:xfrm>
            <a:off x="4952880" y="1295280"/>
            <a:ext cx="2286000" cy="838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4818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sion to Data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ing Cach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(BCE) and Binding Upda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try (BULE)  need to be extended with a new prefix information field as specified in RFC39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fix information fiel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store the mobile network prefix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warding on M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a packet from the bi-directional tunnel established with the MR's LMA, the MAG must use the destination address of the inner packet to forward it on the interface where the destination MNP is ho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packets from a MR connected to its access link, the MAG must ensure that there is an established binding for the MR and its LMA before tunneling the packet to the MR's L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warding on 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A must be able to receive packets destined to the MR's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packets from a MR connected to its access link, the MAG must ensure that there is an established binding for the MR and its LMA before tunneling the packet to the MR's L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out a new revision fixing known issues and based on received com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review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59:26Z</dcterms:created>
  <dc:creator>Rajeev-K</dc:creator>
  <dc:description/>
  <dc:language>en-US</dc:language>
  <cp:lastModifiedBy>Carl Williams</cp:lastModifiedBy>
  <dcterms:modified xsi:type="dcterms:W3CDTF">2011-11-15T08:40:22Z</dcterms:modified>
  <cp:revision>270</cp:revision>
  <dc:subject/>
  <dc:title>NetExt BOF</dc:title>
</cp:coreProperties>
</file>