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CD7-1DB3-4076-B6DA-89C26F69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244-6EAE-4959-9740-2DF9031E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E15-EB55-4481-8416-5803A9F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6D3-540F-4AC4-9D9A-5C99FCCF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1D5-2822-4E9A-8FF3-8FD6722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B74-D100-49DA-8B31-A1BB8E89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462-1162-4CF4-B42C-379C51B7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4E0-F349-4AA6-8511-412BE53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984-0CFB-4CC8-B039-7ECDAD59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BA7-0FB8-47BD-B600-14E71C9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353-FF86-40D2-A737-0FE780E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857-528E-4CE9-9E61-1C4333B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5DFD-7291-4643-9209-40FE4CF72F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Quality of Service Option fo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roxy Mobile IPv6</a:t>
            </a:r>
            <a:br>
              <a:rPr sz="3600"/>
            </a:b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aft-liebsch-netext-pmip6-qos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684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. Gundavelli, J. Korhonen, M. Liebsch, P. Seite, H. Yokot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ETF82, Taip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tExt 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ovem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and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bile operator systems establish QoS to serve access through 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pecific access, utilizes radio bearers with different Q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QoS policy control for 3G radio access from Policy and Charging Control (PCC)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nectivity through non-3G acccess supported for handover (WiFi, Wi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P network QoS accomplished by DiffServ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o QoS support so far for non-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GPP started interfacing PCC to MAG for non-3G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mand for a PCC-independent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networks, which do not deploy a PCC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all networks until PCC support available for non-3G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emplar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6084720" y="2349360"/>
            <a:ext cx="129564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407640" y="2398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6364440" y="2771640"/>
            <a:ext cx="799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6299640" y="2771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4572000" y="1484280"/>
            <a:ext cx="800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648680" y="1484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468360" y="1916280"/>
            <a:ext cx="2735280" cy="158400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05520" y="1773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6"/>
          <p:cNvSpPr/>
          <p:nvPr/>
        </p:nvSpPr>
        <p:spPr>
          <a:xfrm>
            <a:off x="3059280" y="5157720"/>
            <a:ext cx="1008000" cy="750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179280" y="4189320"/>
            <a:ext cx="6185160" cy="216072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690840" y="49417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3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20"/>
          <p:cNvSpPr/>
          <p:nvPr/>
        </p:nvSpPr>
        <p:spPr>
          <a:xfrm>
            <a:off x="3132000" y="5300640"/>
            <a:ext cx="800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3110400" y="53006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2"/>
          <p:cNvSpPr/>
          <p:nvPr/>
        </p:nvSpPr>
        <p:spPr>
          <a:xfrm>
            <a:off x="1835280" y="2276640"/>
            <a:ext cx="1081080" cy="79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050920" y="220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25"/>
          <p:cNvCxnSpPr/>
          <p:nvPr/>
        </p:nvCxnSpPr>
        <p:spPr>
          <a:xfrm>
            <a:off x="5435640" y="1773360"/>
            <a:ext cx="1064160" cy="110232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62" name="Straight Arrow Connector 26"/>
          <p:cNvCxnSpPr>
            <a:stCxn id="50" idx="1"/>
          </p:cNvCxnSpPr>
          <p:nvPr/>
        </p:nvCxnSpPr>
        <p:spPr>
          <a:xfrm flipH="1">
            <a:off x="2626920" y="1665000"/>
            <a:ext cx="1945440" cy="95796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sp>
        <p:nvSpPr>
          <p:cNvPr id="63" name="Rounded Rectangle 37"/>
          <p:cNvSpPr/>
          <p:nvPr/>
        </p:nvSpPr>
        <p:spPr>
          <a:xfrm>
            <a:off x="1979640" y="4572000"/>
            <a:ext cx="5508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8"/>
          <p:cNvSpPr/>
          <p:nvPr/>
        </p:nvSpPr>
        <p:spPr>
          <a:xfrm>
            <a:off x="202644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39"/>
          <p:cNvSpPr/>
          <p:nvPr/>
        </p:nvSpPr>
        <p:spPr>
          <a:xfrm>
            <a:off x="1979640" y="5148360"/>
            <a:ext cx="5508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0"/>
          <p:cNvSpPr/>
          <p:nvPr/>
        </p:nvSpPr>
        <p:spPr>
          <a:xfrm>
            <a:off x="2026440" y="514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1"/>
          <p:cNvSpPr/>
          <p:nvPr/>
        </p:nvSpPr>
        <p:spPr>
          <a:xfrm>
            <a:off x="1979640" y="5724360"/>
            <a:ext cx="55080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2"/>
          <p:cNvSpPr/>
          <p:nvPr/>
        </p:nvSpPr>
        <p:spPr>
          <a:xfrm>
            <a:off x="2026440" y="5724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4"/>
          <p:cNvSpPr/>
          <p:nvPr/>
        </p:nvSpPr>
        <p:spPr>
          <a:xfrm flipH="1">
            <a:off x="2479680" y="5621400"/>
            <a:ext cx="579600" cy="183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916360" y="2614680"/>
            <a:ext cx="316836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 flipV="1">
            <a:off x="7016760" y="2472840"/>
            <a:ext cx="587520" cy="4827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503120" y="1838160"/>
            <a:ext cx="15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 rules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ink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ping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networ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725400" y="2617920"/>
            <a:ext cx="1109880" cy="15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6"/>
          <p:cNvSpPr/>
          <p:nvPr/>
        </p:nvSpPr>
        <p:spPr>
          <a:xfrm>
            <a:off x="613080" y="254484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be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7"/>
          <p:cNvSpPr/>
          <p:nvPr/>
        </p:nvSpPr>
        <p:spPr>
          <a:xfrm>
            <a:off x="3660120" y="2317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48"/>
          <p:cNvSpPr/>
          <p:nvPr/>
        </p:nvSpPr>
        <p:spPr>
          <a:xfrm>
            <a:off x="1978200" y="2565360"/>
            <a:ext cx="80136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0"/>
          <p:cNvSpPr/>
          <p:nvPr/>
        </p:nvSpPr>
        <p:spPr>
          <a:xfrm>
            <a:off x="727200" y="2833560"/>
            <a:ext cx="110808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613080" y="276084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be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727200" y="2401920"/>
            <a:ext cx="110808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3"/>
          <p:cNvSpPr/>
          <p:nvPr/>
        </p:nvSpPr>
        <p:spPr>
          <a:xfrm>
            <a:off x="613080" y="232884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be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4"/>
          <p:cNvSpPr/>
          <p:nvPr/>
        </p:nvSpPr>
        <p:spPr>
          <a:xfrm>
            <a:off x="2085120" y="26226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1"/>
          <p:cNvSpPr/>
          <p:nvPr/>
        </p:nvSpPr>
        <p:spPr>
          <a:xfrm flipH="1">
            <a:off x="2696760" y="2695680"/>
            <a:ext cx="436680" cy="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55"/>
          <p:cNvSpPr/>
          <p:nvPr/>
        </p:nvSpPr>
        <p:spPr>
          <a:xfrm flipH="1" flipV="1">
            <a:off x="1835280" y="2482920"/>
            <a:ext cx="131760" cy="13968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57"/>
          <p:cNvSpPr/>
          <p:nvPr/>
        </p:nvSpPr>
        <p:spPr>
          <a:xfrm flipH="1">
            <a:off x="1834920" y="2760840"/>
            <a:ext cx="161640" cy="153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62"/>
          <p:cNvSpPr/>
          <p:nvPr/>
        </p:nvSpPr>
        <p:spPr>
          <a:xfrm flipH="1" flipV="1">
            <a:off x="1834920" y="2698560"/>
            <a:ext cx="142920" cy="45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5"/>
          <p:cNvSpPr/>
          <p:nvPr/>
        </p:nvSpPr>
        <p:spPr>
          <a:xfrm flipH="1" flipV="1">
            <a:off x="2530080" y="5327280"/>
            <a:ext cx="528840" cy="204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68"/>
          <p:cNvSpPr/>
          <p:nvPr/>
        </p:nvSpPr>
        <p:spPr>
          <a:xfrm flipH="1" flipV="1">
            <a:off x="2530080" y="4723920"/>
            <a:ext cx="528840" cy="57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0"/>
          <p:cNvSpPr/>
          <p:nvPr/>
        </p:nvSpPr>
        <p:spPr>
          <a:xfrm>
            <a:off x="3363840" y="2781360"/>
            <a:ext cx="224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Serv for Transport Net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 Q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73"/>
          <p:cNvCxnSpPr/>
          <p:nvPr/>
        </p:nvCxnSpPr>
        <p:spPr>
          <a:xfrm flipH="1">
            <a:off x="3923640" y="3068640"/>
            <a:ext cx="2429640" cy="26028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0" name="Rounded Rectangle 76"/>
          <p:cNvSpPr/>
          <p:nvPr/>
        </p:nvSpPr>
        <p:spPr>
          <a:xfrm>
            <a:off x="468360" y="4145040"/>
            <a:ext cx="2448000" cy="2379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7"/>
          <p:cNvSpPr/>
          <p:nvPr/>
        </p:nvSpPr>
        <p:spPr>
          <a:xfrm>
            <a:off x="4211640" y="3281400"/>
            <a:ext cx="4608360" cy="3247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8"/>
          <p:cNvSpPr/>
          <p:nvPr/>
        </p:nvSpPr>
        <p:spPr>
          <a:xfrm>
            <a:off x="907200" y="645336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.11e Qo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9"/>
          <p:cNvSpPr/>
          <p:nvPr/>
        </p:nvSpPr>
        <p:spPr>
          <a:xfrm>
            <a:off x="4778640" y="6453360"/>
            <a:ext cx="38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-based transport network Qo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3076920" y="5651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790800" y="3500280"/>
            <a:ext cx="99720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5"/>
          <p:cNvSpPr/>
          <p:nvPr/>
        </p:nvSpPr>
        <p:spPr>
          <a:xfrm>
            <a:off x="2627280" y="34416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 new IP session inf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G to LMA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IPv6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4979880" y="3500280"/>
            <a:ext cx="755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64"/>
          <p:cNvCxnSpPr/>
          <p:nvPr/>
        </p:nvCxnSpPr>
        <p:spPr>
          <a:xfrm flipV="1">
            <a:off x="3924000" y="2851920"/>
            <a:ext cx="2429640" cy="25218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9" name="TextBox 69"/>
          <p:cNvSpPr/>
          <p:nvPr/>
        </p:nvSpPr>
        <p:spPr>
          <a:xfrm>
            <a:off x="4859280" y="3357720"/>
            <a:ext cx="35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info from LMA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 with PMIPv6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71"/>
          <p:cNvSpPr/>
          <p:nvPr/>
        </p:nvSpPr>
        <p:spPr>
          <a:xfrm>
            <a:off x="5977080" y="3500280"/>
            <a:ext cx="539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ope of this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0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enabling QoS differentiation of traffic between MAG and LMA for any non-3G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inly enforcement and validation of uplink QoS at the M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mapping of QoS policies between radio-specific QoS classes and IP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ansport of Flow Information and QoS Class 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terpretation of QoS Class indexes is deployment specific, hence out of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cus on the signaling between MAG and L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over of available and enforced QoS policy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stablished while MN accesses through 3G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stablish QoS for sessions which start at non-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s this of interest to the NetExt W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Marco Liebsch</cp:lastModifiedBy>
  <dcterms:modified xsi:type="dcterms:W3CDTF">2011-11-15T10:02:47Z</dcterms:modified>
  <cp:revision>137</cp:revision>
  <dc:subject/>
  <dc:title>Diameter General Purpose Session draft-liebsch-dime-diameter-gps-00.txt</dc:title>
</cp:coreProperties>
</file>