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52280" y="8799480"/>
            <a:ext cx="665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"/>
          </p:nvPr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EBF96-A7E7-4364-A674-ED08B236707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872640" y="244440"/>
            <a:ext cx="5319720" cy="39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767880" y="4378320"/>
            <a:ext cx="54673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A0F05-6E68-4D10-AFBC-76F10CEFCF2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929200" y="867888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6F987-285C-4BE2-B86C-A95839421A2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74DC5-AED7-414A-B56C-8BA12BE72FDE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27B49-3ED7-49B2-977F-377613AAE88F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ponse to a Neighbor Discovery message received for a unicast, link-specific multicast group address, will be sent on the same sub-interface path where the packet was recei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DHCPv4 for obtaining address configuration for the logical interface, the value in the chaddr field in the DHCP messages will be based on the link-layer identfier scheme chosen by the logical inte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71DF9-D8FA-4FF4-B8FF-47B295B3D53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929200" y="8678880"/>
            <a:ext cx="81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05B19-D75F-45E0-954F-CE827F1ECE0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873000" y="244440"/>
            <a:ext cx="532152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3936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3520" y="152064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520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3936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3520" y="3417120"/>
            <a:ext cx="255600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81439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3200" y="341712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3200" y="1520640"/>
            <a:ext cx="387396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200" y="3417120"/>
            <a:ext cx="7939080" cy="173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658800" y="6669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0: NETEXT Working Group – Logical Interface Support for IP Host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3E727-69A6-4404-9C5D-33EC0858E529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200" y="1520640"/>
            <a:ext cx="7939080" cy="36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5080" indent="-235080"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1592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1191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3440" indent="22536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 rot="16200000">
            <a:off x="319896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6172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3680" y="6672240"/>
            <a:ext cx="3083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-75:  NETEXT Present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66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AD5E8-F245-483D-9797-E4D12C501650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609480" y="525600"/>
            <a:ext cx="1446480" cy="768240"/>
            <a:chOff x="609480" y="525600"/>
            <a:chExt cx="1446480" cy="768240"/>
          </a:xfrm>
        </p:grpSpPr>
        <p:sp>
          <p:nvSpPr>
            <p:cNvPr id="47" name="AutoShape 6"/>
            <p:cNvSpPr/>
            <p:nvPr/>
          </p:nvSpPr>
          <p:spPr>
            <a:xfrm>
              <a:off x="609480" y="525600"/>
              <a:ext cx="1446480" cy="76824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015200" y="1033920"/>
              <a:ext cx="66240" cy="2484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398960" y="1027800"/>
              <a:ext cx="190440" cy="2628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39440" y="1027800"/>
              <a:ext cx="190080" cy="2628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1659600" y="1027800"/>
              <a:ext cx="261360" cy="262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1166040" y="1027800"/>
              <a:ext cx="171000" cy="2628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09480" y="732600"/>
              <a:ext cx="6156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82280" y="647280"/>
              <a:ext cx="615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953640" y="528120"/>
              <a:ext cx="61560" cy="39420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27880" y="647280"/>
              <a:ext cx="615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297800" y="732600"/>
              <a:ext cx="6624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1470600" y="647280"/>
              <a:ext cx="6300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645200" y="528120"/>
              <a:ext cx="63000" cy="39420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1816200" y="647280"/>
              <a:ext cx="63360" cy="2134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1990800" y="732600"/>
              <a:ext cx="6336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2273400"/>
            <a:ext cx="3767040" cy="139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"/>
          <p:cNvGrpSpPr/>
          <p:nvPr/>
        </p:nvGrpSpPr>
        <p:grpSpPr>
          <a:xfrm>
            <a:off x="1440" y="2438280"/>
            <a:ext cx="9142560" cy="4818240"/>
            <a:chOff x="1440" y="2438280"/>
            <a:chExt cx="9142560" cy="48182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1440" y="2438280"/>
              <a:ext cx="9142560" cy="48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4"/>
          <p:cNvSpPr/>
          <p:nvPr/>
        </p:nvSpPr>
        <p:spPr>
          <a:xfrm>
            <a:off x="666720" y="2346480"/>
            <a:ext cx="7799400" cy="21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gical Interface Support for IP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ri Gundave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maco Me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os Jesus Bernardos Cano,  Antonio De la Oliva,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 algn="ctr">
              <a:lnSpc>
                <a:spcPct val="110000"/>
              </a:lnSpc>
              <a:tabLst>
                <a:tab algn="l" pos="0"/>
                <a:tab algn="l" pos="16344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ng-Geun Hong, Kent Leung, Tran Minh Trung, Hidetoshi Yokota, Juan Carlos Zunig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99324C-F6A5-40C1-A6D9-54176CCE3159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05731-C0DA-4413-8CEC-7A19C141B351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8418240" y="660492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720E6-49D7-48ED-A746-1B33CEBAC4C8}" type="slidenum">
              <a:rPr b="0" lang="en-GB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52800" y="4572000"/>
            <a:ext cx="5873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aft-ietf-netext-logical-interface-support-04.t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4400" y="9360"/>
            <a:ext cx="91296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6858000"/>
            <a:ext cx="457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ETF 82: NETEXT Working Group – Logical Interface Support for IP Host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Open Issu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160" y="1050480"/>
            <a:ext cx="8815320" cy="558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updated since -01 addressed the following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1: Behavior of 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3: Use of the Virtual 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4: Point-to-Poin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5: Multicast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6: MTU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-7: UL/DL Packe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Link-Type for Logical Interfac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160" y="914400"/>
            <a:ext cx="8815320" cy="5718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.3: Supported Link models for a log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s per the base Proxy Mobile IPv6 specification [RFC5213] the media underneath the physical interface has to be bound to a point-to-point link [RFC5213].  Access technologies that provides a shared media (e.g., IEEE 802.11) can be supported as long as they provide a point- to-point link [RFC4861].  The details of how a shared media provides a point to point link are link layer specific and/or operational matters that are out of scope of this document.  For example IEEE 802.11 media can provide a point-to-point link via the appropriate use of IEEE 802.1Q VLAN header where a distinct VLAN is configured between the MAG and each of the mobile node, or by the approach of MAG transmitting multicast packets as layer-2 unicast packets [RFC6085] and thereby preserving the point-to-point link properties on a shared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83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7200"/>
                <a:tab algn="l" pos="2441520"/>
                <a:tab algn="l" pos="3255840"/>
                <a:tab algn="l" pos="4070520"/>
                <a:tab algn="l" pos="4884840"/>
                <a:tab algn="l" pos="5699160"/>
                <a:tab algn="l" pos="6513480"/>
                <a:tab algn="l" pos="7327800"/>
                <a:tab algn="l" pos="8142120"/>
                <a:tab algn="l" pos="8956800"/>
                <a:tab algn="l" pos="9771120"/>
                <a:tab algn="l" pos="1058544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050480"/>
            <a:ext cx="8815320" cy="397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ed Reviews from WG 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WGLC on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033560"/>
                <a:tab algn="l" pos="1847880"/>
                <a:tab algn="l" pos="2662200"/>
                <a:tab algn="l" pos="3476520"/>
                <a:tab algn="l" pos="4290840"/>
                <a:tab algn="l" pos="5105520"/>
                <a:tab algn="l" pos="5919840"/>
                <a:tab algn="l" pos="6734160"/>
                <a:tab algn="l" pos="7548480"/>
                <a:tab algn="l" pos="8362800"/>
                <a:tab algn="l" pos="9177480"/>
                <a:tab algn="l" pos="9991800"/>
                <a:tab algn="l" pos="108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46160" y="4781520"/>
            <a:ext cx="8669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0" y="0"/>
            <a:ext cx="9142560" cy="4269960"/>
            <a:chOff x="0" y="0"/>
            <a:chExt cx="9142560" cy="4269960"/>
          </a:xfrm>
        </p:grpSpPr>
        <p:sp>
          <p:nvSpPr>
            <p:cNvPr id="128" name="Rectangle 2"/>
            <p:cNvSpPr/>
            <p:nvPr/>
          </p:nvSpPr>
          <p:spPr>
            <a:xfrm>
              <a:off x="0" y="2118240"/>
              <a:ext cx="8913960" cy="215172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0" y="0"/>
              <a:ext cx="9142560" cy="13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Picture 4" descr=""/>
          <p:cNvPicPr/>
          <p:nvPr/>
        </p:nvPicPr>
        <p:blipFill>
          <a:blip r:embed="rId1"/>
          <a:srcRect l="13815" t="0" r="0" b="13714"/>
          <a:stretch/>
        </p:blipFill>
        <p:spPr>
          <a:xfrm>
            <a:off x="5638680" y="2119320"/>
            <a:ext cx="35053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7240" y="2919240"/>
            <a:ext cx="5557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nter Van de Velde</dc:creator>
  <dc:description/>
  <dc:language>en-US</dc:language>
  <cp:lastModifiedBy>Sri Gundavelli</cp:lastModifiedBy>
  <dcterms:modified xsi:type="dcterms:W3CDTF">2011-11-15T16:26:27Z</dcterms:modified>
  <cp:revision>80</cp:revision>
  <dc:subject/>
  <dc:title>IPv6</dc:title>
</cp:coreProperties>
</file>