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6249960" y="8609040"/>
            <a:ext cx="44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57240" y="8785080"/>
            <a:ext cx="26193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6, Cisco Systems, Inc. All rights reserved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entation_ID.sc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152280" y="8799480"/>
            <a:ext cx="6653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Num" idx="1"/>
          </p:nvPr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92576D-FBA2-45C5-A426-B88089274E87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ldImg"/>
          </p:nvPr>
        </p:nvSpPr>
        <p:spPr>
          <a:xfrm>
            <a:off x="872640" y="244440"/>
            <a:ext cx="5319720" cy="398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body"/>
          </p:nvPr>
        </p:nvSpPr>
        <p:spPr>
          <a:xfrm>
            <a:off x="767880" y="4378320"/>
            <a:ext cx="54673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8FAC9A-8434-4730-8164-D7944F0935B1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5929200" y="8678880"/>
            <a:ext cx="812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6937E7-F41A-4EF3-B1EB-F063F0DE12AF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873000" y="244440"/>
            <a:ext cx="5321520" cy="39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BAEC2F-447E-4839-8700-50AC92FF2392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873000" y="244440"/>
            <a:ext cx="5321520" cy="39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753786-E322-41C5-8B33-E79E660521FC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873000" y="244440"/>
            <a:ext cx="5321520" cy="39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ponse to a Neighbor Discovery message received for a unicast, link-specific multicast group address, will be sent on the same sub-interface path where the packet was recei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using DHCPv4 for obtaining address configuration for the logical interface, the value in the chaddr field in the DHCP messages will be based on the link-layer identfier scheme chosen by the logical interf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F5548F-321F-458C-A53B-C458C3B940F5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873000" y="244440"/>
            <a:ext cx="5321520" cy="39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3E76A8-1DE8-45BD-8B73-1B58351B32F6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873000" y="244440"/>
            <a:ext cx="5321520" cy="39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200" y="341712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3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352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20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352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55200" y="1520640"/>
            <a:ext cx="7939080" cy="36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793908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55560" y="304920"/>
            <a:ext cx="81439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200" y="1520640"/>
            <a:ext cx="7939080" cy="36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23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55200" y="341712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23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3936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352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5520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3936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352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793908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560" y="304920"/>
            <a:ext cx="81439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3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658800" y="6669000"/>
            <a:ext cx="4572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ETF 80: NETEXT Working Group – Logical Interface Support for IP Host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866484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C6BBEE-36EA-4FB3-8740-76437EEEC9A1}" type="slidenum">
              <a:rPr b="0" lang="en-GB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55200" y="1520640"/>
            <a:ext cx="793908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5080" indent="-235080">
              <a:lnSpc>
                <a:spcPct val="93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1592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11916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3440" indent="22536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3440" indent="22536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3440" indent="22536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 rot="16200000">
            <a:off x="3198960" y="-160020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116172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93680" y="6672240"/>
            <a:ext cx="308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ETF-75:  NETEXT Presentation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866484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BD7E1C-B9C4-4138-95B3-2D488B255AE9}" type="slidenum">
              <a:rPr b="0" lang="en-GB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5"/>
          <p:cNvGrpSpPr/>
          <p:nvPr/>
        </p:nvGrpSpPr>
        <p:grpSpPr>
          <a:xfrm>
            <a:off x="609480" y="525600"/>
            <a:ext cx="1446480" cy="768240"/>
            <a:chOff x="609480" y="525600"/>
            <a:chExt cx="1446480" cy="768240"/>
          </a:xfrm>
        </p:grpSpPr>
        <p:sp>
          <p:nvSpPr>
            <p:cNvPr id="47" name="AutoShape 6"/>
            <p:cNvSpPr/>
            <p:nvPr/>
          </p:nvSpPr>
          <p:spPr>
            <a:xfrm>
              <a:off x="609480" y="525600"/>
              <a:ext cx="1446480" cy="768240"/>
            </a:xfrm>
            <a:prstGeom prst="roundRect">
              <a:avLst>
                <a:gd name="adj" fmla="val 2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1015200" y="1033920"/>
              <a:ext cx="66240" cy="24840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1398960" y="1027800"/>
              <a:ext cx="190440" cy="26280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39440" y="1027800"/>
              <a:ext cx="190080" cy="26280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1659600" y="1027800"/>
              <a:ext cx="261360" cy="2628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1166040" y="1027800"/>
              <a:ext cx="171000" cy="26280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609480" y="732600"/>
              <a:ext cx="6156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782280" y="647280"/>
              <a:ext cx="61560" cy="21348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953640" y="528120"/>
              <a:ext cx="61560" cy="39420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1127880" y="647280"/>
              <a:ext cx="61560" cy="21348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1297800" y="732600"/>
              <a:ext cx="6624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1470600" y="647280"/>
              <a:ext cx="63000" cy="21348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>
              <a:off x="1645200" y="528120"/>
              <a:ext cx="63000" cy="39420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>
              <a:off x="1816200" y="647280"/>
              <a:ext cx="63360" cy="21348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>
              <a:off x="1990800" y="732600"/>
              <a:ext cx="6336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880" y="2273400"/>
            <a:ext cx="3767040" cy="1396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2"/>
          <a:stretch/>
        </p:blipFill>
        <p:spPr>
          <a:xfrm>
            <a:off x="4573440" y="1600200"/>
            <a:ext cx="4570560" cy="27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1"/>
          <p:cNvGrpSpPr/>
          <p:nvPr/>
        </p:nvGrpSpPr>
        <p:grpSpPr>
          <a:xfrm>
            <a:off x="1440" y="2438280"/>
            <a:ext cx="9142560" cy="4818240"/>
            <a:chOff x="1440" y="2438280"/>
            <a:chExt cx="9142560" cy="481824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tretch/>
          </p:blipFill>
          <p:spPr>
            <a:xfrm>
              <a:off x="1440" y="2438280"/>
              <a:ext cx="9142560" cy="481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" descr=""/>
            <p:cNvPicPr/>
            <p:nvPr/>
          </p:nvPicPr>
          <p:blipFill>
            <a:blip r:embed="rId2"/>
            <a:stretch/>
          </p:blipFill>
          <p:spPr>
            <a:xfrm>
              <a:off x="1440" y="2438280"/>
              <a:ext cx="9142560" cy="481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4"/>
          <p:cNvSpPr/>
          <p:nvPr/>
        </p:nvSpPr>
        <p:spPr>
          <a:xfrm>
            <a:off x="666720" y="2346480"/>
            <a:ext cx="7799400" cy="21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marL="163440" indent="-163440" algn="ctr">
              <a:lnSpc>
                <a:spcPct val="110000"/>
              </a:lnSpc>
              <a:tabLst>
                <a:tab algn="l" pos="0"/>
                <a:tab algn="l" pos="163440"/>
                <a:tab algn="l" pos="1077840"/>
                <a:tab algn="l" pos="1992240"/>
                <a:tab algn="l" pos="2906640"/>
                <a:tab algn="l" pos="3821040"/>
                <a:tab algn="l" pos="4735440"/>
                <a:tab algn="l" pos="5649840"/>
                <a:tab algn="l" pos="6564240"/>
                <a:tab algn="l" pos="7478640"/>
                <a:tab algn="l" pos="8393040"/>
                <a:tab algn="l" pos="9307440"/>
                <a:tab algn="l" pos="1022184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gical Interface Support for IP H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 algn="ctr">
              <a:lnSpc>
                <a:spcPct val="110000"/>
              </a:lnSpc>
              <a:tabLst>
                <a:tab algn="l" pos="0"/>
                <a:tab algn="l" pos="163440"/>
                <a:tab algn="l" pos="1077840"/>
                <a:tab algn="l" pos="1992240"/>
                <a:tab algn="l" pos="2906640"/>
                <a:tab algn="l" pos="3821040"/>
                <a:tab algn="l" pos="4735440"/>
                <a:tab algn="l" pos="5649840"/>
                <a:tab algn="l" pos="6564240"/>
                <a:tab algn="l" pos="7478640"/>
                <a:tab algn="l" pos="8393040"/>
                <a:tab algn="l" pos="9307440"/>
                <a:tab algn="l" pos="1022184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 algn="ctr">
              <a:lnSpc>
                <a:spcPct val="110000"/>
              </a:lnSpc>
              <a:tabLst>
                <a:tab algn="l" pos="0"/>
                <a:tab algn="l" pos="163440"/>
                <a:tab algn="l" pos="1077840"/>
                <a:tab algn="l" pos="1992240"/>
                <a:tab algn="l" pos="2906640"/>
                <a:tab algn="l" pos="3821040"/>
                <a:tab algn="l" pos="4735440"/>
                <a:tab algn="l" pos="5649840"/>
                <a:tab algn="l" pos="6564240"/>
                <a:tab algn="l" pos="7478640"/>
                <a:tab algn="l" pos="8393040"/>
                <a:tab algn="l" pos="9307440"/>
                <a:tab algn="l" pos="1022184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ri Gundavel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 algn="ctr">
              <a:lnSpc>
                <a:spcPct val="110000"/>
              </a:lnSpc>
              <a:tabLst>
                <a:tab algn="l" pos="0"/>
                <a:tab algn="l" pos="163440"/>
                <a:tab algn="l" pos="1077840"/>
                <a:tab algn="l" pos="1992240"/>
                <a:tab algn="l" pos="2906640"/>
                <a:tab algn="l" pos="3821040"/>
                <a:tab algn="l" pos="4735440"/>
                <a:tab algn="l" pos="5649840"/>
                <a:tab algn="l" pos="6564240"/>
                <a:tab algn="l" pos="7478640"/>
                <a:tab algn="l" pos="8393040"/>
                <a:tab algn="l" pos="9307440"/>
                <a:tab algn="l" pos="1022184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lemaco Me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 algn="ctr">
              <a:lnSpc>
                <a:spcPct val="110000"/>
              </a:lnSpc>
              <a:tabLst>
                <a:tab algn="l" pos="0"/>
                <a:tab algn="l" pos="163440"/>
                <a:tab algn="l" pos="1077840"/>
                <a:tab algn="l" pos="1992240"/>
                <a:tab algn="l" pos="2906640"/>
                <a:tab algn="l" pos="3821040"/>
                <a:tab algn="l" pos="4735440"/>
                <a:tab algn="l" pos="5649840"/>
                <a:tab algn="l" pos="6564240"/>
                <a:tab algn="l" pos="7478640"/>
                <a:tab algn="l" pos="8393040"/>
                <a:tab algn="l" pos="9307440"/>
                <a:tab algn="l" pos="1022184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los Jesus Bernardos Cano,  Antonio De la Oliva,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 algn="ctr">
              <a:lnSpc>
                <a:spcPct val="110000"/>
              </a:lnSpc>
              <a:tabLst>
                <a:tab algn="l" pos="0"/>
                <a:tab algn="l" pos="163440"/>
                <a:tab algn="l" pos="1077840"/>
                <a:tab algn="l" pos="1992240"/>
                <a:tab algn="l" pos="2906640"/>
                <a:tab algn="l" pos="3821040"/>
                <a:tab algn="l" pos="4735440"/>
                <a:tab algn="l" pos="5649840"/>
                <a:tab algn="l" pos="6564240"/>
                <a:tab algn="l" pos="7478640"/>
                <a:tab algn="l" pos="8393040"/>
                <a:tab algn="l" pos="9307440"/>
                <a:tab algn="l" pos="1022184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ng-Geun Hong, Kent Leung, Tran Minh Trung, Hidetoshi Yokota, Juan Carlos Zunig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8418240" y="660492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8BB761-CAC0-4966-8929-6FE2C11A77EA}" type="slidenum">
              <a:rPr b="0" lang="en-GB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8418240" y="660492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FB8777-9024-446A-A77D-D2F4531BD878}" type="slidenum">
              <a:rPr b="0" lang="en-GB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8418240" y="660492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40EE73-BDC6-422F-9D9D-3653BB6FCC91}" type="slidenum">
              <a:rPr b="0" lang="en-GB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052800" y="4572000"/>
            <a:ext cx="58737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draft-ietf-netext-logical-interface-support-04.tx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14400" y="9360"/>
            <a:ext cx="912960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09480" y="6858000"/>
            <a:ext cx="4572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ETF 82: NETEXT Working Group – Logical Interface Support for IP Host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833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7200"/>
                <a:tab algn="l" pos="2441520"/>
                <a:tab algn="l" pos="3255840"/>
                <a:tab algn="l" pos="4070520"/>
                <a:tab algn="l" pos="4884840"/>
                <a:tab algn="l" pos="5699160"/>
                <a:tab algn="l" pos="6513480"/>
                <a:tab algn="l" pos="7327800"/>
                <a:tab algn="l" pos="8142120"/>
                <a:tab algn="l" pos="8956800"/>
                <a:tab algn="l" pos="9771120"/>
                <a:tab algn="l" pos="10585440"/>
              </a:tabLst>
            </a:pPr>
            <a:r>
              <a:rPr b="1" lang="en-GB" sz="3200" spc="-1" strike="noStrike">
                <a:solidFill>
                  <a:srgbClr val="0183b7"/>
                </a:solidFill>
                <a:latin typeface="Arial"/>
              </a:rPr>
              <a:t>Open Issu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2160" y="1050480"/>
            <a:ext cx="8815320" cy="558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updated since -01 addressed the following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-1: Behavior of 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-3: Use of the Virtual L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-4: Point-to-Point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-5: Multicast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-6: MTU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-7: UL/DL Packet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46160" y="4781520"/>
            <a:ext cx="866916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833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7200"/>
                <a:tab algn="l" pos="2441520"/>
                <a:tab algn="l" pos="3255840"/>
                <a:tab algn="l" pos="4070520"/>
                <a:tab algn="l" pos="4884840"/>
                <a:tab algn="l" pos="5699160"/>
                <a:tab algn="l" pos="6513480"/>
                <a:tab algn="l" pos="7327800"/>
                <a:tab algn="l" pos="8142120"/>
                <a:tab algn="l" pos="8956800"/>
                <a:tab algn="l" pos="9771120"/>
                <a:tab algn="l" pos="1058544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Link-Type for Logical Interfac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2160" y="914400"/>
            <a:ext cx="8815320" cy="5718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5.3: Supported Link models for a logica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As per the base Proxy Mobile IPv6 specification [RFC5213] the media underneath the physical interface has to be bound to a point-to-point link [RFC5213].  Access technologies that provides a shared media (e.g., IEEE 802.11) can be supported as long as they provide a point- to-point link [RFC4861].  The details of how a shared media provides a point to point link are link layer specific and/or operational matters that are out of scope of this document.  For example IEEE 802.11 media can provide a point-to-point link via the appropriate use of IEEE 802.1Q VLAN header where a distinct VLAN is configured between the MAG and each of the mobile node, or by the approach of MAG transmitting multicast packets as layer-2 unicast packets [RFC6085] and thereby preserving the point-to-point link properties on a shared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46160" y="4781520"/>
            <a:ext cx="866916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833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7200"/>
                <a:tab algn="l" pos="2441520"/>
                <a:tab algn="l" pos="3255840"/>
                <a:tab algn="l" pos="4070520"/>
                <a:tab algn="l" pos="4884840"/>
                <a:tab algn="l" pos="5699160"/>
                <a:tab algn="l" pos="6513480"/>
                <a:tab algn="l" pos="7327800"/>
                <a:tab algn="l" pos="8142120"/>
                <a:tab algn="l" pos="8956800"/>
                <a:tab algn="l" pos="9771120"/>
                <a:tab algn="l" pos="1058544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2160" y="1050480"/>
            <a:ext cx="8815320" cy="3978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cited Reviews from WG 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WGLC on th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46160" y="4781520"/>
            <a:ext cx="866916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"/>
          <p:cNvGrpSpPr/>
          <p:nvPr/>
        </p:nvGrpSpPr>
        <p:grpSpPr>
          <a:xfrm>
            <a:off x="0" y="0"/>
            <a:ext cx="9142560" cy="4269960"/>
            <a:chOff x="0" y="0"/>
            <a:chExt cx="9142560" cy="4269960"/>
          </a:xfrm>
        </p:grpSpPr>
        <p:sp>
          <p:nvSpPr>
            <p:cNvPr id="128" name="Rectangle 2"/>
            <p:cNvSpPr/>
            <p:nvPr/>
          </p:nvSpPr>
          <p:spPr>
            <a:xfrm>
              <a:off x="0" y="2118240"/>
              <a:ext cx="8913960" cy="2151720"/>
            </a:xfrm>
            <a:prstGeom prst="rect">
              <a:avLst/>
            </a:prstGeom>
            <a:solidFill>
              <a:srgbClr val="306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3"/>
            <p:cNvSpPr/>
            <p:nvPr/>
          </p:nvSpPr>
          <p:spPr>
            <a:xfrm>
              <a:off x="0" y="0"/>
              <a:ext cx="9142560" cy="136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0" name="Picture 4" descr=""/>
          <p:cNvPicPr/>
          <p:nvPr/>
        </p:nvPicPr>
        <p:blipFill>
          <a:blip r:embed="rId1"/>
          <a:srcRect l="13815" t="0" r="0" b="13714"/>
          <a:stretch/>
        </p:blipFill>
        <p:spPr>
          <a:xfrm>
            <a:off x="5638680" y="2119320"/>
            <a:ext cx="3505320" cy="2151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7240" y="2919240"/>
            <a:ext cx="55576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nter Van de Velde</dc:creator>
  <dc:description/>
  <dc:language>en-US</dc:language>
  <cp:lastModifiedBy>Sri Gundavelli</cp:lastModifiedBy>
  <dcterms:modified xsi:type="dcterms:W3CDTF">2011-11-15T16:26:27Z</dcterms:modified>
  <cp:revision>80</cp:revision>
  <dc:subject/>
  <dc:title>IPv6</dc:title>
</cp:coreProperties>
</file>