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067ED-4DD7-427D-8693-96C817C2C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B5C4-3A8F-485B-8E2D-68B468CF4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F4AB18-9C6D-437D-8B03-C07FA1FA3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C932EF-84FE-41AF-8CE3-5E0C1C7366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1C68DB-E04C-430E-ADCA-71CDFD6CD3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2BA91-93C8-41DB-9A56-A294362E8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4D843-0BA2-4E61-9979-C869218CD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F217B-E742-4E14-8F78-0A7B8390AB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DE0C31-C473-416D-BF30-88279253FD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B7913A-1EFC-478F-9960-EF70D092EE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0EAFA1-93C2-45D9-8CC4-316F1F443D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E6A391-92E0-402B-A406-36BF8F5F5D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D89C4-8769-4D2A-B81E-4790AB7F6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A4D53C-4CAC-4AC4-BE09-8D5056BE9A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4654E7-E3EE-4C40-B736-6A037C85EC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826540-0870-49FD-9EC7-61931B1E8D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FF9536-FAF4-4718-891F-8FF5DCFBAC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4D04B9-254F-4D76-9F5B-3AEBDAD8EC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D36B57-4688-4CCB-833A-E750578ED4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90AE3D-9109-4EF4-8600-E4BA652C3C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81FC1D-057D-44B5-986F-9F2A6FF6D5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B1D177-E6FE-4DEA-B92F-7C6A449B13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128030-3F52-4474-AF81-E418CF9230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9A909-7287-4D73-8D6A-07CEB6BDF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1C16E5-2A89-46D3-90EC-0728FCC95E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8F3A00-BC06-4357-933D-23BDABABD5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82226B-0FE8-481C-B64A-918D482CFF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BB1094-9FA6-4C0B-8D0C-F1BCF7929D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138E64-8044-4BAE-B58E-14150D224C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F157CC-FF77-4B8C-841F-8C813C2A5B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270F8F-5474-4E6E-BFA4-117D91434C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75DA27-28D5-468E-8A11-2644EA8723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ACE950-4A9A-4528-B2FC-ECB8EA722E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1C213C-3558-4175-92D4-97CD21AA2E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AFDA2-DFED-452B-B898-4BB1B75DD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D9801E-D6E2-4AC1-A7AB-FAF7DA0E21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2A1A19-05A4-409A-B472-797CB9CE44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F191F6-539D-405D-A2F7-7A79D565AE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21B73F-ABAD-43CE-9439-B4FE7021E8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E77AD2-2C93-4943-804B-52233C9E00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624CAF-132B-4E03-B375-1337202A96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1D3A03-386F-42FA-BF49-E5B3A4A9CF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22E127-A686-4257-B75F-C4CB43D520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1D9A7E-D1F6-4CD2-9E16-993D32265C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DE10F1-5DB6-4CDD-B4D6-29F6C47255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A706E-400E-4D10-A556-3BCDECBC3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FBCA77-5DC3-48C2-8B8A-F0573B97C4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2F54B8-0059-46BE-8A8C-EEDC742571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9F584D-1DB7-47A8-B932-B8D8CBFA09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D52F5D-8EDF-4461-A716-CC5359CE20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193751-CE77-4D9C-AEED-61B04D7576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21A0A-216C-4CFD-B123-4BD8103AC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68364-ED3E-4021-8702-63529780A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197FD-28A3-4109-91F0-164E338E7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030EC-0B9F-4D65-A5A9-A8A77CECF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1FAAD-EE69-4747-99E3-A2F72AAED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EB94-DB17-4C83-8AC9-0B033929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53EF-8CA2-46C4-84B7-39F9391B7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D46CC-8086-4331-A38E-88E3E1019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6894F-F53B-485B-9E5E-5D3E5D779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A4752-C352-49F3-B0CF-00E3CBDA5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71252-7607-448C-A8B7-A3F35E23D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04A13F-EA46-4FAB-8D04-911AA5972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6C808-1DE3-4751-8535-9BA0F4613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E47C3-C0B1-470B-A599-D0F78B2627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1AA78-F0ED-44A4-852D-3FE189AFB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75465-B18B-4087-A19B-AE77B6B95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D161-A26F-4D57-B563-DDEE88F1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B7747-F248-4DE0-888F-79D97744C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1F0B6-C9C5-410A-84BC-B9AFAECD4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D7B67-1F48-4971-A13D-B7777DA9B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CC4D1-8437-49BD-8D25-E216AA680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97B1E-3A55-4E79-9CBF-16D8EDC64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C2D06-31D6-4D29-B0D3-7A888CC61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7CFBA-EE28-40C3-A0F7-CC9B668035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66889-15DB-4553-AD8F-35475BE98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716AA2-0805-4D38-BD89-BA1F7A62D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7676F-EEAD-4BEA-9E00-12BBE5B94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0A1D-FF51-428C-A963-CB673D3CA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FECCAA-8526-4360-A89F-1B14CFD16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5884E-0F98-4B3F-AA17-913B8801C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2C718-DF38-4F09-AA26-85820C0D6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7991B-C225-4F0D-A614-BA88D403A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66E8D-CE33-4BC5-800C-045777089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58EB1-6C88-435D-8B77-37537CCA6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A416C-740D-4550-B36B-6DF2F3225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5D813-8F08-45FC-8564-CB68A1748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26C40D-4247-4DDA-9A25-480D4096D2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A79802-246B-448A-A83A-168FE4212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35A0B-28F4-46D1-8AF0-2041726A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A6191D-E6A5-4C6D-B7D8-4222B2DB1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3C263-B662-4A96-93FC-17BC8397D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CAA83C-BF54-4561-844B-2FBFF2309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5117C8-3E00-4ECC-AEF8-F33BD69846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AD98C-EC59-42B4-857D-5439E1D90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B66B9-0F77-49FD-9F65-8FF90AF98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8CDEFD-6B24-4E30-A2FF-4BE1D089E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97E47-0247-4CE2-83FF-BB93D35529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6572AF-C0BF-42A3-8255-22FA7A3D4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7A21E-A665-43F8-807F-CD48630825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540DE-95A3-485A-BDC7-63E0FAB3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1AE77-D0ED-4661-A893-41919CD7C1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C97A78-8926-4A63-9AC6-50C39751A1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059E8F-DE63-4DCE-8FA8-DF70367F5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9BF2F9-763A-4F08-9A13-5383DFBC79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AAABC-FCF9-4979-AD2C-EA8532FD42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85C783-D57E-4099-9D4F-CFBBC154B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AD966-EAAD-42C4-8D89-B1E9D1BB4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4C40D-9F69-43D8-AA47-56CE66862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46682-C7F7-47DC-BEBB-B554EC7E3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C7E85-7921-4633-9494-B579F7A3D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D5AE-B74A-4360-8B27-0EB456D99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24BBF-6D82-454B-83E8-8FFF81B7C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7FA9B-397B-465E-BD06-61FE827BA6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FFAC7-054B-4A0E-B05A-66E72847BB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3B8DB9-A40E-41A8-8603-3EA3177CE4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7CE129-96DE-4AA2-AD85-FDB0DFA3F0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C6A09E-E51C-422B-AAB8-84B1F1F20B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79A1AD-94BE-49C1-ACB6-EBEC27607D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DEDBF-A9CA-4017-90CB-75CA2DB04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2457A8-B31A-4DE7-889D-D676132A0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9003E-4A37-4F98-8096-8A95073AB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142D0-40E7-49F4-9901-B184EB5B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3CCFE-5452-4237-8A86-C8609CFCF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2F904-6E9D-42F7-809C-518DD7638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171E3-1CF1-4A1E-A3FF-335722873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ABF8B3-05BC-4321-B100-D524B1C5F3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85C168-006F-435C-A422-5A607D105D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D6F367-77F5-45C5-BC27-7F0E96F0BA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4FBF32-D7EA-482F-9797-A41CC2C189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BA0230-461D-4A83-BFC2-262E27BFBF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5F063-2EF6-4B44-BC7A-E4A9A750C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637D2-3993-4DBF-9532-CFCDB0C925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DEC7-8814-4C40-A23B-24BA6DF51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3B19D-FE23-44DD-BA96-0903232D73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D36B0-1C3A-4994-ADF6-D5CF7B869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C609D-C857-4C91-9DE4-7D5AFE4F1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2EEFA-ED5F-4935-9687-DC0BF7228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BC8D0-780D-4481-83DA-413EDEF064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17C713-63D3-48F5-A0F7-5D337AB63D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3010C0-718D-4EED-B55D-C700419B94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1E4BD6-4CA0-4621-A45E-DB5BFC5E54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BBC647-D7B4-4A8A-A2F9-87EBAFD990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4F124D-EB3A-4C5F-A9D4-71BB2D5521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DFD64-BFFD-467C-A158-1F1412D20E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04883-7935-4139-86F8-2354B1C69AA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53050-FCC4-48AC-BE45-D3DDB59318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0F3A1-1835-43DF-9C85-D7487572C86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8ADE2-C0D8-406A-A249-A530D9A367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0FF67-DCEB-4480-B612-69E12A0AD14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98C65-095B-4176-83C7-1BD06A544A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7B7D0-9F2F-4D94-A2D3-63BCE0168FF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A57F6-BE5A-4D5A-80E2-AC1B40CC34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2568B-97D4-4B20-8F90-F1306B88DBF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DDDB2-5A99-4A3C-9685-E9AE9E3676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5EB4E-6E9B-42C6-85DB-157C753265D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6A2B3-46C4-4ACD-A6B5-333F71AE28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2003A-FF9F-4D92-B2BB-63B03F55A9A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BABEA-63E9-4F2A-9AB1-996551B961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4B94E-AA69-44E6-B19A-7E8620795FC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79A7D-63C3-4FDD-B5C9-C6B0B05320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68EEE-6F89-45A2-8F29-EC0ED2E13497}"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60C71-83AE-441B-A7D6-DA827AD13E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1A113-2124-43BA-9EF3-49FBE498A8B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171DE-E8F6-43D0-B90B-5ABD956AAD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FF90A-FA23-4982-9FCF-18D0E271D5C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C06E4-D9AC-4CEA-BCF4-86CC6C0053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TMOD</a:t>
            </a:r>
            <a:br>
              <a:rPr sz="4400"/>
            </a:br>
            <a:r>
              <a:rPr b="0" lang="en-US" sz="4400" spc="-1" strike="noStrike">
                <a:solidFill>
                  <a:srgbClr val="000000"/>
                </a:solidFill>
                <a:latin typeface="Calibri"/>
              </a:rPr>
              <a:t>Agenda and WG Status</a:t>
            </a:r>
            <a:endParaRPr b="0" lang="en-US" sz="4400" spc="-1" strike="noStrike">
              <a:solidFill>
                <a:srgbClr val="000000"/>
              </a:solidFill>
              <a:latin typeface="Calibri"/>
            </a:endParaRPr>
          </a:p>
        </p:txBody>
      </p:sp>
      <p:sp>
        <p:nvSpPr>
          <p:cNvPr id="493" name="PlaceHolder 2"/>
          <p:cNvSpPr>
            <a:spLocks noGrp="1"/>
          </p:cNvSpPr>
          <p:nvPr>
            <p:ph type="subTitle"/>
          </p:nvPr>
        </p:nvSpPr>
        <p:spPr>
          <a:xfrm>
            <a:off x="1023480" y="3240000"/>
            <a:ext cx="7256520" cy="221616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 Kessens</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kessens@nsn.com</a:t>
            </a:r>
            <a:br>
              <a:rPr sz="3000"/>
            </a:br>
            <a:br>
              <a:rPr sz="3000"/>
            </a:br>
            <a:r>
              <a:rPr b="0" lang="en-US" sz="3000" spc="-1" strike="noStrike">
                <a:solidFill>
                  <a:srgbClr val="898989"/>
                </a:solidFill>
                <a:latin typeface="Calibri"/>
              </a:rPr>
              <a:t>Jürgen Schönwälder</a:t>
            </a:r>
            <a:br>
              <a:rPr sz="3000"/>
            </a:br>
            <a:r>
              <a:rPr b="0" lang="en-US" sz="3000" spc="-1" strike="noStrike">
                <a:solidFill>
                  <a:srgbClr val="898989"/>
                </a:solidFill>
                <a:latin typeface="Calibri"/>
              </a:rPr>
              <a:t>j.schoenwaelder@jacobs-university.de</a:t>
            </a:r>
            <a:endParaRPr b="0" lang="en-US" sz="3000" spc="-1" strike="noStrike">
              <a:solidFill>
                <a:srgbClr val="000000"/>
              </a:solidFill>
              <a:latin typeface="Calibri"/>
            </a:endParaRPr>
          </a:p>
        </p:txBody>
      </p:sp>
      <p:sp>
        <p:nvSpPr>
          <p:cNvPr id="4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4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6A361-39F4-48E4-A1D7-F52424BC82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4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4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3AAB0-60C9-4D4B-B814-3C976FE1D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Text Box 3"/>
          <p:cNvSpPr/>
          <p:nvPr/>
        </p:nvSpPr>
        <p:spPr>
          <a:xfrm>
            <a:off x="228600" y="1371600"/>
            <a:ext cx="8766000" cy="4956120"/>
          </a:xfrm>
          <a:prstGeom prst="rect">
            <a:avLst/>
          </a:prstGeom>
          <a:noFill/>
          <a:ln w="0">
            <a:noFill/>
          </a:ln>
        </p:spPr>
        <p:style>
          <a:lnRef idx="0"/>
          <a:fillRef idx="0"/>
          <a:effectRef idx="0"/>
          <a:fontRef idx="minor"/>
        </p:style>
        <p:txBody>
          <a:bodyPr lIns="95040" rIns="95040" tIns="46800" bIns="46800" anchor="t">
            <a:noAutofit/>
          </a:bodyPr>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TF plenary sess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working group or portion thereo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SG or any member thereof on behalf of the IESG,</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AB or any member thereof on behalf of the IAB,</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mailing list, including the IETF list itsel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working group or design team list, or any other list</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functioning under IETF auspice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RFC Editor or the Internet-Drafts funct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1300" spc="-1" strike="noStrike">
                <a:solidFill>
                  <a:srgbClr val="000000"/>
                </a:solidFill>
                <a:latin typeface="Lucida Grande"/>
              </a:rPr>
              <a:t>All IETF Contributions are subject to the rules of RFC 3978 (updated by RFC 4748) and RFC 3979(updated by RFC 4879).</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Statements made outside of an IETF session, mailing list or other function, that are clearly not intended to be input to an IETF activity, group or function, are not IETF Contributions in the context of this notice.</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Please consult RFC 3978 (and RFC 4748) for detail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is deemed to accept all IETF rules of process, as documented in Best Current Practices RFCs and IESG Statement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acknowledges that written, audio and video records of meetings may be made and may be available to the publi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reviously chartered working group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0 (draft-ietf-netmod-ya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1 (draft-ietf-netmod-yang-typ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110 (draft-ietf-netmod-dsdl-ma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87 (draft-ietf-netmod-yang-us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244 (draft-ietf-netmod-arch)</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urrently chartered working group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ystem data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proposal accepted by W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terfaces data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outing data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MIv2 translation to YANG</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evision after 1</a:t>
            </a:r>
            <a:r>
              <a:rPr b="0" lang="en-US" sz="2200" spc="-1" strike="noStrike" baseline="30000">
                <a:solidFill>
                  <a:srgbClr val="000000"/>
                </a:solidFill>
                <a:latin typeface="Calibri"/>
              </a:rPr>
              <a:t>st</a:t>
            </a:r>
            <a:r>
              <a:rPr b="0" lang="en-US" sz="2200" spc="-1" strike="noStrike">
                <a:solidFill>
                  <a:srgbClr val="000000"/>
                </a:solidFill>
                <a:latin typeface="Calibri"/>
              </a:rPr>
              <a:t> WG last call)</a:t>
            </a:r>
            <a:endParaRPr b="0" lang="en-US" sz="2200" spc="-1" strike="noStrike">
              <a:solidFill>
                <a:srgbClr val="000000"/>
              </a:solidFill>
              <a:latin typeface="Calibri"/>
            </a:endParaRPr>
          </a:p>
        </p:txBody>
      </p:sp>
      <p:sp>
        <p:nvSpPr>
          <p:cNvPr id="5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DD49A-B1F8-4DEC-AC32-1816CC914F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n-WG Documents using YANG</a:t>
            </a:r>
            <a:endParaRPr b="0" lang="en-US" sz="44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FC docu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1 (draft-ietf-netconf-4741b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2 (draft-ietf-netconf-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5717 (draft-ietf-netconf-partial-loc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3 (draft-ietf-netconf-with-defaul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95 (draft-linowski-netmod-yang-abstr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G docu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ipfix-configuration-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FC Edit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netconf-access-contro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last ca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netconf-system-notifications </a:t>
            </a:r>
            <a:r>
              <a:rPr b="0" lang="en-US" sz="2400" spc="-1" strike="noStrike">
                <a:solidFill>
                  <a:srgbClr val="000000"/>
                </a:solidFill>
                <a:latin typeface="Calibri"/>
              </a:rPr>
              <a:t>	</a:t>
            </a:r>
            <a:r>
              <a:rPr b="0" lang="en-US" sz="2400" spc="-1" strike="noStrike">
                <a:solidFill>
                  <a:srgbClr val="000000"/>
                </a:solidFill>
                <a:latin typeface="Calibri"/>
              </a:rPr>
              <a:t>(WG last ca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1DF7E-C84A-4A21-AB2B-4F72D038A4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13" name=""/>
          <p:cNvSpPr txBox="1"/>
          <p:nvPr/>
        </p:nvSpPr>
        <p:spPr>
          <a:xfrm>
            <a:off x="457200" y="1257120"/>
            <a:ext cx="8229600" cy="5273640"/>
          </a:xfrm>
          <a:prstGeom prst="rect">
            <a:avLst/>
          </a:prstGeom>
          <a:noFill/>
          <a:ln w="0">
            <a:noFill/>
          </a:ln>
        </p:spPr>
        <p:txBody>
          <a:bodyPr anchor="t">
            <a:normAutofit/>
          </a:bodyPr>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Administrivia and WG Status</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5 min]</a:t>
            </a:r>
            <a:endParaRPr b="0" lang="en-US" sz="25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system data model (Andy)</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ierman-netmod-system-mgmt-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interface data model (Martin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interfaces-cfg-02</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iana-if-type-01</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ip-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routing data model (Ladislav)</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routing-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MIv2 to YANG translation (Juerge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smi-yan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Related work (Martin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snmp-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Open mik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0 min]</a:t>
            </a:r>
            <a:endParaRPr b="0" lang="en-US" sz="2500" spc="-1" strike="noStrike">
              <a:solidFill>
                <a:srgbClr val="000000"/>
              </a:solidFill>
              <a:latin typeface="Calibri"/>
            </a:endParaRPr>
          </a:p>
        </p:txBody>
      </p:sp>
      <p:sp>
        <p:nvSpPr>
          <p:cNvPr id="5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B7091-C30E-4245-8D7D-42C44090C9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WG Milestones</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c 2010 - Submit first working group draft of System data model draf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MIv2 to YANG translation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ystem data model to the IESG</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Interface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Routing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Nov 2011  **** IETF 82 Taipei ****</a:t>
            </a:r>
            <a:endParaRPr b="0" lang="en-US" sz="2000" spc="-1" strike="noStrike">
              <a:solidFill>
                <a:srgbClr val="000000"/>
              </a:solidFill>
              <a:latin typeface="Calibri"/>
            </a:endParaRPr>
          </a:p>
        </p:txBody>
      </p:sp>
      <p:sp>
        <p:nvSpPr>
          <p:cNvPr id="5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CA082-F5D5-4ADE-9DA3-D15D88370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2:58:58Z</dcterms:created>
  <dc:creator>Jürgen Schönwälder</dc:creator>
  <dc:description/>
  <dc:language>en-US</dc:language>
  <cp:lastModifiedBy>Jürgen Schönwälder</cp:lastModifiedBy>
  <dcterms:modified xsi:type="dcterms:W3CDTF">2011-11-11T13:10:16Z</dcterms:modified>
  <cp:revision>20</cp:revision>
  <dc:subject/>
  <dc:title>NETMOD Agenda</dc:title>
</cp:coreProperties>
</file>