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8B586-CD12-40E4-AFE0-8B6CCB65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1F387-1933-4C92-A815-685CFD6E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4C6A9-0E1B-4104-A469-24D275D591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C40D00-0652-4729-8566-0BD1294E9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4F068-FA4B-4AA3-BB5B-54BB4D6CF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C508C3-CC63-455B-97B3-932620A3BC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897BD-B21C-4089-9A5D-3B15512B7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7F79F-1E85-40C2-AC56-978D2ACBF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A9574-06DC-48CE-ABA5-025610C7FB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72F6E3-1E67-4B56-8E27-140517EA9D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EA94A1-3509-480E-8F25-0F422B0947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529DD5-CE38-4EFA-B7D2-7AE596CFDE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B07E-6C8B-4B35-B0E5-E64805980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7CE6EA-8A0A-4AC2-B65C-F32617B63F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9E6A8-6D4C-49D0-8ADE-3343513D29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216924-FFDB-486E-95C8-64CC5C8CD0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39656A-7F5F-40E7-9D71-26C6C20997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88975C-4A03-4B60-B766-C5C38589D1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01B6E8-65BE-4E6C-B223-FEFD0C62D7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FFE988-21D4-41A7-BDEF-10E4289345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59FEB6-B776-45E4-98DA-0E166E2618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D9E405-5856-4FB2-AB30-796CA5CE3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88D9DE-F8E4-4F3A-B68C-04EEAE3F6A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8B231-BBF9-4498-8315-4F0701849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B67C5D-A6C7-475F-A5BC-FBAF14A9FC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C727DB-DC36-4476-8C09-456F6F0352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F3723A-8530-4B7B-BFBA-56F70BC13B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CEE4B4-C967-4A91-971B-D3B1D29259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68FF87-6F83-43C9-98A8-D8EC25A3B6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D347D8-344E-4995-9AAD-2CA3E09692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34849A-853D-428D-A555-840A79C0CE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70633-3206-4620-9B87-B8FE98C9CA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B2618-80D2-4139-ACD3-209F90F707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BB2AE9-036F-4479-861E-D1AE049569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E9207-3E77-4AF5-B6AD-2E62B824A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A4C27A-5BCD-4898-B37F-4114E7F433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8F5D5C-5516-40A5-81F8-FCDD80ED61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F22D37-B4D2-478F-B06D-F310E80DE3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43ED15-3B14-4DAC-8107-ACB278B0A9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11946F-8C5B-4F08-A547-B6DD80377D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EB701C-FFD4-4F3A-AC7C-BD2D5257DE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ABDEAF-9B6C-4CED-95BA-571C69C62A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215DF1-D3F8-41F5-829A-5715B6CA66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5AA327-B3B9-45C8-8ECA-C5F2BBF0B5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24F8E9-F13B-482D-AE71-625A640CB0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02AF1-A024-4B01-B752-C3A80F796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08C315-B633-43ED-9A70-44738B208C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601396-8DFB-4182-B055-ABD99D717D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464E17-3177-4C5B-809B-8E19549085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ECA866-4E1D-4AAE-9581-FB0020EC69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6BB2C4-AD69-48CF-B61D-17C1156A29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61514-76E6-4C89-A0AE-5BCFAF478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330BE-6FD6-411C-94EB-FCF502E6F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DE87F-B235-45F5-A6E0-8EC37DAC1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846F8-AD79-4895-A325-6B3A1FA86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ECCFD-FF19-48C9-94F9-C66F56AD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3D5C-3F5E-43F7-B555-43F0B4EC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1E62-3BD6-4645-BEA2-6131D700D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4DFA2-08FC-4222-8229-627462BF2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6E4AE-EFF0-4424-8165-DDA8CEE1D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54512-C14B-4066-A979-F207F0F0D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E5577-5920-4AF1-9422-DB83C5BD2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9D1F5-D97D-489C-8789-0190D34B4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F22E3-F95B-4CBC-8585-8DF9A7611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6B383-EBFB-4DAA-8F13-47DD35080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971DA-CC61-476B-98FF-473D301EC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B8347-751D-42CF-8F0E-54C004831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7DA21-1072-4D9C-AB9C-26FD8DDEF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390FC-7B8E-4BCD-B5D3-2455024B9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E3B36-80CF-454D-B7FE-582C8F9CD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3A2D8-A820-49AB-9C78-9C0D3F921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FAE6F-0A7F-4107-B6BD-D01BDA536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FC6CC-D930-4660-956A-6AF779B85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76272F-4337-4423-A9A7-589166DF2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1711FC-8AE3-4CE2-ADF3-D0F5F4091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742D84-AE19-4859-9C19-A8B3B42162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48C13-0CC7-4005-8B6B-325C58FA2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5F185-AB1A-453D-AB59-09EDE3336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D995C-87A2-4CD7-93F6-B3F423F84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38554-5E47-4EBB-8F5F-0F20AC244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65B89-2108-4400-B839-4D834D16C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9C700-362B-495C-A292-59FA4248F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4D16F-C592-447B-BA0F-F46863DC1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4C9D7-7293-4428-9F69-7847173B0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FB7CC-F4EC-4047-A1FA-7E72A5344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BAC3B-ACD1-4127-965C-3175137A6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08C760-4E14-4461-A50A-CD22E402A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54DA4-275D-4912-82EA-AD62AE27F6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F24A2E-9B2D-4B68-899B-C683E4D706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8250-2E03-44D1-8178-ADB8141AD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2DDB1-39CD-4DC9-B54E-653152D08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EDC9B-8AF5-4A06-A08A-25A7A89D1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F3772-7DDB-4434-A3EC-4C07201296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14D99-DD7D-4D0D-829D-BF685E412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743F1-CA4C-486D-8711-B2511A27B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C043E-1C80-442D-ACAB-886FFBDA1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A4940-9CF9-41E6-9EF5-17BC9FA64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172DA-C784-4981-886A-F30F1EDFE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BE0CB-BA7B-44DC-968D-7C92B00A5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527B91-606A-4D46-91E8-7DDC7B52AE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8DB2-0A83-483E-973D-896A1408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51BC8-5B5B-4DB4-A661-8B673E27F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70B670-3C17-46F4-A161-515D61361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C0C0B2-ED1E-4F33-961C-93922906B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BB5C7E-5D8F-4ADA-B581-8D805851A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DC4B1-F5A3-4785-82B8-ECFC3AD39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20655-B7F1-489A-82D3-617426CA2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6108C-C76C-495C-99B8-603DCE2DE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03104-22D7-4C7D-83CF-9520FAC4A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29EDD-B85D-4086-8F8A-6FCCC6C285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53803-C0EC-43FA-8CF5-43F554F13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3C8C-C959-4484-934B-FB20B2DA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59E8F-2C6D-458B-AAA5-B7A64D706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A7DFC9-C799-4BDB-B688-459A197DAF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230685-F5CA-48D7-9D36-7EDA3E6B0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44DC56-BDB3-4940-B84E-6F857A7B95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9FBB3-9348-431A-84D7-748DA4774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25642-F7C9-4104-A0F9-5C55554B9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F8C8B-2121-4286-80CA-8846D41D8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A860D-DA68-4DA5-BBEB-D254BA79B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A226A2-6F3C-449C-B4B7-68DF7C0C6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F0DB9-B5AB-45CF-87B1-36D9C61A8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CCFF-2AC1-4426-942A-5447034C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95FCA-E96C-4D16-8DE3-9C28DB54C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431BA-F52E-4DF9-B019-59353FB39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673B0-ED1D-45CF-BC61-0C6C8231B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C0CAA4-730C-4F6D-8E47-ED070F2AD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51CCE-5589-4D2C-B1ED-198EDE7EA1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638523-24FE-4E55-A0C4-9355E7729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A1C6E-2001-46BF-9031-0A4FEF1E00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AE0CB-E406-4EF0-9FD2-69501200F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F3D7F-3C5D-4B37-A6C6-F0DC15213D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A5793A-5497-4133-972B-362783BAB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3F0F-8CDB-4222-BF6B-743117DE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474729-D591-4E9B-888C-BEFA364B7D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6945F-6CE7-4F1F-9DD2-1930399DE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BD85E-23BA-4DEE-AD48-CC880CD3F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1D63C-ACDC-49BE-A1D3-2AB08D49F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6E34B3-1F67-418C-BCC0-F143860C3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BBDABA-10AC-4637-8BAD-5E3C49F315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BA0291-EE04-4D89-9DB8-78A1FA4169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9D31D1-772F-4B07-9676-204BEF0AA8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B9109E-958B-4B84-AE37-ED7F47D649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D4685-0F00-4DC6-8BC4-1FFBBDCED1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07B18-A3BF-4D64-8D79-956C327F11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69B95-1D20-4721-84FE-E2BFA8205D7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2F5CF-83F6-425B-AC07-2A99023EC1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CCB2B-A271-46D7-8CE0-4200EDBE306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DC0E9-714F-4D19-949F-95A4B1E83C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8CEAF-635A-4897-B896-301EBA40F3D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963F7-C78F-414F-A6AB-9F6B23302C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AC2D6-03C5-415D-A24B-0E6E70F7170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F9DAE-7A03-4EAD-B8C3-7BA694660E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9EE99-2D33-424A-8950-CA5F0472B2A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DD743-C30E-46C3-ADC5-00DB9D6AC8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8E388-CC90-45D9-9F28-52C42B313CB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94EDC-C209-4CB0-B647-E36B2D0EC3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8BC25-C896-4AB8-A74A-22E90B324F5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ECDE3-8A32-49CB-AD3F-BFA9B04F44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23D25-CE3D-4C5E-96E3-5C0EE1D4F38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440A2-5C18-4288-927F-FCA57EA58B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23BFF-8837-4886-9FB4-E2F7C9896A8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0F455-3297-4033-8693-DFFF2BCF0A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BA016-69A7-4493-A0D1-D54CE140D72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C7AE3-B599-4C3B-8151-5CF1F26343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FA108-08F6-4DBB-9CFA-DCF3919297F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79 - NETMOD WG</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04FCB-6346-4F04-9054-DF7C3AB6ED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TMOD</a:t>
            </a:r>
            <a:br>
              <a:rPr sz="4400"/>
            </a:br>
            <a:r>
              <a:rPr b="0" lang="en-US" sz="4400" spc="-1" strike="noStrike">
                <a:solidFill>
                  <a:srgbClr val="000000"/>
                </a:solidFill>
                <a:latin typeface="Calibri"/>
              </a:rPr>
              <a:t>Agenda and WG Status</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023480" y="3240000"/>
            <a:ext cx="7256520" cy="221616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 Kessens</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98989"/>
                </a:solidFill>
                <a:latin typeface="Calibri"/>
              </a:rPr>
              <a:t>david.kessens@nsn.com</a:t>
            </a:r>
            <a:br>
              <a:rPr sz="3000"/>
            </a:br>
            <a:br>
              <a:rPr sz="3000"/>
            </a:br>
            <a:r>
              <a:rPr b="0" lang="en-US" sz="3000" spc="-1" strike="noStrike">
                <a:solidFill>
                  <a:srgbClr val="898989"/>
                </a:solidFill>
                <a:latin typeface="Calibri"/>
              </a:rPr>
              <a:t>Jürgen Schönwälder</a:t>
            </a:r>
            <a:br>
              <a:rPr sz="3000"/>
            </a:br>
            <a:r>
              <a:rPr b="0" lang="en-US" sz="3000" spc="-1" strike="noStrike">
                <a:solidFill>
                  <a:srgbClr val="898989"/>
                </a:solidFill>
                <a:latin typeface="Calibri"/>
              </a:rPr>
              <a:t>j.schoenwaelder@jacobs-university.de</a:t>
            </a:r>
            <a:endParaRPr b="0" lang="en-US" sz="3000" spc="-1" strike="noStrike">
              <a:solidFill>
                <a:srgbClr val="000000"/>
              </a:solidFill>
              <a:latin typeface="Calibri"/>
            </a:endParaRPr>
          </a:p>
        </p:txBody>
      </p:sp>
      <p:sp>
        <p:nvSpPr>
          <p:cNvPr id="4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35B40-8B73-4207-A164-D67FE04001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4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4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D37C3-17F8-4E9E-9217-A00882296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Text Box 3"/>
          <p:cNvSpPr/>
          <p:nvPr/>
        </p:nvSpPr>
        <p:spPr>
          <a:xfrm>
            <a:off x="228600" y="1371600"/>
            <a:ext cx="8766000" cy="4956120"/>
          </a:xfrm>
          <a:prstGeom prst="rect">
            <a:avLst/>
          </a:prstGeom>
          <a:noFill/>
          <a:ln w="0">
            <a:noFill/>
          </a:ln>
        </p:spPr>
        <p:style>
          <a:lnRef idx="0"/>
          <a:fillRef idx="0"/>
          <a:effectRef idx="0"/>
          <a:fontRef idx="minor"/>
        </p:style>
        <p:txBody>
          <a:bodyPr lIns="95040" rIns="95040" tIns="46800" bIns="46800" anchor="t">
            <a:noAutofit/>
          </a:bodyPr>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TF plenary sess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working group or portion thereo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ESG or any member thereof on behalf of the IESG,</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IAB or any member thereof on behalf of the IAB,</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IETF mailing list, including the IETF list itself,</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any working group or design team list, or any other list</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functioning under IETF auspice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ea typeface="Times New Roman"/>
              </a:rPr>
              <a:t>-the RFC Editor or the Internet-Drafts function</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1300" spc="-1" strike="noStrike">
                <a:solidFill>
                  <a:srgbClr val="000000"/>
                </a:solidFill>
                <a:latin typeface="Lucida Grande"/>
              </a:rPr>
              <a:t>All IETF Contributions are subject to the rules of RFC 3978 (updated by RFC 4748) and RFC 3979(updated by RFC 4879).</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Statements made outside of an IETF session, mailing list or other function, that are clearly not intended to be input to an IETF activity, group or function, are not IETF Contributions in the context of this notice.</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Please consult RFC 3978 (and RFC 4748) for detail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is deemed to accept all IETF rules of process, as documented in Best Current Practices RFCs and IESG Statements.</a:t>
            </a: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85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Lucida Grande"/>
              </a:rPr>
              <a:t>A participant in any IETF activity acknowledges that written, audio and video records of meetings may be made and may be available to the publ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 Document Status</a:t>
            </a:r>
            <a:endParaRPr b="0" lang="en-US" sz="44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reviously chartered working group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0 (draft-ietf-netmod-ya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21 (draft-ietf-netmod-yang-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110 (draft-ietf-netmod-dsdl-ma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087 (draft-ietf-netmod-yang-us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FC 6244 (draft-ietf-netmod-arch)</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urrently chartered working group ite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ystem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proposal accepted by W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nterfaces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outing data mod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WG document avail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MIv2 translation to YANG</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evision after 1</a:t>
            </a:r>
            <a:r>
              <a:rPr b="0" lang="en-US" sz="2200" spc="-1" strike="noStrike" baseline="30000">
                <a:solidFill>
                  <a:srgbClr val="000000"/>
                </a:solidFill>
                <a:latin typeface="Calibri"/>
              </a:rPr>
              <a:t>st</a:t>
            </a:r>
            <a:r>
              <a:rPr b="0" lang="en-US" sz="2200" spc="-1" strike="noStrike">
                <a:solidFill>
                  <a:srgbClr val="000000"/>
                </a:solidFill>
                <a:latin typeface="Calibri"/>
              </a:rPr>
              <a:t> WG last call)</a:t>
            </a:r>
            <a:endParaRPr b="0" lang="en-US" sz="2200" spc="-1" strike="noStrike">
              <a:solidFill>
                <a:srgbClr val="000000"/>
              </a:solidFill>
              <a:latin typeface="Calibri"/>
            </a:endParaRPr>
          </a:p>
        </p:txBody>
      </p:sp>
      <p:sp>
        <p:nvSpPr>
          <p:cNvPr id="5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0AEA0-89F1-4A10-B6F5-58CEF7140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WG Documents using YANG</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FC docu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1 (draft-ietf-netconf-4741b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22 (draft-ietf-netconf-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5717 (draft-ietf-netconf-partial-loc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243 (draft-ietf-netconf-with-defaul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FC 6095 (draft-linowski-netmod-yang-abstr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G docu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ipfix-configuration-mode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FC Edi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netconf-access-contro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raft-ietf-netconf-system-notifications </a:t>
            </a:r>
            <a:r>
              <a:rPr b="0" lang="en-US" sz="2400" spc="-1" strike="noStrike">
                <a:solidFill>
                  <a:srgbClr val="000000"/>
                </a:solidFill>
                <a:latin typeface="Calibri"/>
              </a:rPr>
              <a:t>	</a:t>
            </a:r>
            <a:r>
              <a:rPr b="0" lang="en-US" sz="2400" spc="-1" strike="noStrike">
                <a:solidFill>
                  <a:srgbClr val="000000"/>
                </a:solidFill>
                <a:latin typeface="Calibri"/>
              </a:rPr>
              <a:t>(WG last ca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4B65D-F398-4ED9-8E2F-F0989D602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13" name=""/>
          <p:cNvSpPr txBox="1"/>
          <p:nvPr/>
        </p:nvSpPr>
        <p:spPr>
          <a:xfrm>
            <a:off x="457200" y="1257120"/>
            <a:ext cx="8229600" cy="5273640"/>
          </a:xfrm>
          <a:prstGeom prst="rect">
            <a:avLst/>
          </a:prstGeom>
          <a:noFill/>
          <a:ln w="0">
            <a:noFill/>
          </a:ln>
        </p:spPr>
        <p:txBody>
          <a:bodyPr anchor="t">
            <a:normAutofit/>
          </a:bodyPr>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Administrivia and WG Status</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5 min]</a:t>
            </a:r>
            <a:endParaRPr b="0" lang="en-US" sz="25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system data model (Andy)</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ierman-netmod-system-mgmt-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interface data model (Martin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nterfaces-cfg-02</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iana-if-type-01</a:t>
            </a:r>
            <a:endParaRPr b="0" lang="en-US" sz="22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i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ore routing data model (Ladislav)</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routing-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MIv2 to YANG translation (Juergen)</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2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ietf-netmod-smi-yan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Related work (Martin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a:p>
            <a:pPr lvl="1" marL="914400" indent="-51444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raft-bjorklund-netmod-snmp-cfg-01</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pen mik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10 min]</a:t>
            </a:r>
            <a:endParaRPr b="0" lang="en-US" sz="2500" spc="-1" strike="noStrike">
              <a:solidFill>
                <a:srgbClr val="000000"/>
              </a:solidFill>
              <a:latin typeface="Calibri"/>
            </a:endParaRPr>
          </a:p>
        </p:txBody>
      </p:sp>
      <p:sp>
        <p:nvSpPr>
          <p:cNvPr id="5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F34B0-88BD-4A91-9BC7-46264D959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WG Milestones</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c 2010 - Submit first working group draft of System data model draf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MIv2 to YANG translation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r 2011 - Submit System data model to the IESG</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Interface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ug 2011 - Submit Routing data model to the IES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Nov 2011  **** IETF 82 Taipei ****</a:t>
            </a:r>
            <a:endParaRPr b="0" lang="en-US" sz="2000" spc="-1" strike="noStrike">
              <a:solidFill>
                <a:srgbClr val="000000"/>
              </a:solidFill>
              <a:latin typeface="Calibri"/>
            </a:endParaRPr>
          </a:p>
        </p:txBody>
      </p:sp>
      <p:sp>
        <p:nvSpPr>
          <p:cNvPr id="5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2011-11-15</a:t>
            </a:r>
            <a:endParaRPr b="0" lang="en-US" sz="1200" spc="-1" strike="noStrike">
              <a:solidFill>
                <a:srgbClr val="000000"/>
              </a:solidFill>
              <a:latin typeface="Arial"/>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IETF 82 - NETMOD WG</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B72D4-1F7F-4A6B-BB3E-8B34E86D8D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2:58:58Z</dcterms:created>
  <dc:creator>Jürgen Schönwälder</dc:creator>
  <dc:description/>
  <dc:language>en-US</dc:language>
  <cp:lastModifiedBy>Jürgen Schönwälder</cp:lastModifiedBy>
  <dcterms:modified xsi:type="dcterms:W3CDTF">2011-11-11T13:10:16Z</dcterms:modified>
  <cp:revision>20</cp:revision>
  <dc:subject/>
  <dc:title>NETMOD Agenda</dc:title>
</cp:coreProperties>
</file>