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A8A9-7638-49D6-BEE1-2D3E79DB0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T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47D-1118-4E41-8A0F-AE320365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F61-45C4-4B4C-BB93-A936E452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16F-507A-4CC9-AA91-B4FAA533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E6F-4F75-40EF-84D4-FE179F0F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F80E-439E-478A-8E66-3373B333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AE83-03FB-4CCD-A25A-6D506E35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0177-AA39-44C2-91A1-02A82F03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5218-905F-4480-9149-B6A598D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8750-961A-468F-BB40-DA56C869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2A2E-CD7B-4DBD-AB82-C4E62FFA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2157-61D0-4897-AF41-5B9A7819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78D-BC0C-49A1-8B2B-38AF137B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B961-D406-4569-B012-EC8962CE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4D16-D4D5-423C-9B59-7409731F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B1E5-0C94-44D9-91D8-4F6C37B5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2471-D1FE-4E26-B22F-DE8B75FD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A9B8-37DC-48BA-A056-77DFE763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866-68AC-4092-ADFB-F05F71DE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86B-0BD9-4463-A3C4-6555A485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97B-B19F-4A4A-919D-78E6FE45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157-FF02-4ED4-B936-80EFDA45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02C-A82D-4071-B03B-6693A6E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80F-91AB-43CB-93EC-5A6C76BB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88D-BA3F-420A-B077-2110C0B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2ED0-245A-4F8E-9338-F0C7FBD10A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6BFB-E81A-4E2F-94E7-1E553D5C42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onverged Network Managemen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ETF 8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GMN (Next Generation Mobile Networks) has created a document that describes the operational requirements of both wireless and wireline network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GMN sees this work as a way to prioritize the work in other industry fora and SDOs to align requirements in the area of converged O&amp;M requireme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GMN has held two meetings with representatives from many standards bodies to discuss coord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GPP SA5, TMF, OIF, MEF, ITU-T SG 2, ETSI, DTMF, ATIS, BBF have all participat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ais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NGMN has sent a liaison to the IETF and many other groups with a copy of their Next Generation Converged Operations Requirements (NGCOR) docu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have requested comments on this first draft and suggestions on the next phase of the docu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s in the NGCOR Draf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quirements fo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ventory Manag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ult Managemen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erged Oper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eling and too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lated wor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GPP and TMForum alignment of wireless and wireline management mode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ult Management Harmoniz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itial Focus of the Coordination Wor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3809880"/>
            <a:ext cx="4267080" cy="83844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ordinated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NGMN invites other standard groups to participate in meetings to help identify areas of management operations that need to be harmoniz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work will be agreed to by the participating bodies and follow the ways of working of the groups involv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NGMN will track the progress through liaisons from the groups working on the particular aspect of the harmo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on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the NGCOR documen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ETF has not been represented at the coordination meetings, any interes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22:44:00Z</dcterms:created>
  <dc:creator>escoman</dc:creator>
  <dc:description/>
  <dc:language>en-US</dc:language>
  <cp:lastModifiedBy>escoman</cp:lastModifiedBy>
  <dcterms:modified xsi:type="dcterms:W3CDTF">2011-11-13T01:37:37Z</dcterms:modified>
  <cp:revision>5</cp:revision>
  <dc:subject/>
  <dc:title>Converged Network Management</dc:title>
</cp:coreProperties>
</file>