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1DC7-EDCE-4335-894A-603CE5E10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T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AFC-F050-4EB9-94D3-9EFEB310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9E8-5965-4442-B7E1-DFD86C65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DCF-6CBF-4D0E-8BE6-6D033A94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227-9053-48B2-8C8A-7A9CD394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3BD2-E295-4B7D-9C6A-A39BF8A8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6593-68C5-4FD7-BB02-6C7FF4C4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B202-797E-45C9-9637-BD0D993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C9A0-0DDD-4638-A8FC-C09B17E1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6BEF-8059-4923-9ADF-4D23DF6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7F9F-E131-400F-A030-41A352B7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1806-8EFF-4B6A-8AF2-146BC63F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203-BBB8-4A3A-8AA2-9E0FA56C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ED8-C7B4-456D-9E8A-1197CD8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93F1-6E22-4E7F-AB3B-4D87076C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BCB5-C93E-4572-BF22-F81F5229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68A0-D6D2-4D60-870A-B59B46FA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43DF-D593-42FF-94F3-3274FEAA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EAD-59ED-41D7-9B23-803830E9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1DC-8AD0-4EE0-935B-0EC5FC65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605-7188-4E8F-BC86-5D31F4EA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CB4-D690-4C66-A094-C1C74E0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FB5-ABF9-4E41-9E96-7B5B6F94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A35-9537-4F26-857F-CEC6D09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D60-2003-4CAC-8A9E-D6A7768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9109-DC6B-455E-AA0C-DAA3A2C336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D0C-05BD-4FAD-985A-4538332840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onverged Network Managemen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ETF 8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GMN (Next Generation Mobile Networks) has created a document that describes the operational requirements of both wireless and wireline networ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GMN sees this work as a way to prioritize the work in other industry fora and SDOs to align requirements in the area of converged O&amp;M require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GMN has held two meetings with representatives from many standards bodies to discuss coord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GPP SA5, TMF, OIF, MEF, ITU-T SG 2, ETSI, DTMF, ATIS, BBF have all participa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ais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NGMN has sent a liaison to the IETF and many other groups with a copy of their Next Generation Converged Operations Requirements (NGCOR) docu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have requested comments on this first draft and suggestions on the next phase of the docu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in the NGCOR Draf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irements fo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ventory Manag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ult Managemen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rged Oper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eling and too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ated wor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GPP and TMForum alignment of wireless and wireline management mod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ult Management Harmoniz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itial Focus of the Coordination Wor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3809880"/>
            <a:ext cx="4267080" cy="83844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ordinated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NGMN invites other standard groups to participate in meetings to help identify areas of management operations that need to be harmoniz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work will be agreed to by the participating bodies and follow the ways of working of the groups invol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NGMN will track the progress through liaisons from the groups working on the particular aspect of the harmo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the NGCOR documen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ETF has not been represented at the coordination meetings, any interes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22:44:00Z</dcterms:created>
  <dc:creator>escoman</dc:creator>
  <dc:description/>
  <dc:language>en-US</dc:language>
  <cp:lastModifiedBy>escoman</cp:lastModifiedBy>
  <dcterms:modified xsi:type="dcterms:W3CDTF">2011-11-13T01:37:37Z</dcterms:modified>
  <cp:revision>5</cp:revision>
  <dc:subject/>
  <dc:title>Converged Network Management</dc:title>
</cp:coreProperties>
</file>