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3A8E-7C16-455B-ACAC-0BAB2EC1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337-BF9C-46BA-897E-A23A5ECB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 for Carrying Authentication for Network Access - RFC 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4FD4-FCEC-4989-8F5D-574F7F66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ECD-B7FB-49AC-AFBF-46B53178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BF2-6CB2-463D-AC82-176BCC3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B75-32C3-4269-9CAC-8B203522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75D-CD1E-475C-944D-A70A9F6B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DFE-A848-49BF-A193-C4FDD842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7ED-540C-4778-980A-80CB351F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702-AA3F-44CA-A29C-D742CBE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C2D-A3B6-4CDA-8952-CAE8A6C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6D9-BDB4-4990-9674-5DB05F2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DD2-7EB0-468B-9075-7F0406A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223-4069-47CA-9A5D-E93C39D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7C5-B2BE-4EF7-94CC-F0F202B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7E71-74ED-4DCB-821E-967A188C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opsawg-management-stds-02.txt" TargetMode="External"/><Relationship Id="rId2" Type="http://schemas.openxmlformats.org/officeDocument/2006/relationships/hyperlink" Target="mailto:mehmet.ersue@nsn.com" TargetMode="External"/><Relationship Id="rId3" Type="http://schemas.openxmlformats.org/officeDocument/2006/relationships/hyperlink" Target="mailto:bclaise@cisco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BEBF-210A-425C-87E9-39DD04CA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verview of the IETF Network Management Standards</a:t>
            </a:r>
            <a:br>
              <a:rPr sz="4400"/>
            </a:b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raft-ietf-opsawg-management-stds-0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#82, Taipei,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&amp;M Area Working Grou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hmet.ersue@ns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claise@cisc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nges since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12500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we did since la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note that IETF has not used the FCAPS view as an organizing principle for its data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note indicating that IETF has not developed so far specific technologies for the management of sensor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[I-D.weil-shared-transition-space-request] assuming that it'll get published prett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bsections RADIUS and DIAMETER with text on expired dra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dispatcher tables in Appendix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text on expired dra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ed up bugs, nits and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RFC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8B2-986B-4F66-9211-ED7CED99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480" y="112356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issue of a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high-level overview of IETF MIB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sal: Provide a chapter for the high-level overview of IETF MIBs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the management task-base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NIST SGIP IP Suite WG for comments after this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other WGLC after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E69-B455-4002-A0BB-F08B53FA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61A1-720E-4FAB-935C-AA7D6ED1D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D45F-D5F6-479C-BA4A-EA949406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nagit_PPT3B71" descr="PPT3B71.png"/>
          <p:cNvPicPr/>
          <p:nvPr/>
        </p:nvPicPr>
        <p:blipFill>
          <a:blip r:embed="rId1"/>
          <a:stretch/>
        </p:blipFill>
        <p:spPr>
          <a:xfrm>
            <a:off x="1038240" y="189000"/>
            <a:ext cx="7053120" cy="6492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187280" y="4941720"/>
            <a:ext cx="6840720" cy="180036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1640" y="20520"/>
            <a:ext cx="763272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raft Audience &amp;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480" y="1123560"/>
            <a:ext cx="838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aud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ople interested in getting an overview of current set of  IET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ologi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n-IETF bodies interested in using IETF management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question to ans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ETF technologies and data models can be used to build a management application, e.g. for network monitoring, fault mgmt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Network Management technologies and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technology options and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addressing the management application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and map to network management tasks like fault, configuration, accounting, performance, and securit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of-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odels not in direct focus of network managemen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y specific MIBs, e.g. TCP MIB, IPv6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B modules related to transmission , e.g. ISDN MIB, ATM MI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0B0F-B070-4618-AF69-F8897459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480" y="1356840"/>
            <a:ext cx="8429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FIX, PSAMP (Juergen Quittek, 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(Juergen Schönwä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and DIAMETER (Jouni Korho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(Ralph Dr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 (Benoit Cla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itial reviewers in OPSAWG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need more revie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4008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F64-2860-453E-96EA-3DAAE70E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25:01Z</dcterms:created>
  <dc:creator>Bernd Linowski</dc:creator>
  <dc:description/>
  <dc:language>en-US</dc:language>
  <cp:lastModifiedBy>Mehmet Ersü</cp:lastModifiedBy>
  <dcterms:modified xsi:type="dcterms:W3CDTF">2011-11-14T12:44:51Z</dcterms:modified>
  <cp:revision>313</cp:revision>
  <dc:subject/>
  <dc:title>Complex Types for YANG</dc:title>
</cp:coreProperties>
</file>