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02C7-1A6C-41C1-A502-EF4F9B0A5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679D-43C4-4691-BEE0-892B3C579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 for Carrying Authentication for Network Access - RFC 51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2C2C-D6B7-4A64-8FE7-163DBFAF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2B5-8727-4487-96BB-92EC6918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2C9-C86F-4703-9CB4-16F22F79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178-989D-4697-B4F5-C898B28D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295-7966-4EAD-A95A-100A3623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397-8115-4981-91C2-0DAE6216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463-5169-4634-9595-D8F750E4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0CC-8211-466C-A4E4-8CE1B49D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190-6A29-4174-8531-074AD6D8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A76-37EF-402B-BE34-14EBC0AD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9B4-AE69-4E3B-8480-F527586D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CCD-4B5D-4195-B367-9AEFA31A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936-B184-4F7C-9336-9F33FE9B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70EA-0389-4681-8EED-9A8BC30A2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opsawg-management-stds-02.txt" TargetMode="External"/><Relationship Id="rId2" Type="http://schemas.openxmlformats.org/officeDocument/2006/relationships/hyperlink" Target="mailto:mehmet.ersue@nsn.com" TargetMode="External"/><Relationship Id="rId3" Type="http://schemas.openxmlformats.org/officeDocument/2006/relationships/hyperlink" Target="mailto:bclaise@cisco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9E15-6967-48CF-8286-AA018C8F5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verview of the IETF Network Management Standards</a:t>
            </a:r>
            <a:br>
              <a:rPr sz="4400"/>
            </a:br>
            <a:br>
              <a:rPr sz="40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ietf-opsawg-management-stds-02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#82, Taipei, 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&amp;M Area Working Group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hmet.ersue@ns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claise@cisc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anges since Pr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480" y="1125000"/>
            <a:ext cx="8429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we did since last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note that IETF has not used the FCAPS view as an organizing principle for its data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note indicating that IETF has not developed so far specific technologies for the management of sensor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[I-D.weil-shared-transition-space-request] assuming that it'll get published pretty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ubsections RADIUS and DIAMETER with text on expired draf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dispatcher tables in Appendix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d text on expired dra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ed up bugs, nits and ope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RFC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3B91-142B-4479-B1E5-64A94BD09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480" y="1123560"/>
            <a:ext cx="8429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issue of add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high-level overview of IETF MIB mod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osal: Provide a chapter for the high-level overview of IETF MIBs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mentary to the management task-based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NIST SGIP IP Suite WG for comments after this mee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's nex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nother WGLC after the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F875-7F5A-4EBE-A55A-76D96A4DE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123560"/>
            <a:ext cx="838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Back-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CDA2-D35F-4B9A-AA12-688EFEDEE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A4AD-AA33-4A57-AE4C-8CA4EAF73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nagit_PPT3B71" descr="PPT3B71.png"/>
          <p:cNvPicPr/>
          <p:nvPr/>
        </p:nvPicPr>
        <p:blipFill>
          <a:blip r:embed="rId1"/>
          <a:stretch/>
        </p:blipFill>
        <p:spPr>
          <a:xfrm>
            <a:off x="1038240" y="189000"/>
            <a:ext cx="7053120" cy="6492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187280" y="4941720"/>
            <a:ext cx="6840720" cy="180036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971640" y="20520"/>
            <a:ext cx="763272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raft Audience &amp;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480" y="1123560"/>
            <a:ext cx="838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ft audie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ople interested in getting an overview of current set of  IETF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agement technologi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n-IETF bodies interested in using IETF management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question to answ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ETF technologies and data models can be used to build a management application, e.g. for network monitoring, fault mgmt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foc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Network Management technologies and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ne technology options and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ls addressing the management application vi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and map to network management tasks like fault, configuration, accounting, performance, and security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-of-foc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models not in direct focus of network management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ology specific MIBs, e.g. TCP MIB, IPv6 MIB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B modules related to transmission , e.g. ISDN MIB, ATM MIB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DC70-9818-43FD-B696-352A425B9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480" y="1356840"/>
            <a:ext cx="8429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contribu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FIX, PSAMP (Juergen Quittek, Benoit Cla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NG (Juergen Schönwäl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US and DIAMETER (Jouni Korhon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 (Ralph Dro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N (Benoit Cla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itial reviewers in OPSAWG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need more revie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F910-CC0A-49E4-904E-C3E471ACE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7:25:01Z</dcterms:created>
  <dc:creator>Bernd Linowski</dc:creator>
  <dc:description/>
  <dc:language>en-US</dc:language>
  <cp:lastModifiedBy>Mehmet Ersü</cp:lastModifiedBy>
  <dcterms:modified xsi:type="dcterms:W3CDTF">2011-11-14T12:44:51Z</dcterms:modified>
  <cp:revision>313</cp:revision>
  <dc:subject/>
  <dc:title>Complex Types for YANG</dc:title>
</cp:coreProperties>
</file>