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F4F5-3D15-4E7C-86B6-61CA1C935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ECC2-1FF2-4C9C-9195-78580D12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D96F-A372-4336-8498-50A07E86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2813-EF9E-4A1B-A0F2-930AA70F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FF07-A449-4A74-9A38-50EF63ED3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5F96-6937-4CA3-BB5A-C426BB50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975B-9FE4-49C6-A748-6C279E96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3614-239D-4263-8A8C-420A1B43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44FE-4349-41CF-8C0F-BFFB0B4C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55A8-57B3-41EB-BFB0-AF017BBB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CBB5-BA1C-406F-A4A7-3F74BFD1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4CC5-8D01-4909-8F57-8EFFCFE7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1FDE-F6E7-4C2C-800A-01B812B3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009F-1BFC-4619-B68B-A52FDDC5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E5F2-D000-4726-BE80-172EE4A4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BBC8-1226-47DD-BAAA-7294764F2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1CA5-556D-4A38-988E-B8C564A1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5346-249B-47C4-A678-E6F98FEF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D43F-DE1B-4B6D-AB8D-2489CC11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85DA-C006-4819-88F8-E47FBA91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6CEE-CB6B-42E3-96D4-C35EFC7B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0D14-38E6-4E16-A584-EA060713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CD76-1945-49F9-8CC1-5F7206A1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1591-0790-4A9B-8261-06DAEE00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8016-1902-428B-B6E3-DB2B54A140F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E93D-4DCB-4FF4-B9BE-C5DB8AF8ED2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3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P2PSIP DRR &amp; RP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411480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ng Z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ngfeng Ji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ni 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unfei Zh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TF 82th, Taipe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914400" y="2819520"/>
            <a:ext cx="762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draft-ietf-p2psip-drr-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draft-ietf-p2psip-rpr-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hange Since 81t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individual -00 to -01 with following chan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flag value of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gnore-State-Keep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0x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xtensive_Routing_Mo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ype value to 0x2 in IANA 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 the definition of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estin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structure ExtensiveRoutingModeO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 re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t WG draft -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457200" y="434340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pdate individual -00 to -01 with following chan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Update re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ubmit WG draft -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cent Com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correct the definition o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oute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editorial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457200" y="3505320"/>
            <a:ext cx="82296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ome editorial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ext Ste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recent comments in next re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t WG draft -01 of DRR by Nov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t WG draft -01 of RPR by Nov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GLC of DRR &amp; RPR after new sub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2742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rian Rosen</cp:lastModifiedBy>
  <dcterms:modified xsi:type="dcterms:W3CDTF">2011-11-17T02:00:05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_ms_pID_725343">
    <vt:lpwstr>(2)LOWc8WvpRah3PAj7FYB1s8p9zmTjIKXVxzZJwEI0EhPyi6kbmSozoZgOTlKb0dRl7oXsJE5/
a8bXUcT+weJQQGy34BuktPiBSZV8j2ksfXJyi1HGddbKYVdDBz2/vJibh+kjjUYEbjZg37fR
Ye7jxWGGe5Dz226t4R+Sy5fgtsYY510Xw8R3ihUtEZCxGY+GNcuo6JlFJn1UO3RSiujzH3xE
MVKEBB0Mbmf80hbTnvqka</vt:lpwstr>
  </property>
  <property fmtid="{D5CDD505-2E9C-101B-9397-08002B2CF9AE}" pid="4" name="_ms_pID_7253431">
    <vt:lpwstr>VQNfck959+h1opovSHB6tjucgYMIyzLvuEpymw+9KvyskfE+Ymn
9m3byoxCTGxg3Zkh1AMHLyPUQ5/tgycjYtr3VK2a/tHIvVZMcEOtAuf/qNeYcwk7YGONq9vb
CuI=</vt:lpwstr>
  </property>
  <property fmtid="{D5CDD505-2E9C-101B-9397-08002B2CF9AE}" pid="5" name="sflag">
    <vt:lpwstr>1320885062</vt:lpwstr>
  </property>
</Properties>
</file>