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530-4B7E-4F23-ABC6-BA9CC245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44BA-3722-4FDB-B2D9-9B64755E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823-2384-44E2-8F5D-F7602186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664-26F7-4020-8D8A-A5989BAF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688F-2BB9-4F20-B6F4-D5B2C00C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4993-B994-4C4C-A497-1C188102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E71E-6247-49D0-B164-960A568E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483B-DC09-42D3-9867-20BAC953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AC0E-2626-4572-B987-E24537D7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4AA5-044B-4627-A5BD-C7D7E4AE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F3CA-4B1D-436A-9D85-6EE4A45D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9B4-2B76-480E-92D0-AA744F29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9F85-5302-435B-A5B9-21A00533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9488-6FC6-4DAB-A6DF-F5F85942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22EE-99A6-463B-8B67-9D4AB0C2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9D04-0BC0-46B4-84FC-48592D29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5ECB-4BC9-4527-A1E4-A6B52CE9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D04-C422-494C-A210-DFDE9E99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41A-2E44-4CD0-BCD9-B43C5D0C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BA97-3DB0-4EA2-8D0A-03C4183B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8A5-6B7E-48AA-B954-1E78406A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E3E-2332-4B01-AB27-330F518C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6EC-3F1A-4798-9A06-BF32EAE0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3F7-3B4E-4DCD-91DC-65BC4188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5CDC-8320-4BFA-8A5D-B514441A36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8059-DC1C-49D7-A055-3B920E13F04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3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2PSIP DRR &amp; RP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11480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ng Z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ngfeng Ji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ni 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unfei Z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 82th, Taip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914400" y="2819520"/>
            <a:ext cx="762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draft-ietf-p2psip-drr-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draft-ietf-p2psip-rpr-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hange Since 81t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individual -00 to -01 with following chan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flag value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gnore-State-Keep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0x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xtensive_Routing_M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value to 0x2 in IANA 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the definition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esti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structure ExtensiveRoutingMode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 WG draft 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pdate individual -00 to -01 with following chan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pdate 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bmit WG draft 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cent Com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correct the definition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oute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ditorial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57200" y="3505320"/>
            <a:ext cx="82296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me editorial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xt Ste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recent comments in next re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 WG draft -01 of DRR by 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 WG draft -01 of RPR by 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GLC of DRR &amp; RPR after new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rian Rosen</cp:lastModifiedBy>
  <dcterms:modified xsi:type="dcterms:W3CDTF">2011-11-17T02:00:05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ms_pID_725343">
    <vt:lpwstr>(2)LOWc8WvpRah3PAj7FYB1s8p9zmTjIKXVxzZJwEI0EhPyi6kbmSozoZgOTlKb0dRl7oXsJE5/
a8bXUcT+weJQQGy34BuktPiBSZV8j2ksfXJyi1HGddbKYVdDBz2/vJibh+kjjUYEbjZg37fR
Ye7jxWGGe5Dz226t4R+Sy5fgtsYY510Xw8R3ihUtEZCxGY+GNcuo6JlFJn1UO3RSiujzH3xE
MVKEBB0Mbmf80hbTnvqka</vt:lpwstr>
  </property>
  <property fmtid="{D5CDD505-2E9C-101B-9397-08002B2CF9AE}" pid="4" name="_ms_pID_7253431">
    <vt:lpwstr>VQNfck959+h1opovSHB6tjucgYMIyzLvuEpymw+9KvyskfE+Ymn
9m3byoxCTGxg3Zkh1AMHLyPUQ5/tgycjYtr3VK2a/tHIvVZMcEOtAuf/qNeYcwk7YGONq9vb
CuI=</vt:lpwstr>
  </property>
  <property fmtid="{D5CDD505-2E9C-101B-9397-08002B2CF9AE}" pid="5" name="sflag">
    <vt:lpwstr>1320885062</vt:lpwstr>
  </property>
</Properties>
</file>