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F5C6-2E89-4FF3-AF26-CAE318D8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4A2B-75D8-40CF-A8EE-BFD5F419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7861-89A9-48E6-A165-62F2D95F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BE0D-0741-45B9-9B29-3FC13FCE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6E7-828D-4901-9F3C-22B8E8FA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54F4-D4BD-48A7-B541-2EB57BD1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D31-E1A3-4C96-A066-F8118EBE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4071-482B-45AB-899A-BA227AD2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D204-2FC7-4E29-B917-6829BFA5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F66-81A6-4332-B980-2BB8B156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D72-654F-4B99-9E65-11450224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464-C828-4E48-99E6-9C052591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2787-C6FF-4879-AEC2-0CEF67216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13276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SNMP Usage for RELOAD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raft-peng-p2psip-snmp-0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ETF #8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4076280"/>
            <a:ext cx="69850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Yonglin PENG,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Wei WANG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, Zhenwu Hao, Yu ME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{peng.yonglin,wang.wei108,hao.zhenwu,meng.yu}@zte.com.c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nges on draft-peng-p2psip-snmp-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sed to use SNMPv3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w the relationship between SNMP application and RE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NMPv3 security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SNMP (D)TLS secur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minor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ition of SNMP Ap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92000" y="1484280"/>
            <a:ext cx="554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SNMP Usage                            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+------------+            +------------+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  SNMP     |            |SNMP-RELOAD |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|applications|&lt;----------&gt;|application |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           |            |            |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+------------+            +------------+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^                          ^     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|--------------------------|-------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                          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+             +-----------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SNMP    |             |   RELOAD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Engine   |             | (M/O-Node)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(with DTLS)|             |            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+             +------------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onship between SNMP usage and RELO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3640" y="1341360"/>
            <a:ext cx="8569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NMP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tes commands and receive messag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gacy SNMP application with knowledge of RELOAD Node/Resource 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NMP-RELOAD ap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translation from RELOAD IDs to IP addr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OAD protocol st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ppAttach to setup l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Fetch to find corresponding Node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NMP Eng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gacy SNMP Engine with little mod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NMP-RELOAD Intera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99640" y="549000"/>
            <a:ext cx="78692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+   +-----------------------+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Entity 1                               |   | Entity 2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SNMP      SNMP-RELOAD      RELOAD   |   |  RELOAD    SNMP-RELOAD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fr-FR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applications application     M/O-Node  |   | O/M-Node   application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+   +-----------------------+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getAddressForNode       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---------&gt;|         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+---------------+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|Get ICE ufrag/ |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|password from  |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|LCD, collect   |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|candidate      |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|address list   |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+---------------+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|exchangeCandidateAddressList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|-------------&gt;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|              |   AppAttach  | exchangeCandidateAddressLis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|              |&lt;------------&gt;|&lt;------------&gt;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|exchangeCandidateAddressList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|&lt;-------------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| ICE Check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|&lt;------------------------------------------&gt;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+----------------+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|Select available|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|address from    |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|candidate list  |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+----------------+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returnAddressForNode    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|&lt;-------------|              |              |              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urity Consid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NMPv3 (D)TLS security model RFC59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nmpEngineID is derived from RELOAD NodeID or Resourc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RELOAD user name and certifications for (D)TLS link set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aining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8920" y="1267920"/>
            <a:ext cx="3816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Attach hand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1: AppAttach only returns candidate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2: AppAttach handles (D)TLS li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ture MIB defin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内容占位符 2"/>
          <p:cNvSpPr/>
          <p:nvPr/>
        </p:nvSpPr>
        <p:spPr>
          <a:xfrm>
            <a:off x="4140360" y="1197000"/>
            <a:ext cx="5003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+--------------------------------------------------+          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 Transport Subsystem                             |  +--------+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+-----+ +-----+ +-------+             +-------+  |  |        |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| UDP | | SSH | |</a:t>
            </a:r>
            <a:r>
              <a:rPr b="0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(D)TLS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. . .    | other |&lt;---&gt;| Cache  |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|     | | TM  | | </a:t>
            </a:r>
            <a:r>
              <a:rPr b="0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TM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|             |       |  |  |        |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+-----+ +-----+ +-------+             +-------+  |  +--------+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+--------------------------------------------------+         ^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|                                               |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Dispatcher   v                                               |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+--------------+ +---------------------+  +----------------+ |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Transport    | | Message Processing  |  | Security       | |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Dispatch     | | Subsystem           |  | Subsystem      | |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             | |     +------------+  |  | +------------+ | |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             | |  +-&gt;| v1MP       |&lt;---&gt;| | USM        | | |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             | |  |  +------------+  |  | +------------+ | |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             | |  |  +------------+  |  | +------------+ | |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             | |  +-&gt;| v2cMP      |&lt;---&gt;| | </a:t>
            </a:r>
            <a:r>
              <a:rPr b="0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Transport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| | |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Message      | |  |  +------------+  |  | | </a:t>
            </a:r>
            <a:r>
              <a:rPr b="0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Security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|&lt;--+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Dispatch    &lt;----&gt;|  +------------+  |  | | </a:t>
            </a:r>
            <a:r>
              <a:rPr b="0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Model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| |  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             | |  +-&gt;| v3MP       |&lt;---&gt;| +------------+ |  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             | |  |  +------------+  |  | +------------+ |  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PDU Dispatch | |  |  +------------+  |  | | Other      | |  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+--------------+ |  +-&gt;| otherMP    |&lt;---&gt;| | Model(s)   | |  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^   |     +------------+  |  | +------------+ |  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|   +---------------------+  +----------------+  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v                                                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+-------+-------------------------+---------------+      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v                                 v               v      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+-------------+   +---------+   +--------------+  +-------------+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  COMMAND   |   | ACCESS  |   | NOTIFICATION |  |    PROXY    |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 RESPONDER  |&lt;-&gt;| CONTROL |&lt;-&gt;|  ORIGINATOR  |  |  FORWARDER  |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application |   |         |   | applications |  | application |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+-------------+   +---------+   +--------------+  +-------------+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v                                 v                      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+----------------------------------------------+                 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            MIB instrumentation              |      SNMP entity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more comments from SNMP and P2PSIP W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presentation to make it clear to both SNMP and P2PSIP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RELOAD MIBs if necessa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2627280" y="2852640"/>
            <a:ext cx="35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Calibri"/>
              </a:rPr>
              <a:t>Thank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3276720" y="134136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alibri"/>
              </a:rPr>
              <a:t>Q&amp;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7:07:16Z</dcterms:created>
  <dc:creator>ZTE2</dc:creator>
  <dc:description/>
  <dc:language>en-US</dc:language>
  <cp:lastModifiedBy>ww</cp:lastModifiedBy>
  <dcterms:modified xsi:type="dcterms:W3CDTF">2011-11-17T04:45:10Z</dcterms:modified>
  <cp:revision>44</cp:revision>
  <dc:subject/>
  <dc:title>An SNMP Usage for RELOAD draft-peng-p2psip-snmp-00 IETF #79</dc:title>
</cp:coreProperties>
</file>