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177-F8F1-4930-8A3E-D3DFD7DE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1C3-247A-479E-AA6D-43DB90E1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18B-96AA-419E-A6F9-4223F923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CC8-E1ED-4802-8048-383B40A7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734-392B-457D-9447-77881425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DEF-DB3C-4638-A030-F1A7707B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06FD-D51F-4610-8345-D6761327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CD5-3F6F-4C5C-AA06-E8173E25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3F3-12EE-441B-83E4-870287B8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1B3-1E70-4C3D-9DFE-B31458FA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128-0233-4F09-84FF-BF5AB28E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18C-87E7-4687-8C79-D8327595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1F9D-714C-4A4D-84CE-EB2E8BD77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13276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SNMP Usage for RELOAD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aft-peng-p2psip-snmp-0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ETF #8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4076280"/>
            <a:ext cx="6985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nglin PENG,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Wei WANG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Zhenwu Hao, Yu ME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{peng.yonglin,wang.wei108,hao.zhenwu,meng.yu}@zte.com.c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s on draft-peng-p2psip-snmp-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d to use SNMPv3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 the relationship between SNMP application and RE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NMPv3 security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SNMP (D)TLS secur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minor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ition of SNMP 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92000" y="148428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SNMP Usage                   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+            +------------+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SNMP     |            |SNMP-RELOAD |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|applications|&lt;----------&gt;|application |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|            |            |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+            +------------+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^                          ^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|--------------------------|-------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                          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+             +-----------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SNMP    |             |   RELOAD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Engine   |             | (M/O-Node)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(with DTLS)|             |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+             +-----------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ship between SNMP usage and REL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3640" y="1341360"/>
            <a:ext cx="8569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MP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tes commands and receive messa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acy SNMP application with knowledge of RELOAD Node/Resource 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MP-RELOAD 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translation from RELOAD IDs to IP addr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OAD protocol s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ppAttach to setup 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Fetch to find corresponding Node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MP Eng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acy SNMP Engine with little mod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NMP-RELOAD Inter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99640" y="549000"/>
            <a:ext cx="78692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+   +-----------------------+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Entity 1                               |   | Entity 2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SNMP      SNMP-RELOAD      RELOAD   |   |  RELOAD    SNMP-RELOAD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fr-FR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applications application     M/O-Node  |   | O/M-Node   application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+   +-----------------------+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getAddressForNode       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---------&gt;|         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+---------------+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|Get ICE ufrag/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|password from 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|LCD, collect  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|candidate     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|address list  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+---------------+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exchangeCandidateAddressList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-------------&gt;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              |   AppAttach  | exchangeCandidateAddressLis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              |&lt;------------&gt;|&lt;------------&gt;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exchangeCandidateAddressList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&lt;-------------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 ICE Check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&lt;------------------------------------------&gt;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+----------------+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|Select available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|address from   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|candidate list 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+----------------+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returnAddressForNode    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&lt;-------------|         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urity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NMPv3 (D)TLS security model RFC59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mpEngineID is derived from RELOAD NodeID or Resourc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RELOAD user name and certifications for (D)TLS link set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aining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8920" y="1267920"/>
            <a:ext cx="381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Attach hand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1: AppAttach only returns candidate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2: AppAttach handles (D)TLS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MIB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内容占位符 2"/>
          <p:cNvSpPr/>
          <p:nvPr/>
        </p:nvSpPr>
        <p:spPr>
          <a:xfrm>
            <a:off x="4140360" y="1197000"/>
            <a:ext cx="5003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-------------------------------------+        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Transport Subsystem                             |  +--------+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+-----+ +-----+ +-------+             +-------+  |  |        |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| UDP | | SSH | |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(D)TLS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. . .    | other |&lt;---&gt;| Cache  |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|     | | TM  | | 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TM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|       |  |  |        |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+-----+ +-----+ +-------+             +-------+  |  +--------+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-------------------------------------+         ^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                                              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Dispatcher   v                                              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-+ +---------------------+  +----------------+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Transport    | | Message Processing  |  | Security      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Dispatch     | | Subsystem           |  | Subsystem     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   +------------+  |  | +------------+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+-&gt;| v1MP       |&lt;---&gt;| | USM        |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|  +------------+  |  | +------------+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|  +------------+  |  | +------------+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+-&gt;| v2cMP      |&lt;---&gt;| | 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Transport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|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Message      | |  |  +------------+  |  | | 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Security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|&lt;--+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Dispatch    &lt;----&gt;|  +------------+  |  | | 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Model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|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+-&gt;| v3MP       |&lt;---&gt;| +------------+ |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|  +------------+  |  | +------------+ |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PDU Dispatch | |  |  +------------+  |  | | Other      | |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-+ |  +-&gt;| otherMP    |&lt;---&gt;| | Model(s)   | |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^   |     +------------+  |  | +------------+ |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   +---------------------+  +----------------+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v                                              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+-------+-------------------------+---------------+    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v                                 v               v    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+   +---------+   +--------------+  +-------------+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COMMAND   |   | ACCESS  |   | NOTIFICATION |  |    PROXY    |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RESPONDER  |&lt;-&gt;| CONTROL |&lt;-&gt;|  ORIGINATOR  |  |  FORWARDER  |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application |   |         |   | applications |  | application |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+   +---------+   +--------------+  +-------------+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v                                 v                    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---------------------------------+            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MIB instrumentation              |      SNMP entity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more comments from SNMP and P2PSIP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presentation to make it clear to both SNMP and P2PSIP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RELOAD MIBs if necess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2627280" y="2852640"/>
            <a:ext cx="35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alibri"/>
              </a:rPr>
              <a:t>Thank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276720" y="134136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7:07:16Z</dcterms:created>
  <dc:creator>ZTE2</dc:creator>
  <dc:description/>
  <dc:language>en-US</dc:language>
  <cp:lastModifiedBy>ww</cp:lastModifiedBy>
  <dcterms:modified xsi:type="dcterms:W3CDTF">2011-11-17T04:45:10Z</dcterms:modified>
  <cp:revision>44</cp:revision>
  <dc:subject/>
  <dc:title>An SNMP Usage for RELOAD draft-peng-p2psip-snmp-00 IETF #79</dc:title>
</cp:coreProperties>
</file>