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9D40-EE33-49AC-9DA7-D6C6DF2A7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5153-0173-4401-81EC-7001EE84C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0C94-208B-4767-BFE7-88FE50762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AE96-FB96-4729-8A96-4C9DEDFCC3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23D1-0AE3-4558-95D7-B89C1F945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DDC1-C6BC-4362-9332-6C945556F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228A-F175-4B18-8D82-72AB64E2C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91A4-B5B0-4873-85FA-3FB4F3C94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FE35-89AE-4923-AD72-209F915D2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32E1-58D0-4985-A1D9-C56441462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68F3-83E0-444B-AAA9-48446C00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3C8B-CB64-4975-94EC-BD5FB97F8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654B-ED14-4458-AC92-E009A6E46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Candara"/>
              </a:rPr>
              <a:t>Forward-Search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Candara"/>
              </a:rPr>
              <a:t>P2P</a:t>
            </a:r>
            <a:r>
              <a:rPr b="0" lang="en-US" sz="4000" spc="-1" strike="noStrike" u="sng">
                <a:solidFill>
                  <a:srgbClr val="cc3300"/>
                </a:solidFill>
                <a:uFillTx/>
                <a:latin typeface="Candara"/>
              </a:rPr>
              <a:t>/P2MP TE LSP Inter-Domain Path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pce-forward-search-p2p-path-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pce-forward-search-p2mp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1055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5929200" y="6400800"/>
            <a:ext cx="1057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7D00824-FFCE-4198-8042-40A125316177}" type="slidenum">
              <a:rPr b="0" lang="de-DE" sz="10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quirements for Inter-domain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64360" cy="43736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FC 4105 “Requirements for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Inter-Are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MPLS 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solution SHOULD provide the capability to compute a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shortest path dynamicall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 satisfying a set of specified constraints across multiple 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IGP area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solution MUST provide the ability to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re-optimiz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minimally disruptiv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manner (make before break) an inter-area TE LSP, should a more optimal path appear in any traversed IGP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FC 4216 “MPLS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Inter-A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E Requirem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solution SHOULD provide mechanisms to compute a 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shortest end-to-end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for a TE LSP crossing multiple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ASe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satisfying a set of specified constraints dynam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nce an inter-AS TE LSP has been established, and should there be any resource or other changes inside anyone of the ASes, the solution MUST be able to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re-optimiz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the LSP accordingly and 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non-disruptivel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 either upon expiration of a configurable timer or upon being triggered by a network event or a manual request at the TE tunnel Head-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5580000" y="6308640"/>
            <a:ext cx="1233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A6163A4-9DAC-48CB-BCAD-8E9E6425DF0D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Search P2P Inter-domai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759880" cy="2028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from the source node and the source dom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e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optimal path seg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source node or an entry boundary node to every exit boundary node of the source domain or a doma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s a special 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and the segment is computed a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hole topology consisting of many domains can be considered as 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special topolog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ich contains those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pecial lin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normal lin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the destination domain and the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inter-domain lin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 an optimal path in this special topology from the source to the destination using CSP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800600" y="642960"/>
            <a:ext cx="396396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marL="295200" indent="-295200"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"/>
          <p:cNvSpPr/>
          <p:nvPr/>
        </p:nvSpPr>
        <p:spPr>
          <a:xfrm flipV="1" rot="21108600">
            <a:off x="3186000" y="3935520"/>
            <a:ext cx="2130480" cy="1938240"/>
          </a:xfrm>
          <a:custGeom>
            <a:avLst/>
            <a:gdLst>
              <a:gd name="textAreaLeft" fmla="*/ 293400 w 2130480"/>
              <a:gd name="textAreaRight" fmla="*/ 1685520 w 2130480"/>
              <a:gd name="textAreaTop" fmla="*/ 293040 h 1938240"/>
              <a:gd name="textAreaBottom" fmla="*/ 1556280 h 19382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V="1">
            <a:off x="2300400" y="4438800"/>
            <a:ext cx="41436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90880" y="3835440"/>
            <a:ext cx="731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2143080" y="3986280"/>
            <a:ext cx="698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4776480" y="4913280"/>
            <a:ext cx="298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4027320" y="4729320"/>
            <a:ext cx="358920" cy="11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V="1">
            <a:off x="3317760" y="4435560"/>
            <a:ext cx="5968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116240" y="4376520"/>
            <a:ext cx="5572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1692360" y="4478400"/>
            <a:ext cx="3301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087800" y="4892760"/>
            <a:ext cx="49680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 flipV="1">
            <a:off x="2846520" y="5132160"/>
            <a:ext cx="33948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3424320" y="4913280"/>
            <a:ext cx="39204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H="1" flipV="1">
            <a:off x="2930400" y="4435200"/>
            <a:ext cx="20952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4927680" y="4376880"/>
            <a:ext cx="79380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3424320" y="5110200"/>
            <a:ext cx="3650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027320" y="5337000"/>
            <a:ext cx="47160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 flipV="1" rot="15933600">
            <a:off x="1180440" y="3992040"/>
            <a:ext cx="1639800" cy="1916280"/>
          </a:xfrm>
          <a:custGeom>
            <a:avLst/>
            <a:gdLst>
              <a:gd name="textAreaLeft" fmla="*/ 225720 w 1639800"/>
              <a:gd name="textAreaRight" fmla="*/ 1297440 w 1639800"/>
              <a:gd name="textAreaTop" fmla="*/ 289440 h 1916280"/>
              <a:gd name="textAreaBottom" fmla="*/ 1538280 h 1916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2987640" y="4452840"/>
            <a:ext cx="43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2558880" y="5081760"/>
            <a:ext cx="43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2604960" y="4205160"/>
            <a:ext cx="436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949400" y="4186080"/>
            <a:ext cx="4366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2278080" y="4640400"/>
            <a:ext cx="436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3139920" y="4902120"/>
            <a:ext cx="436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3843360" y="4186080"/>
            <a:ext cx="368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745080" y="4678200"/>
            <a:ext cx="436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3745080" y="5092560"/>
            <a:ext cx="43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4584600" y="4154400"/>
            <a:ext cx="436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4448160" y="4956120"/>
            <a:ext cx="438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4919760" y="5397480"/>
            <a:ext cx="436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5753160" y="4235400"/>
            <a:ext cx="363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6208560" y="4462560"/>
            <a:ext cx="436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1405080" y="4394160"/>
            <a:ext cx="434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1216080" y="4979880"/>
            <a:ext cx="43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4448160" y="5487840"/>
            <a:ext cx="438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1949400" y="5238720"/>
            <a:ext cx="436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5568840" y="4809960"/>
            <a:ext cx="3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6773760" y="5291280"/>
            <a:ext cx="435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1363680" y="5359320"/>
            <a:ext cx="4348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1585800" y="4676760"/>
            <a:ext cx="436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4971960" y="4567320"/>
            <a:ext cx="4366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5559480" y="5246640"/>
            <a:ext cx="428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6846840" y="5027760"/>
            <a:ext cx="412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6234120" y="4870440"/>
            <a:ext cx="4111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 flipV="1" rot="15933600">
            <a:off x="5812200" y="3878280"/>
            <a:ext cx="1638360" cy="2268360"/>
          </a:xfrm>
          <a:custGeom>
            <a:avLst/>
            <a:gdLst>
              <a:gd name="textAreaLeft" fmla="*/ 225720 w 1638360"/>
              <a:gd name="textAreaRight" fmla="*/ 1296000 w 1638360"/>
              <a:gd name="textAreaTop" fmla="*/ 342360 h 2268360"/>
              <a:gd name="textAreaBottom" fmla="*/ 1820880 h 2268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6773760" y="4270320"/>
            <a:ext cx="412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9"/>
          <p:cNvSpPr/>
          <p:nvPr/>
        </p:nvSpPr>
        <p:spPr>
          <a:xfrm flipV="1">
            <a:off x="3710160" y="3946680"/>
            <a:ext cx="7128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0"/>
          <p:cNvSpPr/>
          <p:nvPr/>
        </p:nvSpPr>
        <p:spPr>
          <a:xfrm flipV="1">
            <a:off x="6421320" y="4014360"/>
            <a:ext cx="698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1"/>
          <p:cNvSpPr/>
          <p:nvPr/>
        </p:nvSpPr>
        <p:spPr>
          <a:xfrm flipV="1">
            <a:off x="1506600" y="4979880"/>
            <a:ext cx="25560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2"/>
          <p:cNvSpPr/>
          <p:nvPr/>
        </p:nvSpPr>
        <p:spPr>
          <a:xfrm>
            <a:off x="1859040" y="4979880"/>
            <a:ext cx="2318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3"/>
          <p:cNvSpPr/>
          <p:nvPr/>
        </p:nvSpPr>
        <p:spPr>
          <a:xfrm flipV="1">
            <a:off x="1692360" y="5448240"/>
            <a:ext cx="33012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4"/>
          <p:cNvSpPr/>
          <p:nvPr/>
        </p:nvSpPr>
        <p:spPr>
          <a:xfrm>
            <a:off x="1949400" y="4956120"/>
            <a:ext cx="63828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5"/>
          <p:cNvSpPr/>
          <p:nvPr/>
        </p:nvSpPr>
        <p:spPr>
          <a:xfrm>
            <a:off x="2212920" y="4508640"/>
            <a:ext cx="173160" cy="33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6"/>
          <p:cNvSpPr/>
          <p:nvPr/>
        </p:nvSpPr>
        <p:spPr>
          <a:xfrm>
            <a:off x="2494080" y="4956120"/>
            <a:ext cx="19044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7"/>
          <p:cNvSpPr/>
          <p:nvPr/>
        </p:nvSpPr>
        <p:spPr>
          <a:xfrm>
            <a:off x="1905120" y="4913280"/>
            <a:ext cx="43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8"/>
          <p:cNvSpPr/>
          <p:nvPr/>
        </p:nvSpPr>
        <p:spPr>
          <a:xfrm flipH="1">
            <a:off x="1904760" y="4508640"/>
            <a:ext cx="2379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9"/>
          <p:cNvSpPr/>
          <p:nvPr/>
        </p:nvSpPr>
        <p:spPr>
          <a:xfrm flipV="1">
            <a:off x="2247840" y="5261040"/>
            <a:ext cx="33984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0"/>
          <p:cNvSpPr/>
          <p:nvPr/>
        </p:nvSpPr>
        <p:spPr>
          <a:xfrm flipH="1">
            <a:off x="2587320" y="4478400"/>
            <a:ext cx="12708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1"/>
          <p:cNvSpPr/>
          <p:nvPr/>
        </p:nvSpPr>
        <p:spPr>
          <a:xfrm>
            <a:off x="5248440" y="5448240"/>
            <a:ext cx="4125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2"/>
          <p:cNvSpPr/>
          <p:nvPr/>
        </p:nvSpPr>
        <p:spPr>
          <a:xfrm>
            <a:off x="4776840" y="5070600"/>
            <a:ext cx="22680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3"/>
          <p:cNvSpPr/>
          <p:nvPr/>
        </p:nvSpPr>
        <p:spPr>
          <a:xfrm>
            <a:off x="4078440" y="5330880"/>
            <a:ext cx="893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V="1">
            <a:off x="4714920" y="5492520"/>
            <a:ext cx="28872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5"/>
          <p:cNvSpPr/>
          <p:nvPr/>
        </p:nvSpPr>
        <p:spPr>
          <a:xfrm>
            <a:off x="3317760" y="4689360"/>
            <a:ext cx="54000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6"/>
          <p:cNvSpPr/>
          <p:nvPr/>
        </p:nvSpPr>
        <p:spPr>
          <a:xfrm>
            <a:off x="4502160" y="4751280"/>
            <a:ext cx="434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7"/>
          <p:cNvSpPr/>
          <p:nvPr/>
        </p:nvSpPr>
        <p:spPr>
          <a:xfrm flipV="1">
            <a:off x="4498920" y="4413240"/>
            <a:ext cx="21600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8"/>
          <p:cNvSpPr/>
          <p:nvPr/>
        </p:nvSpPr>
        <p:spPr>
          <a:xfrm>
            <a:off x="5316480" y="4870440"/>
            <a:ext cx="2923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9"/>
          <p:cNvSpPr/>
          <p:nvPr/>
        </p:nvSpPr>
        <p:spPr>
          <a:xfrm>
            <a:off x="5959440" y="4616280"/>
            <a:ext cx="3240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0"/>
          <p:cNvSpPr/>
          <p:nvPr/>
        </p:nvSpPr>
        <p:spPr>
          <a:xfrm>
            <a:off x="5721480" y="4989600"/>
            <a:ext cx="5619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1"/>
          <p:cNvSpPr/>
          <p:nvPr/>
        </p:nvSpPr>
        <p:spPr>
          <a:xfrm flipV="1">
            <a:off x="5908680" y="5151600"/>
            <a:ext cx="37476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2"/>
          <p:cNvSpPr/>
          <p:nvPr/>
        </p:nvSpPr>
        <p:spPr>
          <a:xfrm flipV="1">
            <a:off x="6478560" y="5021280"/>
            <a:ext cx="447840" cy="7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3"/>
          <p:cNvSpPr/>
          <p:nvPr/>
        </p:nvSpPr>
        <p:spPr>
          <a:xfrm flipV="1">
            <a:off x="5908680" y="5448240"/>
            <a:ext cx="101772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4"/>
          <p:cNvSpPr/>
          <p:nvPr/>
        </p:nvSpPr>
        <p:spPr>
          <a:xfrm flipV="1">
            <a:off x="6529320" y="4508280"/>
            <a:ext cx="30816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5"/>
          <p:cNvSpPr/>
          <p:nvPr/>
        </p:nvSpPr>
        <p:spPr>
          <a:xfrm>
            <a:off x="6478560" y="4697280"/>
            <a:ext cx="4478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6"/>
          <p:cNvSpPr/>
          <p:nvPr/>
        </p:nvSpPr>
        <p:spPr>
          <a:xfrm>
            <a:off x="6529320" y="5151600"/>
            <a:ext cx="4716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7"/>
          <p:cNvSpPr/>
          <p:nvPr/>
        </p:nvSpPr>
        <p:spPr>
          <a:xfrm>
            <a:off x="4629240" y="4729320"/>
            <a:ext cx="4460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8"/>
          <p:cNvSpPr/>
          <p:nvPr/>
        </p:nvSpPr>
        <p:spPr>
          <a:xfrm flipV="1">
            <a:off x="5721480" y="4696920"/>
            <a:ext cx="56196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9"/>
          <p:cNvSpPr/>
          <p:nvPr/>
        </p:nvSpPr>
        <p:spPr>
          <a:xfrm flipV="1">
            <a:off x="1692360" y="4412880"/>
            <a:ext cx="330120" cy="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0"/>
          <p:cNvSpPr/>
          <p:nvPr/>
        </p:nvSpPr>
        <p:spPr>
          <a:xfrm flipV="1">
            <a:off x="2300400" y="4376520"/>
            <a:ext cx="384120" cy="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1"/>
          <p:cNvSpPr/>
          <p:nvPr/>
        </p:nvSpPr>
        <p:spPr>
          <a:xfrm>
            <a:off x="2930400" y="4376880"/>
            <a:ext cx="25560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2"/>
          <p:cNvSpPr/>
          <p:nvPr/>
        </p:nvSpPr>
        <p:spPr>
          <a:xfrm flipV="1">
            <a:off x="3317760" y="4412880"/>
            <a:ext cx="498600" cy="1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3"/>
          <p:cNvSpPr/>
          <p:nvPr/>
        </p:nvSpPr>
        <p:spPr>
          <a:xfrm flipV="1">
            <a:off x="4078440" y="4324320"/>
            <a:ext cx="595080" cy="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4"/>
          <p:cNvSpPr/>
          <p:nvPr/>
        </p:nvSpPr>
        <p:spPr>
          <a:xfrm>
            <a:off x="4927680" y="4307040"/>
            <a:ext cx="84600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5"/>
          <p:cNvSpPr/>
          <p:nvPr/>
        </p:nvSpPr>
        <p:spPr>
          <a:xfrm>
            <a:off x="5959440" y="4557600"/>
            <a:ext cx="32400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6"/>
          <p:cNvSpPr/>
          <p:nvPr/>
        </p:nvSpPr>
        <p:spPr>
          <a:xfrm>
            <a:off x="6529320" y="4662360"/>
            <a:ext cx="4716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7"/>
          <p:cNvSpPr/>
          <p:nvPr/>
        </p:nvSpPr>
        <p:spPr>
          <a:xfrm>
            <a:off x="3422520" y="3662280"/>
            <a:ext cx="758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8"/>
          <p:cNvSpPr/>
          <p:nvPr/>
        </p:nvSpPr>
        <p:spPr>
          <a:xfrm>
            <a:off x="6207120" y="3736800"/>
            <a:ext cx="793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9" descr=""/>
          <p:cNvPicPr/>
          <p:nvPr/>
        </p:nvPicPr>
        <p:blipFill>
          <a:blip r:embed="rId1"/>
          <a:stretch/>
        </p:blipFill>
        <p:spPr>
          <a:xfrm>
            <a:off x="1405080" y="446724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0" descr=""/>
          <p:cNvPicPr/>
          <p:nvPr/>
        </p:nvPicPr>
        <p:blipFill>
          <a:blip r:embed="rId2"/>
          <a:stretch/>
        </p:blipFill>
        <p:spPr>
          <a:xfrm>
            <a:off x="4470480" y="5576760"/>
            <a:ext cx="299880" cy="141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1" descr=""/>
          <p:cNvPicPr/>
          <p:nvPr/>
        </p:nvPicPr>
        <p:blipFill>
          <a:blip r:embed="rId3"/>
          <a:stretch/>
        </p:blipFill>
        <p:spPr>
          <a:xfrm>
            <a:off x="4573440" y="495288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2" descr=""/>
          <p:cNvPicPr/>
          <p:nvPr/>
        </p:nvPicPr>
        <p:blipFill>
          <a:blip r:embed="rId4"/>
          <a:stretch/>
        </p:blipFill>
        <p:spPr>
          <a:xfrm>
            <a:off x="4343400" y="4633920"/>
            <a:ext cx="299880" cy="1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3" descr=""/>
          <p:cNvPicPr/>
          <p:nvPr/>
        </p:nvPicPr>
        <p:blipFill>
          <a:blip r:embed="rId5"/>
          <a:stretch/>
        </p:blipFill>
        <p:spPr>
          <a:xfrm>
            <a:off x="4638600" y="4273560"/>
            <a:ext cx="298440" cy="14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4" descr=""/>
          <p:cNvPicPr/>
          <p:nvPr/>
        </p:nvPicPr>
        <p:blipFill>
          <a:blip r:embed="rId6"/>
          <a:stretch/>
        </p:blipFill>
        <p:spPr>
          <a:xfrm>
            <a:off x="3797280" y="5214960"/>
            <a:ext cx="299880" cy="14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5" descr=""/>
          <p:cNvPicPr/>
          <p:nvPr/>
        </p:nvPicPr>
        <p:blipFill>
          <a:blip r:embed="rId7"/>
          <a:stretch/>
        </p:blipFill>
        <p:spPr>
          <a:xfrm>
            <a:off x="3790800" y="4797360"/>
            <a:ext cx="298440" cy="14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6" descr=""/>
          <p:cNvPicPr/>
          <p:nvPr/>
        </p:nvPicPr>
        <p:blipFill>
          <a:blip r:embed="rId8"/>
          <a:stretch/>
        </p:blipFill>
        <p:spPr>
          <a:xfrm>
            <a:off x="3819600" y="4329000"/>
            <a:ext cx="298440" cy="14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7" descr=""/>
          <p:cNvPicPr/>
          <p:nvPr/>
        </p:nvPicPr>
        <p:blipFill>
          <a:blip r:embed="rId9"/>
          <a:stretch/>
        </p:blipFill>
        <p:spPr>
          <a:xfrm>
            <a:off x="3062160" y="455760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8" descr=""/>
          <p:cNvPicPr/>
          <p:nvPr/>
        </p:nvPicPr>
        <p:blipFill>
          <a:blip r:embed="rId10"/>
          <a:stretch/>
        </p:blipFill>
        <p:spPr>
          <a:xfrm>
            <a:off x="3165480" y="502920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9" descr=""/>
          <p:cNvPicPr/>
          <p:nvPr/>
        </p:nvPicPr>
        <p:blipFill>
          <a:blip r:embed="rId11"/>
          <a:stretch/>
        </p:blipFill>
        <p:spPr>
          <a:xfrm>
            <a:off x="2590920" y="5149800"/>
            <a:ext cx="298440" cy="14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0" descr=""/>
          <p:cNvPicPr/>
          <p:nvPr/>
        </p:nvPicPr>
        <p:blipFill>
          <a:blip r:embed="rId12"/>
          <a:stretch/>
        </p:blipFill>
        <p:spPr>
          <a:xfrm>
            <a:off x="2327400" y="4834080"/>
            <a:ext cx="299880" cy="14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1" descr=""/>
          <p:cNvPicPr/>
          <p:nvPr/>
        </p:nvPicPr>
        <p:blipFill>
          <a:blip r:embed="rId13"/>
          <a:stretch/>
        </p:blipFill>
        <p:spPr>
          <a:xfrm>
            <a:off x="2011320" y="5324400"/>
            <a:ext cx="300240" cy="14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2" descr=""/>
          <p:cNvPicPr/>
          <p:nvPr/>
        </p:nvPicPr>
        <p:blipFill>
          <a:blip r:embed="rId14"/>
          <a:stretch/>
        </p:blipFill>
        <p:spPr>
          <a:xfrm>
            <a:off x="1405080" y="555300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" descr=""/>
          <p:cNvPicPr/>
          <p:nvPr/>
        </p:nvPicPr>
        <p:blipFill>
          <a:blip r:embed="rId15"/>
          <a:stretch/>
        </p:blipFill>
        <p:spPr>
          <a:xfrm>
            <a:off x="1665360" y="4871880"/>
            <a:ext cx="299880" cy="14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4" descr=""/>
          <p:cNvPicPr/>
          <p:nvPr/>
        </p:nvPicPr>
        <p:blipFill>
          <a:blip r:embed="rId16"/>
          <a:stretch/>
        </p:blipFill>
        <p:spPr>
          <a:xfrm>
            <a:off x="1235160" y="5054760"/>
            <a:ext cx="298440" cy="14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5" descr=""/>
          <p:cNvPicPr/>
          <p:nvPr/>
        </p:nvPicPr>
        <p:blipFill>
          <a:blip r:embed="rId17"/>
          <a:stretch/>
        </p:blipFill>
        <p:spPr>
          <a:xfrm>
            <a:off x="2657520" y="432288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6" descr=""/>
          <p:cNvPicPr/>
          <p:nvPr/>
        </p:nvPicPr>
        <p:blipFill>
          <a:blip r:embed="rId18"/>
          <a:stretch/>
        </p:blipFill>
        <p:spPr>
          <a:xfrm>
            <a:off x="2008080" y="438300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7" descr=""/>
          <p:cNvPicPr/>
          <p:nvPr/>
        </p:nvPicPr>
        <p:blipFill>
          <a:blip r:embed="rId19"/>
          <a:stretch/>
        </p:blipFill>
        <p:spPr>
          <a:xfrm>
            <a:off x="6815160" y="447192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8" descr=""/>
          <p:cNvPicPr/>
          <p:nvPr/>
        </p:nvPicPr>
        <p:blipFill>
          <a:blip r:embed="rId20"/>
          <a:stretch/>
        </p:blipFill>
        <p:spPr>
          <a:xfrm>
            <a:off x="5581800" y="488808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9" descr=""/>
          <p:cNvPicPr/>
          <p:nvPr/>
        </p:nvPicPr>
        <p:blipFill>
          <a:blip r:embed="rId21"/>
          <a:stretch/>
        </p:blipFill>
        <p:spPr>
          <a:xfrm>
            <a:off x="6245280" y="505944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0" descr=""/>
          <p:cNvPicPr/>
          <p:nvPr/>
        </p:nvPicPr>
        <p:blipFill>
          <a:blip r:embed="rId22"/>
          <a:stretch/>
        </p:blipFill>
        <p:spPr>
          <a:xfrm>
            <a:off x="6873840" y="4956120"/>
            <a:ext cx="300240" cy="13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1" descr=""/>
          <p:cNvPicPr/>
          <p:nvPr/>
        </p:nvPicPr>
        <p:blipFill>
          <a:blip r:embed="rId23"/>
          <a:stretch/>
        </p:blipFill>
        <p:spPr>
          <a:xfrm>
            <a:off x="6267600" y="4567320"/>
            <a:ext cx="299880" cy="1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2" descr=""/>
          <p:cNvPicPr/>
          <p:nvPr/>
        </p:nvPicPr>
        <p:blipFill>
          <a:blip r:embed="rId24"/>
          <a:stretch/>
        </p:blipFill>
        <p:spPr>
          <a:xfrm>
            <a:off x="5753160" y="448956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3" descr=""/>
          <p:cNvPicPr/>
          <p:nvPr/>
        </p:nvPicPr>
        <p:blipFill>
          <a:blip r:embed="rId25"/>
          <a:stretch/>
        </p:blipFill>
        <p:spPr>
          <a:xfrm>
            <a:off x="6872400" y="5400720"/>
            <a:ext cx="301680" cy="13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4" descr=""/>
          <p:cNvPicPr/>
          <p:nvPr/>
        </p:nvPicPr>
        <p:blipFill>
          <a:blip r:embed="rId26"/>
          <a:stretch/>
        </p:blipFill>
        <p:spPr>
          <a:xfrm>
            <a:off x="5656320" y="5440320"/>
            <a:ext cx="299880" cy="13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5" descr=""/>
          <p:cNvPicPr/>
          <p:nvPr/>
        </p:nvPicPr>
        <p:blipFill>
          <a:blip r:embed="rId27"/>
          <a:stretch/>
        </p:blipFill>
        <p:spPr>
          <a:xfrm>
            <a:off x="4950000" y="5367240"/>
            <a:ext cx="298440" cy="139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6" descr=""/>
          <p:cNvPicPr/>
          <p:nvPr/>
        </p:nvPicPr>
        <p:blipFill>
          <a:blip r:embed="rId28"/>
          <a:stretch/>
        </p:blipFill>
        <p:spPr>
          <a:xfrm>
            <a:off x="5003640" y="4792680"/>
            <a:ext cx="300240" cy="13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7"/>
          <p:cNvSpPr/>
          <p:nvPr/>
        </p:nvSpPr>
        <p:spPr>
          <a:xfrm>
            <a:off x="3246480" y="3282840"/>
            <a:ext cx="46368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8"/>
          <p:cNvSpPr/>
          <p:nvPr/>
        </p:nvSpPr>
        <p:spPr>
          <a:xfrm flipV="1">
            <a:off x="3254400" y="3539880"/>
            <a:ext cx="44280" cy="102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9"/>
          <p:cNvSpPr/>
          <p:nvPr/>
        </p:nvSpPr>
        <p:spPr>
          <a:xfrm>
            <a:off x="2535120" y="3303720"/>
            <a:ext cx="42732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0"/>
          <p:cNvSpPr/>
          <p:nvPr/>
        </p:nvSpPr>
        <p:spPr>
          <a:xfrm flipV="1">
            <a:off x="2744640" y="3553920"/>
            <a:ext cx="7920" cy="7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1"/>
          <p:cNvSpPr/>
          <p:nvPr/>
        </p:nvSpPr>
        <p:spPr>
          <a:xfrm flipH="1">
            <a:off x="2957040" y="347652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4"/>
          <p:cNvSpPr/>
          <p:nvPr/>
        </p:nvSpPr>
        <p:spPr>
          <a:xfrm>
            <a:off x="1300320" y="4184640"/>
            <a:ext cx="4014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6"/>
          <p:cNvSpPr/>
          <p:nvPr/>
        </p:nvSpPr>
        <p:spPr>
          <a:xfrm>
            <a:off x="5681520" y="3284640"/>
            <a:ext cx="48132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7"/>
          <p:cNvSpPr/>
          <p:nvPr/>
        </p:nvSpPr>
        <p:spPr>
          <a:xfrm flipH="1" flipV="1">
            <a:off x="3710160" y="3471480"/>
            <a:ext cx="1971360" cy="4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9"/>
          <p:cNvSpPr/>
          <p:nvPr/>
        </p:nvSpPr>
        <p:spPr>
          <a:xfrm flipV="1">
            <a:off x="5870520" y="3561840"/>
            <a:ext cx="0" cy="946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0"/>
          <p:cNvSpPr/>
          <p:nvPr/>
        </p:nvSpPr>
        <p:spPr>
          <a:xfrm flipV="1">
            <a:off x="1581120" y="3482640"/>
            <a:ext cx="944640" cy="671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1"/>
          <p:cNvSpPr/>
          <p:nvPr/>
        </p:nvSpPr>
        <p:spPr>
          <a:xfrm>
            <a:off x="2714760" y="5873760"/>
            <a:ext cx="771480" cy="379440"/>
          </a:xfrm>
          <a:prstGeom prst="wedgeRoundRectCallout">
            <a:avLst>
              <a:gd name="adj1" fmla="val -30069"/>
              <a:gd name="adj2" fmla="val -20611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2"/>
          <p:cNvSpPr/>
          <p:nvPr/>
        </p:nvSpPr>
        <p:spPr>
          <a:xfrm>
            <a:off x="5594400" y="5940360"/>
            <a:ext cx="915840" cy="405000"/>
          </a:xfrm>
          <a:prstGeom prst="wedgeRoundRectCallout">
            <a:avLst>
              <a:gd name="adj1" fmla="val -29050"/>
              <a:gd name="adj2" fmla="val -14225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3"/>
          <p:cNvSpPr/>
          <p:nvPr/>
        </p:nvSpPr>
        <p:spPr>
          <a:xfrm>
            <a:off x="573120" y="5286240"/>
            <a:ext cx="520560" cy="363600"/>
          </a:xfrm>
          <a:prstGeom prst="wedgeRoundRectCallout">
            <a:avLst>
              <a:gd name="adj1" fmla="val 134032"/>
              <a:gd name="adj2" fmla="val -24175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4"/>
          <p:cNvSpPr/>
          <p:nvPr/>
        </p:nvSpPr>
        <p:spPr>
          <a:xfrm>
            <a:off x="7248600" y="5653080"/>
            <a:ext cx="689040" cy="425520"/>
          </a:xfrm>
          <a:prstGeom prst="wedgeRoundRectCallout">
            <a:avLst>
              <a:gd name="adj1" fmla="val -18578"/>
              <a:gd name="adj2" fmla="val -25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Dest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01"/>
          <p:cNvGrpSpPr/>
          <p:nvPr/>
        </p:nvGrpSpPr>
        <p:grpSpPr>
          <a:xfrm>
            <a:off x="2684520" y="3043080"/>
            <a:ext cx="614160" cy="260640"/>
            <a:chOff x="2684520" y="3043080"/>
            <a:chExt cx="614160" cy="260640"/>
          </a:xfrm>
        </p:grpSpPr>
        <p:sp>
          <p:nvSpPr>
            <p:cNvPr id="177" name="Freeform 266"/>
            <p:cNvSpPr/>
            <p:nvPr/>
          </p:nvSpPr>
          <p:spPr>
            <a:xfrm>
              <a:off x="2684520" y="3043080"/>
              <a:ext cx="614160" cy="24192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712" h="347">
                  <a:moveTo>
                    <a:pt x="0" y="347"/>
                  </a:moveTo>
                  <a:cubicBezTo>
                    <a:pt x="16" y="312"/>
                    <a:pt x="31" y="195"/>
                    <a:pt x="96" y="139"/>
                  </a:cubicBezTo>
                  <a:cubicBezTo>
                    <a:pt x="161" y="83"/>
                    <a:pt x="289" y="0"/>
                    <a:pt x="392" y="11"/>
                  </a:cubicBezTo>
                  <a:cubicBezTo>
                    <a:pt x="495" y="22"/>
                    <a:pt x="645" y="163"/>
                    <a:pt x="712" y="203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67"/>
            <p:cNvSpPr/>
            <p:nvPr/>
          </p:nvSpPr>
          <p:spPr>
            <a:xfrm>
              <a:off x="2777400" y="3043080"/>
              <a:ext cx="368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02"/>
          <p:cNvGrpSpPr/>
          <p:nvPr/>
        </p:nvGrpSpPr>
        <p:grpSpPr>
          <a:xfrm>
            <a:off x="3581280" y="2819520"/>
            <a:ext cx="2365560" cy="464760"/>
            <a:chOff x="3581280" y="2819520"/>
            <a:chExt cx="2365560" cy="464760"/>
          </a:xfrm>
        </p:grpSpPr>
        <p:sp>
          <p:nvSpPr>
            <p:cNvPr id="180" name="Freeform 269"/>
            <p:cNvSpPr/>
            <p:nvPr/>
          </p:nvSpPr>
          <p:spPr>
            <a:xfrm>
              <a:off x="3581280" y="2909160"/>
              <a:ext cx="2365560" cy="375120"/>
            </a:xfrm>
            <a:custGeom>
              <a:avLst/>
              <a:gdLst>
                <a:gd name="textAreaLeft" fmla="*/ 0 w 2365560"/>
                <a:gd name="textAreaRight" fmla="*/ 2365920 w 236556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896" h="401">
                  <a:moveTo>
                    <a:pt x="0" y="401"/>
                  </a:moveTo>
                  <a:cubicBezTo>
                    <a:pt x="46" y="363"/>
                    <a:pt x="137" y="246"/>
                    <a:pt x="277" y="182"/>
                  </a:cubicBezTo>
                  <a:cubicBezTo>
                    <a:pt x="417" y="118"/>
                    <a:pt x="643" y="34"/>
                    <a:pt x="843" y="17"/>
                  </a:cubicBezTo>
                  <a:cubicBezTo>
                    <a:pt x="1043" y="0"/>
                    <a:pt x="1305" y="34"/>
                    <a:pt x="1480" y="81"/>
                  </a:cubicBezTo>
                  <a:cubicBezTo>
                    <a:pt x="1655" y="128"/>
                    <a:pt x="1809" y="252"/>
                    <a:pt x="1896" y="29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70"/>
            <p:cNvSpPr/>
            <p:nvPr/>
          </p:nvSpPr>
          <p:spPr>
            <a:xfrm>
              <a:off x="5138280" y="2819520"/>
              <a:ext cx="49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FrutigerNext LT BlackCn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reeform 271"/>
          <p:cNvSpPr/>
          <p:nvPr/>
        </p:nvSpPr>
        <p:spPr>
          <a:xfrm>
            <a:off x="1654200" y="4324320"/>
            <a:ext cx="1081080" cy="2016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7" h="215">
                <a:moveTo>
                  <a:pt x="65" y="196"/>
                </a:moveTo>
                <a:cubicBezTo>
                  <a:pt x="61" y="196"/>
                  <a:pt x="0" y="215"/>
                  <a:pt x="41" y="196"/>
                </a:cubicBezTo>
                <a:cubicBezTo>
                  <a:pt x="82" y="177"/>
                  <a:pt x="228" y="100"/>
                  <a:pt x="313" y="82"/>
                </a:cubicBezTo>
                <a:cubicBezTo>
                  <a:pt x="398" y="64"/>
                  <a:pt x="461" y="100"/>
                  <a:pt x="553" y="86"/>
                </a:cubicBezTo>
                <a:cubicBezTo>
                  <a:pt x="645" y="72"/>
                  <a:pt x="802" y="18"/>
                  <a:pt x="867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72"/>
          <p:cNvSpPr/>
          <p:nvPr/>
        </p:nvSpPr>
        <p:spPr>
          <a:xfrm>
            <a:off x="2822400" y="4273560"/>
            <a:ext cx="495360" cy="284040"/>
          </a:xfrm>
          <a:custGeom>
            <a:avLst/>
            <a:gdLst>
              <a:gd name="textAreaLeft" fmla="*/ 0 w 495360"/>
              <a:gd name="textAreaRight" fmla="*/ 495720 w 495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73"/>
          <p:cNvSpPr/>
          <p:nvPr/>
        </p:nvSpPr>
        <p:spPr>
          <a:xfrm>
            <a:off x="3301920" y="4265640"/>
            <a:ext cx="1447920" cy="218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160" h="234">
                <a:moveTo>
                  <a:pt x="76" y="212"/>
                </a:moveTo>
                <a:cubicBezTo>
                  <a:pt x="71" y="212"/>
                  <a:pt x="0" y="234"/>
                  <a:pt x="46" y="213"/>
                </a:cubicBezTo>
                <a:cubicBezTo>
                  <a:pt x="92" y="192"/>
                  <a:pt x="248" y="120"/>
                  <a:pt x="352" y="88"/>
                </a:cubicBezTo>
                <a:cubicBezTo>
                  <a:pt x="456" y="56"/>
                  <a:pt x="537" y="39"/>
                  <a:pt x="672" y="24"/>
                </a:cubicBezTo>
                <a:cubicBezTo>
                  <a:pt x="807" y="9"/>
                  <a:pt x="1058" y="5"/>
                  <a:pt x="1160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74"/>
          <p:cNvSpPr/>
          <p:nvPr/>
        </p:nvSpPr>
        <p:spPr>
          <a:xfrm>
            <a:off x="1581120" y="4471920"/>
            <a:ext cx="1241280" cy="6699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995" h="716">
                <a:moveTo>
                  <a:pt x="91" y="125"/>
                </a:moveTo>
                <a:cubicBezTo>
                  <a:pt x="86" y="125"/>
                  <a:pt x="0" y="134"/>
                  <a:pt x="64" y="124"/>
                </a:cubicBezTo>
                <a:cubicBezTo>
                  <a:pt x="128" y="114"/>
                  <a:pt x="384" y="0"/>
                  <a:pt x="475" y="68"/>
                </a:cubicBezTo>
                <a:cubicBezTo>
                  <a:pt x="566" y="136"/>
                  <a:pt x="524" y="424"/>
                  <a:pt x="611" y="532"/>
                </a:cubicBezTo>
                <a:cubicBezTo>
                  <a:pt x="698" y="640"/>
                  <a:pt x="915" y="678"/>
                  <a:pt x="995" y="716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75"/>
          <p:cNvGrpSpPr/>
          <p:nvPr/>
        </p:nvGrpSpPr>
        <p:grpSpPr>
          <a:xfrm>
            <a:off x="3652920" y="3022560"/>
            <a:ext cx="2190240" cy="344160"/>
            <a:chOff x="3652920" y="3022560"/>
            <a:chExt cx="2190240" cy="344160"/>
          </a:xfrm>
        </p:grpSpPr>
        <p:sp>
          <p:nvSpPr>
            <p:cNvPr id="187" name="Freeform 276"/>
            <p:cNvSpPr/>
            <p:nvPr/>
          </p:nvSpPr>
          <p:spPr>
            <a:xfrm>
              <a:off x="3652920" y="3032280"/>
              <a:ext cx="2190240" cy="334440"/>
            </a:xfrm>
            <a:custGeom>
              <a:avLst/>
              <a:gdLst>
                <a:gd name="textAreaLeft" fmla="*/ 0 w 2190240"/>
                <a:gd name="textAreaRight" fmla="*/ 2190600 w 2190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1349" h="466">
                  <a:moveTo>
                    <a:pt x="0" y="466"/>
                  </a:moveTo>
                  <a:cubicBezTo>
                    <a:pt x="56" y="404"/>
                    <a:pt x="187" y="167"/>
                    <a:pt x="335" y="96"/>
                  </a:cubicBezTo>
                  <a:cubicBezTo>
                    <a:pt x="483" y="25"/>
                    <a:pt x="718" y="0"/>
                    <a:pt x="887" y="42"/>
                  </a:cubicBezTo>
                  <a:cubicBezTo>
                    <a:pt x="1056" y="84"/>
                    <a:pt x="1253" y="284"/>
                    <a:pt x="1349" y="34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77"/>
            <p:cNvSpPr/>
            <p:nvPr/>
          </p:nvSpPr>
          <p:spPr>
            <a:xfrm>
              <a:off x="4410720" y="3022560"/>
              <a:ext cx="480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300"/>
          <p:cNvGrpSpPr/>
          <p:nvPr/>
        </p:nvGrpSpPr>
        <p:grpSpPr>
          <a:xfrm>
            <a:off x="1285920" y="3427560"/>
            <a:ext cx="1197000" cy="757080"/>
            <a:chOff x="1285920" y="3427560"/>
            <a:chExt cx="1197000" cy="757080"/>
          </a:xfrm>
        </p:grpSpPr>
        <p:sp>
          <p:nvSpPr>
            <p:cNvPr id="190" name="Freeform 279"/>
            <p:cNvSpPr/>
            <p:nvPr/>
          </p:nvSpPr>
          <p:spPr>
            <a:xfrm>
              <a:off x="1285920" y="3427560"/>
              <a:ext cx="1197000" cy="75708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960" h="808">
                  <a:moveTo>
                    <a:pt x="0" y="808"/>
                  </a:moveTo>
                  <a:cubicBezTo>
                    <a:pt x="67" y="716"/>
                    <a:pt x="287" y="380"/>
                    <a:pt x="400" y="256"/>
                  </a:cubicBezTo>
                  <a:cubicBezTo>
                    <a:pt x="513" y="132"/>
                    <a:pt x="587" y="107"/>
                    <a:pt x="680" y="64"/>
                  </a:cubicBezTo>
                  <a:cubicBezTo>
                    <a:pt x="773" y="21"/>
                    <a:pt x="902" y="13"/>
                    <a:pt x="960" y="0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80"/>
            <p:cNvSpPr/>
            <p:nvPr/>
          </p:nvSpPr>
          <p:spPr>
            <a:xfrm>
              <a:off x="1434240" y="3605400"/>
              <a:ext cx="327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Freeform 281"/>
          <p:cNvSpPr/>
          <p:nvPr/>
        </p:nvSpPr>
        <p:spPr>
          <a:xfrm>
            <a:off x="3313080" y="4559400"/>
            <a:ext cx="1744560" cy="20772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399" h="223">
                <a:moveTo>
                  <a:pt x="101" y="27"/>
                </a:moveTo>
                <a:cubicBezTo>
                  <a:pt x="95" y="27"/>
                  <a:pt x="0" y="0"/>
                  <a:pt x="64" y="27"/>
                </a:cubicBezTo>
                <a:cubicBezTo>
                  <a:pt x="128" y="54"/>
                  <a:pt x="352" y="177"/>
                  <a:pt x="487" y="191"/>
                </a:cubicBezTo>
                <a:cubicBezTo>
                  <a:pt x="622" y="205"/>
                  <a:pt x="722" y="109"/>
                  <a:pt x="874" y="114"/>
                </a:cubicBezTo>
                <a:cubicBezTo>
                  <a:pt x="1026" y="119"/>
                  <a:pt x="1290" y="200"/>
                  <a:pt x="1399" y="22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82"/>
          <p:cNvSpPr/>
          <p:nvPr/>
        </p:nvSpPr>
        <p:spPr>
          <a:xfrm>
            <a:off x="3232080" y="4678200"/>
            <a:ext cx="1906560" cy="68112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1528" h="728">
                <a:moveTo>
                  <a:pt x="0" y="0"/>
                </a:moveTo>
                <a:cubicBezTo>
                  <a:pt x="91" y="44"/>
                  <a:pt x="333" y="204"/>
                  <a:pt x="544" y="264"/>
                </a:cubicBezTo>
                <a:cubicBezTo>
                  <a:pt x="755" y="324"/>
                  <a:pt x="1100" y="283"/>
                  <a:pt x="1264" y="360"/>
                </a:cubicBezTo>
                <a:cubicBezTo>
                  <a:pt x="1428" y="437"/>
                  <a:pt x="1473" y="651"/>
                  <a:pt x="1528" y="72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83"/>
          <p:cNvSpPr/>
          <p:nvPr/>
        </p:nvSpPr>
        <p:spPr>
          <a:xfrm flipV="1">
            <a:off x="5959440" y="4435560"/>
            <a:ext cx="531720" cy="100080"/>
          </a:xfrm>
          <a:custGeom>
            <a:avLst/>
            <a:gdLst>
              <a:gd name="textAreaLeft" fmla="*/ 0 w 531720"/>
              <a:gd name="textAreaRight" fmla="*/ 532080 w 531720"/>
              <a:gd name="textAreaTop" fmla="*/ 360 h 100080"/>
              <a:gd name="textAreaBottom" fmla="*/ 100800 h 100080"/>
            </a:gdLst>
            <a:ahLst/>
            <a:rect l="textAreaLeft" t="textAreaTop" r="textAreaRight" b="textAreaBottom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84"/>
          <p:cNvSpPr/>
          <p:nvPr/>
        </p:nvSpPr>
        <p:spPr>
          <a:xfrm>
            <a:off x="3486240" y="5062680"/>
            <a:ext cx="1473120" cy="29664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296640"/>
              <a:gd name="textAreaBottom" fmla="*/ 296640 h 296640"/>
            </a:gdLst>
            <a:ahLst/>
            <a:rect l="textAreaLeft" t="textAreaTop" r="textAreaRight" b="textAreaBottom"/>
            <a:pathLst>
              <a:path w="1181" h="317">
                <a:moveTo>
                  <a:pt x="0" y="0"/>
                </a:moveTo>
                <a:cubicBezTo>
                  <a:pt x="34" y="14"/>
                  <a:pt x="116" y="50"/>
                  <a:pt x="205" y="85"/>
                </a:cubicBezTo>
                <a:cubicBezTo>
                  <a:pt x="294" y="120"/>
                  <a:pt x="370" y="174"/>
                  <a:pt x="533" y="213"/>
                </a:cubicBezTo>
                <a:cubicBezTo>
                  <a:pt x="696" y="252"/>
                  <a:pt x="1046" y="295"/>
                  <a:pt x="1181" y="317"/>
                </a:cubicBezTo>
              </a:path>
            </a:pathLst>
          </a:custGeom>
          <a:noFill/>
          <a:ln w="38160">
            <a:solidFill>
              <a:srgbClr val="00cc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85"/>
          <p:cNvSpPr/>
          <p:nvPr/>
        </p:nvSpPr>
        <p:spPr>
          <a:xfrm flipV="1">
            <a:off x="2868480" y="5048280"/>
            <a:ext cx="363600" cy="84240"/>
          </a:xfrm>
          <a:custGeom>
            <a:avLst/>
            <a:gdLst>
              <a:gd name="textAreaLeft" fmla="*/ 0 w 363600"/>
              <a:gd name="textAreaRight" fmla="*/ 363960 w 363600"/>
              <a:gd name="textAreaTop" fmla="*/ 360 h 84240"/>
              <a:gd name="textAreaBottom" fmla="*/ 84960 h 8424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86"/>
          <p:cNvSpPr/>
          <p:nvPr/>
        </p:nvSpPr>
        <p:spPr>
          <a:xfrm>
            <a:off x="6567480" y="4557600"/>
            <a:ext cx="469800" cy="344520"/>
          </a:xfrm>
          <a:custGeom>
            <a:avLst/>
            <a:gdLst>
              <a:gd name="textAreaLeft" fmla="*/ 0 w 469800"/>
              <a:gd name="textAreaRight" fmla="*/ 470160 w 4698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87"/>
          <p:cNvSpPr/>
          <p:nvPr/>
        </p:nvSpPr>
        <p:spPr>
          <a:xfrm>
            <a:off x="4937040" y="4243320"/>
            <a:ext cx="906480" cy="171360"/>
          </a:xfrm>
          <a:custGeom>
            <a:avLst/>
            <a:gdLst>
              <a:gd name="textAreaLeft" fmla="*/ 0 w 906480"/>
              <a:gd name="textAreaRight" fmla="*/ 906840 w 9064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88"/>
          <p:cNvSpPr/>
          <p:nvPr/>
        </p:nvSpPr>
        <p:spPr>
          <a:xfrm>
            <a:off x="5176800" y="5324400"/>
            <a:ext cx="479520" cy="115920"/>
          </a:xfrm>
          <a:custGeom>
            <a:avLst/>
            <a:gdLst>
              <a:gd name="textAreaLeft" fmla="*/ 0 w 479520"/>
              <a:gd name="textAreaRight" fmla="*/ 479880 w 4795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89"/>
          <p:cNvSpPr/>
          <p:nvPr/>
        </p:nvSpPr>
        <p:spPr>
          <a:xfrm>
            <a:off x="5176800" y="4691160"/>
            <a:ext cx="666720" cy="169920"/>
          </a:xfrm>
          <a:custGeom>
            <a:avLst/>
            <a:gdLst>
              <a:gd name="textAreaLeft" fmla="*/ 0 w 666720"/>
              <a:gd name="textAreaRight" fmla="*/ 667080 w 6667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90"/>
          <p:cNvSpPr/>
          <p:nvPr/>
        </p:nvSpPr>
        <p:spPr>
          <a:xfrm flipV="1">
            <a:off x="5896080" y="4892760"/>
            <a:ext cx="530280" cy="100080"/>
          </a:xfrm>
          <a:custGeom>
            <a:avLst/>
            <a:gdLst>
              <a:gd name="textAreaLeft" fmla="*/ 0 w 530280"/>
              <a:gd name="textAreaRight" fmla="*/ 530640 w 530280"/>
              <a:gd name="textAreaTop" fmla="*/ 360 h 100080"/>
              <a:gd name="textAreaBottom" fmla="*/ 100800 h 100080"/>
            </a:gdLst>
            <a:ahLst/>
            <a:rect l="textAreaLeft" t="textAreaTop" r="textAreaRight" b="textAreaBottom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1"/>
          <p:cNvSpPr/>
          <p:nvPr/>
        </p:nvSpPr>
        <p:spPr>
          <a:xfrm>
            <a:off x="5959440" y="5386320"/>
            <a:ext cx="914400" cy="66600"/>
          </a:xfrm>
          <a:custGeom>
            <a:avLst/>
            <a:gdLst>
              <a:gd name="textAreaLeft" fmla="*/ 0 w 914400"/>
              <a:gd name="textAreaRight" fmla="*/ 914760 w 914400"/>
              <a:gd name="textAreaTop" fmla="*/ 0 h 66600"/>
              <a:gd name="textAreaBottom" fmla="*/ 66600 h 66600"/>
            </a:gdLst>
            <a:ahLst/>
            <a:rect l="textAreaLeft" t="textAreaTop" r="textAreaRight" b="textAreaBottom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92"/>
          <p:cNvSpPr/>
          <p:nvPr/>
        </p:nvSpPr>
        <p:spPr>
          <a:xfrm>
            <a:off x="2535120" y="2894040"/>
            <a:ext cx="928800" cy="390600"/>
          </a:xfrm>
          <a:custGeom>
            <a:avLst/>
            <a:gdLst>
              <a:gd name="textAreaLeft" fmla="*/ 0 w 928800"/>
              <a:gd name="textAreaRight" fmla="*/ 929160 w 9288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745" h="417">
                <a:moveTo>
                  <a:pt x="0" y="417"/>
                </a:moveTo>
                <a:cubicBezTo>
                  <a:pt x="21" y="370"/>
                  <a:pt x="71" y="205"/>
                  <a:pt x="127" y="137"/>
                </a:cubicBezTo>
                <a:cubicBezTo>
                  <a:pt x="183" y="69"/>
                  <a:pt x="264" y="18"/>
                  <a:pt x="335" y="9"/>
                </a:cubicBezTo>
                <a:cubicBezTo>
                  <a:pt x="406" y="0"/>
                  <a:pt x="483" y="32"/>
                  <a:pt x="551" y="81"/>
                </a:cubicBezTo>
                <a:cubicBezTo>
                  <a:pt x="619" y="130"/>
                  <a:pt x="705" y="255"/>
                  <a:pt x="745" y="301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93"/>
          <p:cNvSpPr/>
          <p:nvPr/>
        </p:nvSpPr>
        <p:spPr>
          <a:xfrm>
            <a:off x="1136520" y="3344760"/>
            <a:ext cx="1346400" cy="80964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80" h="864">
                <a:moveTo>
                  <a:pt x="0" y="864"/>
                </a:moveTo>
                <a:cubicBezTo>
                  <a:pt x="10" y="797"/>
                  <a:pt x="16" y="573"/>
                  <a:pt x="52" y="464"/>
                </a:cubicBezTo>
                <a:cubicBezTo>
                  <a:pt x="88" y="355"/>
                  <a:pt x="115" y="279"/>
                  <a:pt x="216" y="208"/>
                </a:cubicBezTo>
                <a:cubicBezTo>
                  <a:pt x="317" y="137"/>
                  <a:pt x="512" y="75"/>
                  <a:pt x="656" y="40"/>
                </a:cubicBezTo>
                <a:cubicBezTo>
                  <a:pt x="800" y="5"/>
                  <a:pt x="992" y="8"/>
                  <a:pt x="1080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94" descr=""/>
          <p:cNvPicPr/>
          <p:nvPr/>
        </p:nvPicPr>
        <p:blipFill>
          <a:blip r:embed="rId29"/>
          <a:stretch/>
        </p:blipFill>
        <p:spPr>
          <a:xfrm>
            <a:off x="7272360" y="4689360"/>
            <a:ext cx="299880" cy="139680"/>
          </a:xfrm>
          <a:prstGeom prst="rect">
            <a:avLst/>
          </a:prstGeom>
          <a:ln w="0">
            <a:noFill/>
          </a:ln>
        </p:spPr>
      </p:pic>
      <p:sp>
        <p:nvSpPr>
          <p:cNvPr id="206" name="Line 295"/>
          <p:cNvSpPr/>
          <p:nvPr/>
        </p:nvSpPr>
        <p:spPr>
          <a:xfrm flipV="1">
            <a:off x="7174080" y="4818240"/>
            <a:ext cx="23652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7"/>
          <p:cNvSpPr/>
          <p:nvPr/>
        </p:nvSpPr>
        <p:spPr>
          <a:xfrm>
            <a:off x="7248600" y="4491000"/>
            <a:ext cx="412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98"/>
          <p:cNvSpPr/>
          <p:nvPr/>
        </p:nvSpPr>
        <p:spPr>
          <a:xfrm flipV="1">
            <a:off x="7115040" y="4696560"/>
            <a:ext cx="295560" cy="258840"/>
          </a:xfrm>
          <a:custGeom>
            <a:avLst/>
            <a:gdLst>
              <a:gd name="textAreaLeft" fmla="*/ 0 w 295560"/>
              <a:gd name="textAreaRight" fmla="*/ 295560 w 295560"/>
              <a:gd name="textAreaTop" fmla="*/ -360 h 258840"/>
              <a:gd name="textAreaBottom" fmla="*/ 258840 h 258840"/>
            </a:gdLst>
            <a:ahLst/>
            <a:rect l="textAreaLeft" t="textAreaTop" r="textAreaRight" b="textAreaBottom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99"/>
          <p:cNvSpPr/>
          <p:nvPr/>
        </p:nvSpPr>
        <p:spPr>
          <a:xfrm>
            <a:off x="6529320" y="3032280"/>
            <a:ext cx="1236600" cy="630000"/>
          </a:xfrm>
          <a:prstGeom prst="wedgeRoundRectCallout">
            <a:avLst>
              <a:gd name="adj1" fmla="val -104504"/>
              <a:gd name="adj2" fmla="val -336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t path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-C-F-J-L-O-U-X-A1-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3"/>
          <p:cNvSpPr/>
          <p:nvPr/>
        </p:nvSpPr>
        <p:spPr>
          <a:xfrm>
            <a:off x="1235160" y="5873760"/>
            <a:ext cx="1299960" cy="608040"/>
          </a:xfrm>
          <a:prstGeom prst="wedgeRoundRectCallout">
            <a:avLst>
              <a:gd name="adj1" fmla="val 49162"/>
              <a:gd name="adj2" fmla="val -180199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to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04"/>
          <p:cNvSpPr/>
          <p:nvPr/>
        </p:nvSpPr>
        <p:spPr>
          <a:xfrm>
            <a:off x="3710160" y="5940360"/>
            <a:ext cx="1466640" cy="541440"/>
          </a:xfrm>
          <a:prstGeom prst="wedgeRoundRectCallout">
            <a:avLst>
              <a:gd name="adj1" fmla="val -14657"/>
              <a:gd name="adj2" fmla="val -232162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 Boundary  to Out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98"/>
          <p:cNvSpPr/>
          <p:nvPr/>
        </p:nvSpPr>
        <p:spPr>
          <a:xfrm flipV="1">
            <a:off x="6629400" y="4419000"/>
            <a:ext cx="304920" cy="106200"/>
          </a:xfrm>
          <a:custGeom>
            <a:avLst/>
            <a:gdLst>
              <a:gd name="textAreaLeft" fmla="*/ 0 w 304920"/>
              <a:gd name="textAreaRight" fmla="*/ 305280 w 304920"/>
              <a:gd name="textAreaTop" fmla="*/ -360 h 106200"/>
              <a:gd name="textAreaBottom" fmla="*/ 106200 h 106200"/>
            </a:gdLst>
            <a:ahLst/>
            <a:rect l="textAreaLeft" t="textAreaTop" r="textAreaRight" b="textAreaBottom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ward Search P2P Inter-domain Path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imated)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2080" y="804600"/>
            <a:ext cx="806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loud"/>
          <p:cNvSpPr/>
          <p:nvPr/>
        </p:nvSpPr>
        <p:spPr>
          <a:xfrm flipV="1" rot="21108600">
            <a:off x="3422520" y="2391120"/>
            <a:ext cx="2322720" cy="2819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455920" y="3123720"/>
            <a:ext cx="45072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28760" y="2254320"/>
            <a:ext cx="701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4560" y="2468520"/>
            <a:ext cx="7596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55920" y="3814920"/>
            <a:ext cx="3236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38720" y="3546360"/>
            <a:ext cx="3906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65440" y="3119400"/>
            <a:ext cx="649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33760" y="3035160"/>
            <a:ext cx="6080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792440" y="3181320"/>
            <a:ext cx="3603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05320" y="3784680"/>
            <a:ext cx="542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051000" y="4132440"/>
            <a:ext cx="371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81360" y="3814560"/>
            <a:ext cx="42876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142800" y="311940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19720" y="3035160"/>
            <a:ext cx="86508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81360" y="4100400"/>
            <a:ext cx="3985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38720" y="4430880"/>
            <a:ext cx="51444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loud"/>
          <p:cNvSpPr/>
          <p:nvPr/>
        </p:nvSpPr>
        <p:spPr>
          <a:xfrm flipV="1" rot="15933600">
            <a:off x="937440" y="2823480"/>
            <a:ext cx="2382840" cy="2090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6480" y="3265560"/>
            <a:ext cx="474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1800" y="4110120"/>
            <a:ext cx="476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0200" y="2933640"/>
            <a:ext cx="476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75040" y="2841480"/>
            <a:ext cx="475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0360" y="3490920"/>
            <a:ext cx="4762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06600" y="3970440"/>
            <a:ext cx="476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05440" y="2922480"/>
            <a:ext cx="401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32360" y="3632040"/>
            <a:ext cx="474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2400" y="4245120"/>
            <a:ext cx="476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8200" y="2852640"/>
            <a:ext cx="4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97360" y="3875040"/>
            <a:ext cx="476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73640" y="4425840"/>
            <a:ext cx="476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1960" y="3181320"/>
            <a:ext cx="39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16880" y="3265560"/>
            <a:ext cx="475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77800" y="3119400"/>
            <a:ext cx="4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73320" y="3943440"/>
            <a:ext cx="474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97360" y="4710240"/>
            <a:ext cx="47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76480" y="4338720"/>
            <a:ext cx="474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3738600"/>
            <a:ext cx="298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77120" y="4471920"/>
            <a:ext cx="474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93920" y="451332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3546360"/>
            <a:ext cx="476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7240" y="3419640"/>
            <a:ext cx="4762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4383000"/>
            <a:ext cx="466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43720" y="4010040"/>
            <a:ext cx="44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67560" y="3814920"/>
            <a:ext cx="449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 flipV="1" rot="15933600">
            <a:off x="5191560" y="1510200"/>
            <a:ext cx="860400" cy="134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32840" y="2957400"/>
            <a:ext cx="450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992400" y="2408400"/>
            <a:ext cx="781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948360" y="2509920"/>
            <a:ext cx="763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90840" y="3911760"/>
            <a:ext cx="27756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3160" y="3911760"/>
            <a:ext cx="2556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792440" y="4590720"/>
            <a:ext cx="36036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75040" y="3875040"/>
            <a:ext cx="69516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60520" y="3225960"/>
            <a:ext cx="19044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3875040"/>
            <a:ext cx="208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25720" y="3814920"/>
            <a:ext cx="47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025360" y="3225960"/>
            <a:ext cx="25884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398680" y="4319280"/>
            <a:ext cx="3715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69840" y="3181320"/>
            <a:ext cx="13644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70720" y="4591080"/>
            <a:ext cx="44892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56280" y="4043520"/>
            <a:ext cx="24768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94160" y="4422600"/>
            <a:ext cx="97308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089680" y="4656240"/>
            <a:ext cx="31428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3487680"/>
            <a:ext cx="58752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14840" y="3373560"/>
            <a:ext cx="474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53160" y="3087720"/>
            <a:ext cx="23652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45240" y="3751200"/>
            <a:ext cx="3157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6880" y="3382920"/>
            <a:ext cx="35064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84800" y="3925800"/>
            <a:ext cx="61272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389640" y="4160520"/>
            <a:ext cx="40788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010280" y="3970080"/>
            <a:ext cx="489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389640" y="4590720"/>
            <a:ext cx="110988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067520" y="3225960"/>
            <a:ext cx="3351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3500280"/>
            <a:ext cx="48924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67520" y="4160880"/>
            <a:ext cx="5126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94280" y="3546360"/>
            <a:ext cx="4856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184800" y="3499920"/>
            <a:ext cx="612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792440" y="3087720"/>
            <a:ext cx="360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55920" y="3035160"/>
            <a:ext cx="419040" cy="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43160" y="3035160"/>
            <a:ext cx="2793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565440" y="3087720"/>
            <a:ext cx="544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394160" y="2957400"/>
            <a:ext cx="647640" cy="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19720" y="2933640"/>
            <a:ext cx="92232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6880" y="3297240"/>
            <a:ext cx="35064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67520" y="3451320"/>
            <a:ext cx="51264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79920" y="2176560"/>
            <a:ext cx="701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15080" y="2249640"/>
            <a:ext cx="701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Domain 1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77800" y="3166920"/>
            <a:ext cx="327240" cy="203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822920" y="477828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935600" y="3871800"/>
            <a:ext cx="325440" cy="20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683240" y="340992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003640" y="288432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087800" y="425304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4081320" y="364644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4111560" y="2967120"/>
            <a:ext cx="327240" cy="203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3286080" y="3297240"/>
            <a:ext cx="327240" cy="203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3398760" y="3983040"/>
            <a:ext cx="325440" cy="203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2771640" y="415908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2"/>
          <a:stretch/>
        </p:blipFill>
        <p:spPr>
          <a:xfrm>
            <a:off x="2486160" y="3700440"/>
            <a:ext cx="325440" cy="203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3"/>
          <a:stretch/>
        </p:blipFill>
        <p:spPr>
          <a:xfrm>
            <a:off x="2141640" y="4413240"/>
            <a:ext cx="325440" cy="203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4"/>
          <a:stretch/>
        </p:blipFill>
        <p:spPr>
          <a:xfrm>
            <a:off x="1477800" y="474336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5"/>
          <a:stretch/>
        </p:blipFill>
        <p:spPr>
          <a:xfrm>
            <a:off x="1763640" y="3754440"/>
            <a:ext cx="327240" cy="2030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6"/>
          <a:stretch/>
        </p:blipFill>
        <p:spPr>
          <a:xfrm>
            <a:off x="1293840" y="401940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2846520" y="2957400"/>
            <a:ext cx="325440" cy="2034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8"/>
          <a:stretch/>
        </p:blipFill>
        <p:spPr>
          <a:xfrm>
            <a:off x="2136600" y="3043080"/>
            <a:ext cx="327240" cy="203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9"/>
          <a:stretch/>
        </p:blipFill>
        <p:spPr>
          <a:xfrm>
            <a:off x="7380360" y="3171960"/>
            <a:ext cx="325440" cy="204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0"/>
          <a:stretch/>
        </p:blipFill>
        <p:spPr>
          <a:xfrm>
            <a:off x="6033960" y="377676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1"/>
          <a:stretch/>
        </p:blipFill>
        <p:spPr>
          <a:xfrm>
            <a:off x="6757920" y="402588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2"/>
          <a:stretch/>
        </p:blipFill>
        <p:spPr>
          <a:xfrm>
            <a:off x="7443720" y="3875040"/>
            <a:ext cx="327240" cy="2048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3"/>
          <a:stretch/>
        </p:blipFill>
        <p:spPr>
          <a:xfrm>
            <a:off x="6781680" y="331308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4"/>
          <a:stretch/>
        </p:blipFill>
        <p:spPr>
          <a:xfrm>
            <a:off x="6221520" y="319716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5"/>
          <a:stretch/>
        </p:blipFill>
        <p:spPr>
          <a:xfrm>
            <a:off x="7442280" y="4521240"/>
            <a:ext cx="326880" cy="204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6"/>
          <a:stretch/>
        </p:blipFill>
        <p:spPr>
          <a:xfrm>
            <a:off x="6116760" y="457992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7"/>
          <a:stretch/>
        </p:blipFill>
        <p:spPr>
          <a:xfrm>
            <a:off x="5345280" y="4471920"/>
            <a:ext cx="325440" cy="204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8"/>
          <a:stretch/>
        </p:blipFill>
        <p:spPr>
          <a:xfrm>
            <a:off x="5403960" y="3638520"/>
            <a:ext cx="325440" cy="2048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487680" y="1585800"/>
            <a:ext cx="438120" cy="2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495600" y="1819080"/>
            <a:ext cx="49320" cy="149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11520" y="1604880"/>
            <a:ext cx="4381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940120" y="1839600"/>
            <a:ext cx="9360" cy="1127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122280" y="172728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86040" y="1393920"/>
            <a:ext cx="392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98840" y="1339920"/>
            <a:ext cx="39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63680" y="2824200"/>
            <a:ext cx="4381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63680" y="2600280"/>
            <a:ext cx="3906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41960" y="1617840"/>
            <a:ext cx="438120" cy="23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906360" y="1719360"/>
            <a:ext cx="223524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61040" y="1390680"/>
            <a:ext cx="392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348240" y="1852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27200" y="1736280"/>
            <a:ext cx="1074600" cy="108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5638680"/>
            <a:ext cx="841320" cy="457200"/>
          </a:xfrm>
          <a:prstGeom prst="wedgeRoundRectCallout">
            <a:avLst>
              <a:gd name="adj1" fmla="val 54717"/>
              <a:gd name="adj2" fmla="val -32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5715000"/>
            <a:ext cx="901440" cy="457200"/>
          </a:xfrm>
          <a:prstGeom prst="wedgeRoundRectCallout">
            <a:avLst>
              <a:gd name="adj1" fmla="val -102990"/>
              <a:gd name="adj2" fmla="val -251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undar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3120" y="4356000"/>
            <a:ext cx="565200" cy="457200"/>
          </a:xfrm>
          <a:prstGeom prst="wedgeRoundRectCallout">
            <a:avLst>
              <a:gd name="adj1" fmla="val 134134"/>
              <a:gd name="adj2" fmla="val -271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51600" y="4838760"/>
            <a:ext cx="565200" cy="457200"/>
          </a:xfrm>
          <a:prstGeom prst="wedgeRoundRectCallout">
            <a:avLst>
              <a:gd name="adj1" fmla="val -8412"/>
              <a:gd name="adj2" fmla="val -3101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Dest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874960" y="1095480"/>
            <a:ext cx="669960" cy="352440"/>
            <a:chOff x="2874960" y="1095480"/>
            <a:chExt cx="669960" cy="352440"/>
          </a:xfrm>
        </p:grpSpPr>
        <p:sp>
          <p:nvSpPr>
            <p:cNvPr id="347" name=""/>
            <p:cNvSpPr/>
            <p:nvPr/>
          </p:nvSpPr>
          <p:spPr>
            <a:xfrm>
              <a:off x="2874960" y="1095480"/>
              <a:ext cx="669960" cy="352440"/>
            </a:xfrm>
            <a:custGeom>
              <a:avLst/>
              <a:gdLst/>
              <a:ahLst/>
              <a:rect l="l" t="t" r="r" b="b"/>
              <a:pathLst>
                <a:path w="712" h="347">
                  <a:moveTo>
                    <a:pt x="0" y="347"/>
                  </a:moveTo>
                  <a:cubicBezTo>
                    <a:pt x="16" y="312"/>
                    <a:pt x="31" y="195"/>
                    <a:pt x="96" y="139"/>
                  </a:cubicBezTo>
                  <a:cubicBezTo>
                    <a:pt x="161" y="83"/>
                    <a:pt x="289" y="0"/>
                    <a:pt x="392" y="11"/>
                  </a:cubicBezTo>
                  <a:cubicBezTo>
                    <a:pt x="495" y="22"/>
                    <a:pt x="645" y="163"/>
                    <a:pt x="712" y="203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76480" y="1095480"/>
              <a:ext cx="4024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852720" y="771480"/>
            <a:ext cx="2578320" cy="676080"/>
            <a:chOff x="3852720" y="771480"/>
            <a:chExt cx="2578320" cy="676080"/>
          </a:xfrm>
        </p:grpSpPr>
        <p:sp>
          <p:nvSpPr>
            <p:cNvPr id="350" name=""/>
            <p:cNvSpPr/>
            <p:nvPr/>
          </p:nvSpPr>
          <p:spPr>
            <a:xfrm>
              <a:off x="3852720" y="902160"/>
              <a:ext cx="2578320" cy="545400"/>
            </a:xfrm>
            <a:custGeom>
              <a:avLst/>
              <a:gdLst/>
              <a:ahLst/>
              <a:rect l="l" t="t" r="r" b="b"/>
              <a:pathLst>
                <a:path w="1896" h="401">
                  <a:moveTo>
                    <a:pt x="0" y="401"/>
                  </a:moveTo>
                  <a:cubicBezTo>
                    <a:pt x="46" y="363"/>
                    <a:pt x="137" y="246"/>
                    <a:pt x="277" y="182"/>
                  </a:cubicBezTo>
                  <a:cubicBezTo>
                    <a:pt x="417" y="118"/>
                    <a:pt x="643" y="34"/>
                    <a:pt x="843" y="17"/>
                  </a:cubicBezTo>
                  <a:cubicBezTo>
                    <a:pt x="1043" y="0"/>
                    <a:pt x="1305" y="34"/>
                    <a:pt x="1480" y="81"/>
                  </a:cubicBezTo>
                  <a:cubicBezTo>
                    <a:pt x="1655" y="128"/>
                    <a:pt x="1809" y="252"/>
                    <a:pt x="1896" y="29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9760" y="771480"/>
              <a:ext cx="541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FrutigerNext LT BlackCn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751040" y="2957400"/>
            <a:ext cx="1179360" cy="293760"/>
          </a:xfrm>
          <a:custGeom>
            <a:avLst/>
            <a:gdLst/>
            <a:ahLst/>
            <a:rect l="l" t="t" r="r" b="b"/>
            <a:pathLst>
              <a:path w="867" h="215">
                <a:moveTo>
                  <a:pt x="65" y="196"/>
                </a:moveTo>
                <a:cubicBezTo>
                  <a:pt x="61" y="196"/>
                  <a:pt x="0" y="215"/>
                  <a:pt x="41" y="196"/>
                </a:cubicBezTo>
                <a:cubicBezTo>
                  <a:pt x="82" y="177"/>
                  <a:pt x="228" y="100"/>
                  <a:pt x="313" y="82"/>
                </a:cubicBezTo>
                <a:cubicBezTo>
                  <a:pt x="398" y="64"/>
                  <a:pt x="461" y="100"/>
                  <a:pt x="553" y="86"/>
                </a:cubicBezTo>
                <a:cubicBezTo>
                  <a:pt x="645" y="72"/>
                  <a:pt x="802" y="18"/>
                  <a:pt x="867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25800" y="2884320"/>
            <a:ext cx="539640" cy="41292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48160" y="2873520"/>
            <a:ext cx="1577880" cy="318960"/>
          </a:xfrm>
          <a:custGeom>
            <a:avLst/>
            <a:gdLst/>
            <a:ahLst/>
            <a:rect l="l" t="t" r="r" b="b"/>
            <a:pathLst>
              <a:path w="1160" h="234">
                <a:moveTo>
                  <a:pt x="76" y="212"/>
                </a:moveTo>
                <a:cubicBezTo>
                  <a:pt x="71" y="212"/>
                  <a:pt x="0" y="234"/>
                  <a:pt x="46" y="213"/>
                </a:cubicBezTo>
                <a:cubicBezTo>
                  <a:pt x="92" y="192"/>
                  <a:pt x="248" y="120"/>
                  <a:pt x="352" y="88"/>
                </a:cubicBezTo>
                <a:cubicBezTo>
                  <a:pt x="456" y="56"/>
                  <a:pt x="537" y="39"/>
                  <a:pt x="672" y="24"/>
                </a:cubicBezTo>
                <a:cubicBezTo>
                  <a:pt x="807" y="9"/>
                  <a:pt x="1058" y="5"/>
                  <a:pt x="1160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71480" y="3173400"/>
            <a:ext cx="1354320" cy="974880"/>
          </a:xfrm>
          <a:custGeom>
            <a:avLst/>
            <a:gdLst/>
            <a:ahLst/>
            <a:rect l="l" t="t" r="r" b="b"/>
            <a:pathLst>
              <a:path w="995" h="716">
                <a:moveTo>
                  <a:pt x="91" y="125"/>
                </a:moveTo>
                <a:cubicBezTo>
                  <a:pt x="86" y="125"/>
                  <a:pt x="0" y="134"/>
                  <a:pt x="64" y="124"/>
                </a:cubicBezTo>
                <a:cubicBezTo>
                  <a:pt x="128" y="114"/>
                  <a:pt x="384" y="0"/>
                  <a:pt x="475" y="68"/>
                </a:cubicBezTo>
                <a:cubicBezTo>
                  <a:pt x="566" y="136"/>
                  <a:pt x="524" y="424"/>
                  <a:pt x="611" y="532"/>
                </a:cubicBezTo>
                <a:cubicBezTo>
                  <a:pt x="698" y="640"/>
                  <a:pt x="915" y="678"/>
                  <a:pt x="995" y="716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30480" y="1066680"/>
            <a:ext cx="2387520" cy="499680"/>
            <a:chOff x="3930480" y="1066680"/>
            <a:chExt cx="2387520" cy="499680"/>
          </a:xfrm>
        </p:grpSpPr>
        <p:sp>
          <p:nvSpPr>
            <p:cNvPr id="357" name=""/>
            <p:cNvSpPr/>
            <p:nvPr/>
          </p:nvSpPr>
          <p:spPr>
            <a:xfrm>
              <a:off x="3930480" y="1080720"/>
              <a:ext cx="2387520" cy="485640"/>
            </a:xfrm>
            <a:custGeom>
              <a:avLst/>
              <a:gdLst/>
              <a:ahLst/>
              <a:rect l="l" t="t" r="r" b="b"/>
              <a:pathLst>
                <a:path w="1349" h="466">
                  <a:moveTo>
                    <a:pt x="0" y="466"/>
                  </a:moveTo>
                  <a:cubicBezTo>
                    <a:pt x="56" y="404"/>
                    <a:pt x="187" y="167"/>
                    <a:pt x="335" y="96"/>
                  </a:cubicBezTo>
                  <a:cubicBezTo>
                    <a:pt x="483" y="25"/>
                    <a:pt x="718" y="0"/>
                    <a:pt x="887" y="42"/>
                  </a:cubicBezTo>
                  <a:cubicBezTo>
                    <a:pt x="1056" y="84"/>
                    <a:pt x="1253" y="284"/>
                    <a:pt x="1349" y="34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56680" y="1066680"/>
              <a:ext cx="5245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349280" y="1654200"/>
            <a:ext cx="1306440" cy="1100160"/>
            <a:chOff x="1349280" y="1654200"/>
            <a:chExt cx="1306440" cy="1100160"/>
          </a:xfrm>
        </p:grpSpPr>
        <p:sp>
          <p:nvSpPr>
            <p:cNvPr id="360" name=""/>
            <p:cNvSpPr/>
            <p:nvPr/>
          </p:nvSpPr>
          <p:spPr>
            <a:xfrm>
              <a:off x="1349280" y="1654200"/>
              <a:ext cx="1306440" cy="1100160"/>
            </a:xfrm>
            <a:custGeom>
              <a:avLst/>
              <a:gdLst/>
              <a:ahLst/>
              <a:rect l="l" t="t" r="r" b="b"/>
              <a:pathLst>
                <a:path w="960" h="808">
                  <a:moveTo>
                    <a:pt x="0" y="808"/>
                  </a:moveTo>
                  <a:cubicBezTo>
                    <a:pt x="67" y="716"/>
                    <a:pt x="287" y="380"/>
                    <a:pt x="400" y="256"/>
                  </a:cubicBezTo>
                  <a:cubicBezTo>
                    <a:pt x="513" y="132"/>
                    <a:pt x="587" y="107"/>
                    <a:pt x="680" y="64"/>
                  </a:cubicBezTo>
                  <a:cubicBezTo>
                    <a:pt x="773" y="21"/>
                    <a:pt x="902" y="13"/>
                    <a:pt x="960" y="0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11280" y="1914120"/>
              <a:ext cx="357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8880" bIns="388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FrutigerNext LT BlackCn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559320" y="3300480"/>
            <a:ext cx="1903320" cy="303120"/>
          </a:xfrm>
          <a:custGeom>
            <a:avLst/>
            <a:gdLst/>
            <a:ahLst/>
            <a:rect l="l" t="t" r="r" b="b"/>
            <a:pathLst>
              <a:path w="1399" h="223">
                <a:moveTo>
                  <a:pt x="101" y="27"/>
                </a:moveTo>
                <a:cubicBezTo>
                  <a:pt x="95" y="27"/>
                  <a:pt x="0" y="0"/>
                  <a:pt x="64" y="27"/>
                </a:cubicBezTo>
                <a:cubicBezTo>
                  <a:pt x="128" y="54"/>
                  <a:pt x="352" y="177"/>
                  <a:pt x="487" y="191"/>
                </a:cubicBezTo>
                <a:cubicBezTo>
                  <a:pt x="622" y="205"/>
                  <a:pt x="722" y="109"/>
                  <a:pt x="874" y="114"/>
                </a:cubicBezTo>
                <a:cubicBezTo>
                  <a:pt x="1026" y="119"/>
                  <a:pt x="1290" y="200"/>
                  <a:pt x="1399" y="22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71840" y="3471840"/>
            <a:ext cx="2077920" cy="990720"/>
          </a:xfrm>
          <a:custGeom>
            <a:avLst/>
            <a:gdLst/>
            <a:ahLst/>
            <a:rect l="l" t="t" r="r" b="b"/>
            <a:pathLst>
              <a:path w="1528" h="728">
                <a:moveTo>
                  <a:pt x="0" y="0"/>
                </a:moveTo>
                <a:cubicBezTo>
                  <a:pt x="91" y="44"/>
                  <a:pt x="333" y="204"/>
                  <a:pt x="544" y="264"/>
                </a:cubicBezTo>
                <a:cubicBezTo>
                  <a:pt x="755" y="324"/>
                  <a:pt x="1100" y="283"/>
                  <a:pt x="1264" y="360"/>
                </a:cubicBezTo>
                <a:cubicBezTo>
                  <a:pt x="1428" y="437"/>
                  <a:pt x="1473" y="651"/>
                  <a:pt x="1528" y="72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446880" y="3119400"/>
            <a:ext cx="577800" cy="146160"/>
          </a:xfrm>
          <a:custGeom>
            <a:avLst/>
            <a:gdLst/>
            <a:ahLst/>
            <a:rect l="l" t="t" r="r" b="b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47960" y="4032360"/>
            <a:ext cx="1606680" cy="430200"/>
          </a:xfrm>
          <a:custGeom>
            <a:avLst/>
            <a:gdLst/>
            <a:ahLst/>
            <a:rect l="l" t="t" r="r" b="b"/>
            <a:pathLst>
              <a:path w="1181" h="317">
                <a:moveTo>
                  <a:pt x="0" y="0"/>
                </a:moveTo>
                <a:cubicBezTo>
                  <a:pt x="34" y="14"/>
                  <a:pt x="116" y="50"/>
                  <a:pt x="205" y="85"/>
                </a:cubicBezTo>
                <a:cubicBezTo>
                  <a:pt x="294" y="120"/>
                  <a:pt x="370" y="174"/>
                  <a:pt x="533" y="213"/>
                </a:cubicBezTo>
                <a:cubicBezTo>
                  <a:pt x="696" y="252"/>
                  <a:pt x="1046" y="295"/>
                  <a:pt x="1181" y="317"/>
                </a:cubicBezTo>
              </a:path>
            </a:pathLst>
          </a:custGeom>
          <a:noFill/>
          <a:ln w="38160">
            <a:solidFill>
              <a:srgbClr val="00cc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075120" y="4010040"/>
            <a:ext cx="396720" cy="12240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07120" y="3297240"/>
            <a:ext cx="514440" cy="5014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0880" y="2841480"/>
            <a:ext cx="987480" cy="24768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92600" y="4413240"/>
            <a:ext cx="524160" cy="16668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2600" y="3490920"/>
            <a:ext cx="725760" cy="247680"/>
          </a:xfrm>
          <a:custGeom>
            <a:avLst/>
            <a:gdLst/>
            <a:ahLst/>
            <a:rect l="l" t="t" r="r" b="b"/>
            <a:pathLst>
              <a:path w="1487" h="490">
                <a:moveTo>
                  <a:pt x="106" y="65"/>
                </a:moveTo>
                <a:cubicBezTo>
                  <a:pt x="99" y="65"/>
                  <a:pt x="0" y="68"/>
                  <a:pt x="65" y="64"/>
                </a:cubicBezTo>
                <a:cubicBezTo>
                  <a:pt x="130" y="60"/>
                  <a:pt x="350" y="0"/>
                  <a:pt x="497" y="40"/>
                </a:cubicBezTo>
                <a:cubicBezTo>
                  <a:pt x="644" y="80"/>
                  <a:pt x="782" y="229"/>
                  <a:pt x="947" y="304"/>
                </a:cubicBezTo>
                <a:cubicBezTo>
                  <a:pt x="1112" y="379"/>
                  <a:pt x="1375" y="451"/>
                  <a:pt x="1487" y="4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377040" y="3783960"/>
            <a:ext cx="577800" cy="144360"/>
          </a:xfrm>
          <a:custGeom>
            <a:avLst/>
            <a:gdLst/>
            <a:ahLst/>
            <a:rect l="l" t="t" r="r" b="b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46880" y="4502160"/>
            <a:ext cx="996840" cy="95400"/>
          </a:xfrm>
          <a:custGeom>
            <a:avLst/>
            <a:gdLst/>
            <a:ahLst/>
            <a:rect l="l" t="t" r="r" b="b"/>
            <a:pathLst>
              <a:path w="1051" h="656">
                <a:moveTo>
                  <a:pt x="0" y="656"/>
                </a:moveTo>
                <a:cubicBezTo>
                  <a:pt x="44" y="631"/>
                  <a:pt x="123" y="576"/>
                  <a:pt x="264" y="504"/>
                </a:cubicBezTo>
                <a:cubicBezTo>
                  <a:pt x="405" y="432"/>
                  <a:pt x="717" y="308"/>
                  <a:pt x="848" y="224"/>
                </a:cubicBezTo>
                <a:cubicBezTo>
                  <a:pt x="979" y="140"/>
                  <a:pt x="1009" y="47"/>
                  <a:pt x="105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11520" y="880920"/>
            <a:ext cx="1012680" cy="567000"/>
          </a:xfrm>
          <a:custGeom>
            <a:avLst/>
            <a:gdLst/>
            <a:ahLst/>
            <a:rect l="l" t="t" r="r" b="b"/>
            <a:pathLst>
              <a:path w="745" h="417">
                <a:moveTo>
                  <a:pt x="0" y="417"/>
                </a:moveTo>
                <a:cubicBezTo>
                  <a:pt x="21" y="370"/>
                  <a:pt x="71" y="205"/>
                  <a:pt x="127" y="137"/>
                </a:cubicBezTo>
                <a:cubicBezTo>
                  <a:pt x="183" y="69"/>
                  <a:pt x="264" y="18"/>
                  <a:pt x="335" y="9"/>
                </a:cubicBezTo>
                <a:cubicBezTo>
                  <a:pt x="406" y="0"/>
                  <a:pt x="483" y="32"/>
                  <a:pt x="551" y="81"/>
                </a:cubicBezTo>
                <a:cubicBezTo>
                  <a:pt x="619" y="130"/>
                  <a:pt x="705" y="255"/>
                  <a:pt x="745" y="301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85840" y="1535040"/>
            <a:ext cx="1469880" cy="1174680"/>
          </a:xfrm>
          <a:custGeom>
            <a:avLst/>
            <a:gdLst/>
            <a:ahLst/>
            <a:rect l="l" t="t" r="r" b="b"/>
            <a:pathLst>
              <a:path w="1080" h="864">
                <a:moveTo>
                  <a:pt x="0" y="864"/>
                </a:moveTo>
                <a:cubicBezTo>
                  <a:pt x="10" y="797"/>
                  <a:pt x="16" y="573"/>
                  <a:pt x="52" y="464"/>
                </a:cubicBezTo>
                <a:cubicBezTo>
                  <a:pt x="88" y="355"/>
                  <a:pt x="115" y="279"/>
                  <a:pt x="216" y="208"/>
                </a:cubicBezTo>
                <a:cubicBezTo>
                  <a:pt x="317" y="137"/>
                  <a:pt x="512" y="75"/>
                  <a:pt x="656" y="40"/>
                </a:cubicBezTo>
                <a:cubicBezTo>
                  <a:pt x="800" y="5"/>
                  <a:pt x="992" y="8"/>
                  <a:pt x="1080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9"/>
          <a:stretch/>
        </p:blipFill>
        <p:spPr>
          <a:xfrm>
            <a:off x="7877160" y="3487680"/>
            <a:ext cx="326880" cy="2034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7769160" y="3676680"/>
            <a:ext cx="25740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851600" y="3224160"/>
            <a:ext cx="449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705800" y="3499560"/>
            <a:ext cx="320760" cy="37476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67520" y="1309680"/>
            <a:ext cx="1071720" cy="687240"/>
          </a:xfrm>
          <a:prstGeom prst="wedgeRoundRectCallout">
            <a:avLst>
              <a:gd name="adj1" fmla="val -118652"/>
              <a:gd name="adj2" fmla="val -61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t path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-C-F-J-L-O-U-X-A1-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486400"/>
            <a:ext cx="1195200" cy="561960"/>
          </a:xfrm>
          <a:prstGeom prst="wedgeRoundRectCallout">
            <a:avLst>
              <a:gd name="adj1" fmla="val 111754"/>
              <a:gd name="adj2" fmla="val -327685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Arial"/>
              </a:rPr>
              <a:t>Src to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5562720"/>
            <a:ext cx="1352520" cy="561960"/>
          </a:xfrm>
          <a:prstGeom prst="wedgeRoundRectCallout">
            <a:avLst>
              <a:gd name="adj1" fmla="val 6689"/>
              <a:gd name="adj2" fmla="val -345481"/>
              <a:gd name="adj3" fmla="val 16667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 Boundary  to Out Boundary path computed as 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162920" y="3168720"/>
            <a:ext cx="285480" cy="10800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7724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loud"/>
          <p:cNvSpPr/>
          <p:nvPr/>
        </p:nvSpPr>
        <p:spPr>
          <a:xfrm flipV="1" rot="15933600">
            <a:off x="6139800" y="2872080"/>
            <a:ext cx="2382840" cy="2475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78480" y="220824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0"/>
          <a:stretch/>
        </p:blipFill>
        <p:spPr>
          <a:xfrm>
            <a:off x="5562720" y="24382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952880" y="1752480"/>
            <a:ext cx="474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1"/>
          <a:stretch/>
        </p:blipFill>
        <p:spPr>
          <a:xfrm>
            <a:off x="5029200" y="19810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791320" y="175248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2"/>
          <a:stretch/>
        </p:blipFill>
        <p:spPr>
          <a:xfrm>
            <a:off x="5867280" y="1981080"/>
            <a:ext cx="327240" cy="204840"/>
          </a:xfrm>
          <a:prstGeom prst="rect">
            <a:avLst/>
          </a:prstGeom>
          <a:ln w="0">
            <a:noFill/>
          </a:ln>
        </p:spPr>
      </p:pic>
      <p:sp>
        <p:nvSpPr>
          <p:cNvPr id="391" name="Cloud"/>
          <p:cNvSpPr/>
          <p:nvPr/>
        </p:nvSpPr>
        <p:spPr>
          <a:xfrm flipV="1" rot="15933600">
            <a:off x="5496120" y="5091840"/>
            <a:ext cx="860400" cy="134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83400" y="578952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3"/>
          <a:stretch/>
        </p:blipFill>
        <p:spPr>
          <a:xfrm>
            <a:off x="5867280" y="6019920"/>
            <a:ext cx="327240" cy="204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257800" y="5334120"/>
            <a:ext cx="474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4"/>
          <a:stretch/>
        </p:blipFill>
        <p:spPr>
          <a:xfrm>
            <a:off x="5257800" y="556272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095880" y="5334120"/>
            <a:ext cx="474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5"/>
          <a:stretch/>
        </p:blipFill>
        <p:spPr>
          <a:xfrm>
            <a:off x="6172200" y="556272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flipH="1">
            <a:off x="5333760" y="464832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181480" y="2579400"/>
            <a:ext cx="52560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08480" y="2457360"/>
            <a:ext cx="344520" cy="400320"/>
          </a:xfrm>
          <a:custGeom>
            <a:avLst/>
            <a:gdLst/>
            <a:ahLst/>
            <a:rect l="l" t="t" r="r" b="b"/>
            <a:pathLst>
              <a:path w="217" h="252">
                <a:moveTo>
                  <a:pt x="1" y="252"/>
                </a:moveTo>
                <a:cubicBezTo>
                  <a:pt x="4" y="233"/>
                  <a:pt x="0" y="160"/>
                  <a:pt x="19" y="138"/>
                </a:cubicBezTo>
                <a:cubicBezTo>
                  <a:pt x="38" y="116"/>
                  <a:pt x="93" y="136"/>
                  <a:pt x="115" y="120"/>
                </a:cubicBezTo>
                <a:cubicBezTo>
                  <a:pt x="137" y="104"/>
                  <a:pt x="134" y="62"/>
                  <a:pt x="151" y="42"/>
                </a:cubicBezTo>
                <a:cubicBezTo>
                  <a:pt x="168" y="22"/>
                  <a:pt x="203" y="9"/>
                  <a:pt x="217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06920" y="4638600"/>
            <a:ext cx="66960" cy="924120"/>
          </a:xfrm>
          <a:custGeom>
            <a:avLst/>
            <a:gdLst/>
            <a:ahLst/>
            <a:rect l="l" t="t" r="r" b="b"/>
            <a:pathLst>
              <a:path w="42" h="582">
                <a:moveTo>
                  <a:pt x="41" y="0"/>
                </a:moveTo>
                <a:cubicBezTo>
                  <a:pt x="41" y="13"/>
                  <a:pt x="42" y="45"/>
                  <a:pt x="41" y="78"/>
                </a:cubicBezTo>
                <a:cubicBezTo>
                  <a:pt x="40" y="111"/>
                  <a:pt x="42" y="151"/>
                  <a:pt x="35" y="198"/>
                </a:cubicBezTo>
                <a:cubicBezTo>
                  <a:pt x="28" y="245"/>
                  <a:pt x="0" y="299"/>
                  <a:pt x="0" y="363"/>
                </a:cubicBezTo>
                <a:cubicBezTo>
                  <a:pt x="0" y="427"/>
                  <a:pt x="28" y="536"/>
                  <a:pt x="35" y="58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loud"/>
          <p:cNvSpPr/>
          <p:nvPr/>
        </p:nvSpPr>
        <p:spPr>
          <a:xfrm flipV="1" rot="15933600">
            <a:off x="2905560" y="4710600"/>
            <a:ext cx="860400" cy="134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92480" y="540864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B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6"/>
          <a:stretch/>
        </p:blipFill>
        <p:spPr>
          <a:xfrm>
            <a:off x="3276720" y="56386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666880" y="4952880"/>
            <a:ext cx="474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A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7"/>
          <a:stretch/>
        </p:blipFill>
        <p:spPr>
          <a:xfrm>
            <a:off x="2743200" y="5181480"/>
            <a:ext cx="326880" cy="204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505320" y="4952880"/>
            <a:ext cx="474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8"/>
          <a:stretch/>
        </p:blipFill>
        <p:spPr>
          <a:xfrm>
            <a:off x="3581280" y="5181480"/>
            <a:ext cx="327240" cy="204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2971800" y="434340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4343400"/>
            <a:ext cx="66960" cy="923760"/>
          </a:xfrm>
          <a:custGeom>
            <a:avLst/>
            <a:gdLst/>
            <a:ahLst/>
            <a:rect l="l" t="t" r="r" b="b"/>
            <a:pathLst>
              <a:path w="42" h="582">
                <a:moveTo>
                  <a:pt x="41" y="0"/>
                </a:moveTo>
                <a:cubicBezTo>
                  <a:pt x="41" y="13"/>
                  <a:pt x="42" y="45"/>
                  <a:pt x="41" y="78"/>
                </a:cubicBezTo>
                <a:cubicBezTo>
                  <a:pt x="40" y="111"/>
                  <a:pt x="42" y="151"/>
                  <a:pt x="35" y="198"/>
                </a:cubicBezTo>
                <a:cubicBezTo>
                  <a:pt x="28" y="245"/>
                  <a:pt x="0" y="299"/>
                  <a:pt x="0" y="363"/>
                </a:cubicBezTo>
                <a:cubicBezTo>
                  <a:pt x="0" y="427"/>
                  <a:pt x="28" y="536"/>
                  <a:pt x="35" y="58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4648320"/>
            <a:ext cx="39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590920"/>
            <a:ext cx="39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05520" y="5181480"/>
            <a:ext cx="3902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26668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3809880"/>
            <a:ext cx="304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3733920"/>
            <a:ext cx="304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41148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50292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2590920"/>
            <a:ext cx="304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3276720"/>
            <a:ext cx="304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28954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57800" y="2209680"/>
            <a:ext cx="3808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0" y="29718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42670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34290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274320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3581280"/>
            <a:ext cx="304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42670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86400" y="51055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72400" y="3276720"/>
            <a:ext cx="304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43800" y="3505320"/>
            <a:ext cx="3049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8880" y="2895480"/>
            <a:ext cx="304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41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866920" y="2133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581280" y="5334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5334120"/>
            <a:ext cx="5126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562720" y="56386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86400" y="5715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171840" y="5715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8095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00440" y="464832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21337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5181480"/>
            <a:ext cx="3902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2362320"/>
            <a:ext cx="3906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019920" y="2133000"/>
            <a:ext cx="1371600" cy="106020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91320" y="2057400"/>
            <a:ext cx="3808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77120" y="5486400"/>
            <a:ext cx="3808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476400" y="4718160"/>
            <a:ext cx="1066680" cy="99684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0"/>
                </a:moveTo>
                <a:cubicBezTo>
                  <a:pt x="18" y="17"/>
                  <a:pt x="64" y="66"/>
                  <a:pt x="106" y="105"/>
                </a:cubicBezTo>
                <a:cubicBezTo>
                  <a:pt x="148" y="144"/>
                  <a:pt x="205" y="189"/>
                  <a:pt x="250" y="233"/>
                </a:cubicBezTo>
                <a:cubicBezTo>
                  <a:pt x="295" y="277"/>
                  <a:pt x="351" y="341"/>
                  <a:pt x="378" y="369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91520" y="31240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38862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71800" y="40384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2971800"/>
            <a:ext cx="15264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077320" y="33526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8862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32004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36576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27432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29718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86400" y="43434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457200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5812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4419720"/>
            <a:ext cx="15264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10280" y="3124080"/>
            <a:ext cx="15264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43800" y="3733920"/>
            <a:ext cx="15228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63244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6248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hortest path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ward Search P2MP Inter-domain Path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7160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Similar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Forward Search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P2P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Inter-domain Path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uild a shortest path tree in the special topology from the source to the destinations using CSP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unt the number of destinations on the tree until all the destinations o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17T09:17:44Z</dcterms:modified>
  <cp:revision>287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+nJpF22H4s+182uDhm5o747un0s7owI4m6ABHcDSf7WEP0Ewtv6pKKsK7pwdDZYSON3ERQLQ
I4i3fAY3/oND9bI7JoT1WoraEW4m6Mx4hg++ORXlLZ/YaxWZAVVZ+Opci98dQoheb2Sn5d8W
uuozWIFrUUWWpojY3HvQJowvRZwgCq2MWLNafE6DNAYeuMlKZWl6nVt4lHYRGhocvYx2pVFa
aZ+0jBwDBwuXl4BTTfeom</vt:lpwstr>
  </property>
  <property fmtid="{D5CDD505-2E9C-101B-9397-08002B2CF9AE}" pid="3" name="_ms_pID_7253431">
    <vt:lpwstr>/R0xHFAUOSHKYbYbwSB7/+0LPTkJoRB9UePQJowcqQN1MdHgE61
PwB/JobcyCjmOu6+ahhl3rE+p5oLTZhvU14f9oj8k6MuWOINg14emrI2ckHtGcOiIazP5rHD
KQ00ZVPq+9Np0DWTtKXCrks8zYirQ8fGLfuy64RF9LFxlCWssvAmese9Kmn6pxw4pZw2UTHu
9iceZ+qGZssU89FTDEwelbnFxUDkJjkT+EfZwadIvn</vt:lpwstr>
  </property>
  <property fmtid="{D5CDD505-2E9C-101B-9397-08002B2CF9AE}" pid="4" name="_ms_pID_7253432">
    <vt:lpwstr>kyJpZLxch7dKJCJOmsDHYigzQRRLvN
ThRp+nl5WvkH1r399tmuFIyJSjZKElx0XODPOa/aEuhUuGXJbX+O9HSqEtklg0a5B7Acjypw
bXwAYu0BpqQY8jlKQ7ymvg==</vt:lpwstr>
  </property>
  <property fmtid="{D5CDD505-2E9C-101B-9397-08002B2CF9AE}" pid="5" name="sflag">
    <vt:lpwstr>1321521448</vt:lpwstr>
  </property>
</Properties>
</file>