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309-7FB0-4791-9921-7622F5AE37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能力发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，通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SP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洪泛发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具有有状态的能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时可以选择无状态或有状态能力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宋体"/>
              </a:rPr>
              <a:t>--</a:t>
            </a:r>
            <a:r>
              <a:rPr b="0" lang="zh-CN" sz="1100" spc="-1" strike="noStrike">
                <a:solidFill>
                  <a:srgbClr val="ff0000"/>
                </a:solidFill>
                <a:latin typeface="Times New Roman"/>
                <a:ea typeface="宋体"/>
              </a:rPr>
              <a:t>扩展在此内容补充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42BA-7FD6-404C-AEEE-83B5FB16ED5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2F651698-8AFA-43CF-AF31-347C918439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Stateful P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334120" y="3962520"/>
            <a:ext cx="2438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xin T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ng Xue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o X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43000" y="2514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tang-pce-stateful-pce-02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fine it according to the feedback from the meeting or mailing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emulation under different con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5"/>
          <p:cNvSpPr/>
          <p:nvPr/>
        </p:nvSpPr>
        <p:spPr>
          <a:xfrm>
            <a:off x="2743200" y="3886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Thank You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Gulim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2835000" y="17524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Commen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柱形 43"/>
          <p:cNvSpPr/>
          <p:nvPr/>
        </p:nvSpPr>
        <p:spPr>
          <a:xfrm rot="18390000">
            <a:off x="1409760" y="639360"/>
            <a:ext cx="801720" cy="3824280"/>
          </a:xfrm>
          <a:prstGeom prst="can">
            <a:avLst>
              <a:gd name="adj" fmla="val 1619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圆柱形 42"/>
          <p:cNvSpPr/>
          <p:nvPr/>
        </p:nvSpPr>
        <p:spPr>
          <a:xfrm rot="3045000">
            <a:off x="4016520" y="763560"/>
            <a:ext cx="799920" cy="3632400"/>
          </a:xfrm>
          <a:prstGeom prst="can">
            <a:avLst>
              <a:gd name="adj" fmla="val 1701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blem without Stateful 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1676520" y="57913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gure 1:Sequence of  events with stateless P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 flipV="1">
            <a:off x="3200400" y="441612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5486400" y="440964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4"/>
          <p:cNvSpPr/>
          <p:nvPr/>
        </p:nvSpPr>
        <p:spPr>
          <a:xfrm>
            <a:off x="525780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438280" y="483408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 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(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圆柱形 30"/>
          <p:cNvSpPr/>
          <p:nvPr/>
        </p:nvSpPr>
        <p:spPr>
          <a:xfrm rot="5400000">
            <a:off x="2666520" y="-1346040"/>
            <a:ext cx="838080" cy="5867640"/>
          </a:xfrm>
          <a:prstGeom prst="can">
            <a:avLst>
              <a:gd name="adj" fmla="val 130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629400" y="1600200"/>
            <a:ext cx="16765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reserved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2"/>
          <p:cNvSpPr/>
          <p:nvPr/>
        </p:nvSpPr>
        <p:spPr>
          <a:xfrm>
            <a:off x="6629400" y="2590920"/>
            <a:ext cx="16765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2670120" y="3048120"/>
            <a:ext cx="987480" cy="91440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圆柱形 36"/>
          <p:cNvSpPr/>
          <p:nvPr/>
        </p:nvSpPr>
        <p:spPr>
          <a:xfrm rot="5400000">
            <a:off x="2765160" y="-1400040"/>
            <a:ext cx="533160" cy="5670360"/>
          </a:xfrm>
          <a:prstGeom prst="can">
            <a:avLst>
              <a:gd name="adj" fmla="val 8620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椭圆 34"/>
          <p:cNvSpPr/>
          <p:nvPr/>
        </p:nvSpPr>
        <p:spPr>
          <a:xfrm>
            <a:off x="76320" y="1168560"/>
            <a:ext cx="86832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椭圆 35"/>
          <p:cNvSpPr/>
          <p:nvPr/>
        </p:nvSpPr>
        <p:spPr>
          <a:xfrm>
            <a:off x="5257800" y="1168560"/>
            <a:ext cx="83808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2514600" y="1244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35053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342900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1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 rot="19204800">
            <a:off x="3451680" y="2550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 rot="2163600">
            <a:off x="1415160" y="2570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57200" y="47275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066680" y="439272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V="1">
            <a:off x="2057400" y="439848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4191120" y="439848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 flipV="1">
            <a:off x="7620120" y="439272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0" y="48132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1( LSP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 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447920" y="481320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LSP 1: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4800600" y="4856040"/>
            <a:ext cx="1295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p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 LSP 2: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505320" y="483408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2(LSP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6858000" y="483408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 2 setup fai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insufficient bandwid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8077320" y="43228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838080" y="410364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82880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97180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886200" y="4071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391520" y="4071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爆炸形 2 49"/>
          <p:cNvSpPr/>
          <p:nvPr/>
        </p:nvSpPr>
        <p:spPr>
          <a:xfrm>
            <a:off x="914400" y="914400"/>
            <a:ext cx="2971800" cy="114300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P 2 setup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6477120" y="441432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5943600" y="485604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IGP Flooding: LSP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624852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T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lization of stateful 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示 7" descr=""/>
          <p:cNvPicPr/>
          <p:nvPr/>
        </p:nvPicPr>
        <p:blipFill>
          <a:blip r:embed="rId1"/>
          <a:stretch/>
        </p:blipFill>
        <p:spPr>
          <a:xfrm>
            <a:off x="212760" y="1292400"/>
            <a:ext cx="909648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0" y="4648320"/>
            <a:ext cx="19051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C discovers stateful P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828800" y="4648320"/>
            <a:ext cx="20574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E computed path, and sav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886200" y="4648320"/>
            <a:ext cx="25146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each PCE the E2E path computation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6477120" y="4648320"/>
            <a:ext cx="266688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P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SP setup/deletion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直接箭头连接符 14"/>
          <p:cNvCxnSpPr/>
          <p:nvPr/>
        </p:nvCxnSpPr>
        <p:spPr>
          <a:xfrm flipV="1">
            <a:off x="99072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98" name="直接箭头连接符 15"/>
          <p:cNvCxnSpPr/>
          <p:nvPr/>
        </p:nvCxnSpPr>
        <p:spPr>
          <a:xfrm flipV="1">
            <a:off x="762012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99" name="直接箭头连接符 16"/>
          <p:cNvCxnSpPr/>
          <p:nvPr/>
        </p:nvCxnSpPr>
        <p:spPr>
          <a:xfrm flipV="1">
            <a:off x="274320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00" name="直接箭头连接符 17"/>
          <p:cNvCxnSpPr/>
          <p:nvPr/>
        </p:nvCxnSpPr>
        <p:spPr>
          <a:xfrm flipV="1">
            <a:off x="525780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CED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676520"/>
          <a:ext cx="5638680" cy="4084560"/>
        </p:xfrm>
        <a:graphic>
          <a:graphicData uri="http://schemas.openxmlformats.org/drawingml/2006/table">
            <a:tbl>
              <a:tblPr/>
              <a:tblGrid>
                <a:gridCol w="816120"/>
                <a:gridCol w="48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 computation with GMPLS link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irectional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e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-balanced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chronized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multiple objective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additive path constraints (max hop count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request priorit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multiple requests per 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MP path comp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ful P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 for future assignments by 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10"/>
          <p:cNvSpPr/>
          <p:nvPr/>
        </p:nvSpPr>
        <p:spPr>
          <a:xfrm>
            <a:off x="6705720" y="274320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New PCE Capability Fla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CE-CAP-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直接箭头连接符 12"/>
          <p:cNvCxnSpPr/>
          <p:nvPr/>
        </p:nvCxnSpPr>
        <p:spPr>
          <a:xfrm flipH="1">
            <a:off x="6323760" y="3809880"/>
            <a:ext cx="1296360" cy="152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TextBox 10"/>
          <p:cNvSpPr/>
          <p:nvPr/>
        </p:nvSpPr>
        <p:spPr>
          <a:xfrm>
            <a:off x="45720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ed PCED TLV(RFC 5088), defined a new capability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the stateful PCE capability flag, the PCC can select which PCE to b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tocol Extensions: PC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1066680"/>
            <a:ext cx="8991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type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LSP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value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end-to-end path computation success/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value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3/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LSP setup success/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value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LSP deletion su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PCNtf Message&gt;::=&lt;Common Header&gt;&lt;notify-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otify-list&gt;::=&lt;notify&gt; [&lt;notify-list&gt;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otify&gt;::=[&lt;request-id-list&gt;]&lt;notification-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request-id-list&gt;::=&lt;RP&g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[&lt;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&gt;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&lt;request-id-list&gt;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path&gt;:=&lt;ERO&gt;&lt;attribute-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attribute-list&gt;::=[&lt;LSPA&gt;][&lt;BANDWIDTH&gt;][&lt;metric-list&gt;][&lt;IRO&gt;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otification-list&gt; ::=&lt;NOTIFICATION&gt;[&lt;notification-list&gt;]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nchronization between PCC/PCE and PCE/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066680"/>
          <a:ext cx="861048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4956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CC/P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CE/P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th setup result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CC sends the path setup result to the PC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tification-value=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uccess: PCE saved the resources for the &lt;path&gt; carried in the PCN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iled:PCE removed the resources for the &lt;path&gt; carried in the PCN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-to-End Path Computation Resul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CE of the first domain Sends PCNtf to each PCE in the PCE cha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tification-value=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uccess: Each PCE released resources except those belong to the &lt;path&gt; carried in the PCN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iled:Each PCE released all the resources saved for the LSP in 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th deletion resul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tification-value=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letion Success: removed the resources of the deleted LSP in its local 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Note: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he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th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up/deletion result sent from PCC to PCE, the PCE that received the notify message play the role of PCC, and notify the next PCE, as PCC/PCE synchronization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柱形 43"/>
          <p:cNvSpPr/>
          <p:nvPr/>
        </p:nvSpPr>
        <p:spPr>
          <a:xfrm rot="18390000">
            <a:off x="1362960" y="653040"/>
            <a:ext cx="671400" cy="3641760"/>
          </a:xfrm>
          <a:prstGeom prst="can">
            <a:avLst>
              <a:gd name="adj" fmla="val 1424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圆柱形 42"/>
          <p:cNvSpPr/>
          <p:nvPr/>
        </p:nvSpPr>
        <p:spPr>
          <a:xfrm rot="3045000">
            <a:off x="4151520" y="691200"/>
            <a:ext cx="534960" cy="3632040"/>
          </a:xfrm>
          <a:prstGeom prst="can">
            <a:avLst>
              <a:gd name="adj" fmla="val 1137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ful PCE Avoid  Resourc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2209680" y="64119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gure 2:Sequence of  events with stateful P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 flipV="1">
            <a:off x="3200400" y="445896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5486400" y="445248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5257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2514600" y="487692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 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(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圆柱形 30"/>
          <p:cNvSpPr/>
          <p:nvPr/>
        </p:nvSpPr>
        <p:spPr>
          <a:xfrm rot="5400000">
            <a:off x="2755440" y="-1511280"/>
            <a:ext cx="660240" cy="5867640"/>
          </a:xfrm>
          <a:prstGeom prst="can">
            <a:avLst>
              <a:gd name="adj" fmla="val 1031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1"/>
          <p:cNvSpPr/>
          <p:nvPr/>
        </p:nvSpPr>
        <p:spPr>
          <a:xfrm>
            <a:off x="6553080" y="1371600"/>
            <a:ext cx="16765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reserved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32"/>
          <p:cNvSpPr/>
          <p:nvPr/>
        </p:nvSpPr>
        <p:spPr>
          <a:xfrm>
            <a:off x="6553080" y="2438280"/>
            <a:ext cx="16765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圆柱形 36"/>
          <p:cNvSpPr/>
          <p:nvPr/>
        </p:nvSpPr>
        <p:spPr>
          <a:xfrm rot="5400000">
            <a:off x="2815920" y="-1527120"/>
            <a:ext cx="431640" cy="5670360"/>
          </a:xfrm>
          <a:prstGeom prst="can">
            <a:avLst>
              <a:gd name="adj" fmla="val 6981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2514600" y="116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666880" y="1398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2286000" y="1066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1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2"/>
          <p:cNvSpPr/>
          <p:nvPr/>
        </p:nvSpPr>
        <p:spPr>
          <a:xfrm rot="19204800">
            <a:off x="3909240" y="242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2"/>
          <p:cNvSpPr/>
          <p:nvPr/>
        </p:nvSpPr>
        <p:spPr>
          <a:xfrm rot="2163600">
            <a:off x="1414800" y="249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52280" y="4770360"/>
            <a:ext cx="872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1066680" y="443520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2057400" y="443988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4191120" y="443988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 flipV="1">
            <a:off x="7924680" y="444672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0" y="485604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1( LSP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 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23880" y="485604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LSP 1: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4724280" y="489744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 LSP 2:AC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3581280" y="4876920"/>
            <a:ext cx="1295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2(LSP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0120" y="487692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GP Flooding: LSP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8496360" y="4343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838080" y="4146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1828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971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3886200" y="4114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7772400" y="4114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6629400" y="445788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5867280" y="4897440"/>
            <a:ext cx="129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(AC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6400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圆柱形 54"/>
          <p:cNvSpPr/>
          <p:nvPr/>
        </p:nvSpPr>
        <p:spPr>
          <a:xfrm rot="18390000">
            <a:off x="1462680" y="908640"/>
            <a:ext cx="403200" cy="3462120"/>
          </a:xfrm>
          <a:prstGeom prst="can">
            <a:avLst>
              <a:gd name="adj" fmla="val 8995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椭圆 34"/>
          <p:cNvSpPr/>
          <p:nvPr/>
        </p:nvSpPr>
        <p:spPr>
          <a:xfrm>
            <a:off x="76320" y="1092240"/>
            <a:ext cx="86832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圆柱形 55"/>
          <p:cNvSpPr/>
          <p:nvPr/>
        </p:nvSpPr>
        <p:spPr>
          <a:xfrm rot="3045000">
            <a:off x="4428720" y="903240"/>
            <a:ext cx="380880" cy="3352680"/>
          </a:xfrm>
          <a:prstGeom prst="can">
            <a:avLst>
              <a:gd name="adj" fmla="val 8777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椭圆 33"/>
          <p:cNvSpPr/>
          <p:nvPr/>
        </p:nvSpPr>
        <p:spPr>
          <a:xfrm>
            <a:off x="2670120" y="2971800"/>
            <a:ext cx="987480" cy="91440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椭圆 35"/>
          <p:cNvSpPr/>
          <p:nvPr/>
        </p:nvSpPr>
        <p:spPr>
          <a:xfrm>
            <a:off x="5257800" y="1092240"/>
            <a:ext cx="83808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 rot="2163600">
            <a:off x="1117080" y="266220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2"/>
          <p:cNvSpPr/>
          <p:nvPr/>
        </p:nvSpPr>
        <p:spPr>
          <a:xfrm rot="2163600">
            <a:off x="1634040" y="2327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2"/>
          <p:cNvSpPr/>
          <p:nvPr/>
        </p:nvSpPr>
        <p:spPr>
          <a:xfrm rot="19204800">
            <a:off x="3528360" y="2346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2"/>
          <p:cNvSpPr/>
          <p:nvPr/>
        </p:nvSpPr>
        <p:spPr>
          <a:xfrm rot="19204800">
            <a:off x="3562920" y="2365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48120" y="5715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PCE LSP1 setup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直接箭头连接符 63"/>
          <p:cNvCxnSpPr>
            <a:stCxn id="156" idx="0"/>
          </p:cNvCxnSpPr>
          <p:nvPr/>
        </p:nvCxnSpPr>
        <p:spPr>
          <a:xfrm flipV="1">
            <a:off x="3580920" y="4800240"/>
            <a:ext cx="1080" cy="9151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" name="Text Box 27"/>
          <p:cNvSpPr/>
          <p:nvPr/>
        </p:nvSpPr>
        <p:spPr>
          <a:xfrm>
            <a:off x="6781680" y="57913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PCE LSP2 setup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直接箭头连接符 65"/>
          <p:cNvCxnSpPr/>
          <p:nvPr/>
        </p:nvCxnSpPr>
        <p:spPr>
          <a:xfrm flipV="1">
            <a:off x="7238520" y="4800240"/>
            <a:ext cx="1080" cy="9151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内容占位符 2"/>
          <p:cNvSpPr/>
          <p:nvPr/>
        </p:nvSpPr>
        <p:spPr>
          <a:xfrm>
            <a:off x="30492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PC compute Inter-area/AS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0"/>
          <p:cNvSpPr/>
          <p:nvPr/>
        </p:nvSpPr>
        <p:spPr>
          <a:xfrm>
            <a:off x="5943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0"/>
          <p:cNvSpPr/>
          <p:nvPr/>
        </p:nvSpPr>
        <p:spPr>
          <a:xfrm>
            <a:off x="4800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3657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0"/>
          <p:cNvSpPr/>
          <p:nvPr/>
        </p:nvSpPr>
        <p:spPr>
          <a:xfrm>
            <a:off x="2514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357120" y="990720"/>
            <a:ext cx="81885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直接连接符 108"/>
          <p:cNvSpPr/>
          <p:nvPr/>
        </p:nvSpPr>
        <p:spPr>
          <a:xfrm flipV="1">
            <a:off x="5219640" y="2415960"/>
            <a:ext cx="1333440" cy="12600"/>
          </a:xfrm>
          <a:prstGeom prst="line">
            <a:avLst/>
          </a:prstGeom>
          <a:ln w="31680">
            <a:solidFill>
              <a:srgbClr val="231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114"/>
          <p:cNvSpPr/>
          <p:nvPr/>
        </p:nvSpPr>
        <p:spPr>
          <a:xfrm flipV="1">
            <a:off x="2438280" y="2415960"/>
            <a:ext cx="1143000" cy="12600"/>
          </a:xfrm>
          <a:prstGeom prst="line">
            <a:avLst/>
          </a:prstGeom>
          <a:ln w="31680">
            <a:solidFill>
              <a:srgbClr val="231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直接连接符 115"/>
          <p:cNvSpPr/>
          <p:nvPr/>
        </p:nvSpPr>
        <p:spPr>
          <a:xfrm flipV="1">
            <a:off x="1143000" y="2479680"/>
            <a:ext cx="914400" cy="241200"/>
          </a:xfrm>
          <a:prstGeom prst="line">
            <a:avLst/>
          </a:prstGeom>
          <a:ln w="31680">
            <a:solidFill>
              <a:srgbClr val="231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组合 5"/>
          <p:cNvGrpSpPr/>
          <p:nvPr/>
        </p:nvGrpSpPr>
        <p:grpSpPr>
          <a:xfrm>
            <a:off x="0" y="3505320"/>
            <a:ext cx="9144000" cy="2989080"/>
            <a:chOff x="0" y="3505320"/>
            <a:chExt cx="9144000" cy="2989080"/>
          </a:xfrm>
        </p:grpSpPr>
        <p:pic>
          <p:nvPicPr>
            <p:cNvPr id="17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4396320"/>
              <a:ext cx="9144000" cy="209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11"/>
            <p:cNvSpPr/>
            <p:nvPr/>
          </p:nvSpPr>
          <p:spPr>
            <a:xfrm>
              <a:off x="0" y="4876920"/>
              <a:ext cx="1476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CN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BDFH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Box 14"/>
            <p:cNvSpPr/>
            <p:nvPr/>
          </p:nvSpPr>
          <p:spPr>
            <a:xfrm>
              <a:off x="1979640" y="412452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 PCN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BDFH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Box 15"/>
            <p:cNvSpPr/>
            <p:nvPr/>
          </p:nvSpPr>
          <p:spPr>
            <a:xfrm>
              <a:off x="5435640" y="405360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. PCN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BDFH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圆角矩形标注 16"/>
            <p:cNvSpPr/>
            <p:nvPr/>
          </p:nvSpPr>
          <p:spPr>
            <a:xfrm>
              <a:off x="3657600" y="3505320"/>
              <a:ext cx="1676160" cy="890640"/>
            </a:xfrm>
            <a:prstGeom prst="wedgeRoundRectCallout">
              <a:avLst>
                <a:gd name="adj1" fmla="val 3111"/>
                <a:gd name="adj2" fmla="val 73662"/>
                <a:gd name="adj3" fmla="val 16667"/>
              </a:avLst>
            </a:prstGeom>
            <a:noFill/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. Release saved resource: 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圆角矩形标注 17"/>
            <p:cNvSpPr/>
            <p:nvPr/>
          </p:nvSpPr>
          <p:spPr>
            <a:xfrm>
              <a:off x="7093080" y="3505320"/>
              <a:ext cx="1670040" cy="890640"/>
            </a:xfrm>
            <a:prstGeom prst="wedgeRoundRectCallout">
              <a:avLst>
                <a:gd name="adj1" fmla="val 3111"/>
                <a:gd name="adj2" fmla="val 73662"/>
                <a:gd name="adj3" fmla="val 16667"/>
              </a:avLst>
            </a:prstGeom>
            <a:noFill/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. Release saved resource: I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vs Stateless PCE in R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438280" y="6019920"/>
            <a:ext cx="167652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5257800" y="6019920"/>
            <a:ext cx="158112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8601120" cy="3657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9"/>
          <p:cNvSpPr/>
          <p:nvPr/>
        </p:nvSpPr>
        <p:spPr>
          <a:xfrm>
            <a:off x="457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block rate under different network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4952880" y="51055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block rate with different PCReq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Kexin Tang</dc:creator>
  <dc:description/>
  <dc:language>en-US</dc:language>
  <cp:lastModifiedBy>Administrator</cp:lastModifiedBy>
  <dcterms:modified xsi:type="dcterms:W3CDTF">2011-11-17T03:19:23Z</dcterms:modified>
  <cp:revision>1072</cp:revision>
  <dc:subject/>
  <dc:title>Stateful P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11391</vt:lpwstr>
  </property>
</Properties>
</file>