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E19-AE6F-411D-9B00-8648F179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19A-4E3C-4238-AB88-3FE7592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0A2-3DB0-49B7-BA54-EC7195DD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D2C-C54B-4893-9E95-7A7FAB9C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776-BC63-4FCE-AF7B-F2F7CEC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72E-54E1-429E-8EA0-CC2C186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121-EC1E-419F-8942-449C202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B82-DDE5-4E4C-8BAB-278B2F9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D83-9861-464A-B5FC-C2FE95E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F7D-8959-4850-BA48-7CD73FC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AAA-B1A4-4FFA-B202-705A144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6B2-E281-4B94-9D85-C3A1037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0C2-60E2-49ED-8870-CF7951A2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mpls-tp-rsvpte-ext-associated-lsp-04" TargetMode="External"/><Relationship Id="rId2" Type="http://schemas.openxmlformats.org/officeDocument/2006/relationships/hyperlink" Target="http://tools.ietf.org/html/draft-he-pce-pcep-associated-lsp-extensions-0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sions to the PCEP for Associated Bidirectional LS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E WG, IETF 82th , Tai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-pce-pcep-associated-lsp-extensions-0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771560" y="5159520"/>
            <a:ext cx="57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njuan He    (he.wenjuan1@zte.com.c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5654:MPLS-TP MUST support associated bidirectional LS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ccamp-mpls-tp-rsvpte-ext-associated-lsp describes the signaling of the associated bidirectional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E can be used for path computation of an associated bidirectional L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7AD-5B45-4688-98C2-275D04CD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ociated bidirectional L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94920" y="4829040"/>
            <a:ext cx="37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xample of associated bidirectional L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962520" y="1676520"/>
            <a:ext cx="5029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current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head-end submits the computation request   for both two directional LSPs concurren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licable to The Single Sided Provision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uccessive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head-end and the tail-end send the forward LSP and  backward LSP computation requests separ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licable to both the Single Sided Provisioning model and the Double Sided Provisioning 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96920" y="2152800"/>
            <a:ext cx="4046400" cy="2566800"/>
          </a:xfrm>
          <a:prstGeom prst="rect">
            <a:avLst/>
          </a:prstGeom>
          <a:ln w="0">
            <a:noFill/>
          </a:ln>
        </p:spPr>
      </p:pic>
      <p:sp>
        <p:nvSpPr>
          <p:cNvPr id="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288C-9A1B-4676-BFD3-0267368A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EC object can be used to synchronize the   request about the forward and backward LS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v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ful PCE can coordinate the two reverse LSPs to get the optimal path for the associated bidirectional LSP through the ASSOCIATIO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CF3-FF48-4E60-B2B5-35CCAEC1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SSOCI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ociate the two reverse LSPs, which form an associated bidirectional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dentical in encoding to the contents of the RSVP-TE Extended ASSOCIATIO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AEF-04AD-4574-9A01-B5A1EF8F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thank Jan Medved, Cyril Margaria for their valuable 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E83E-A59E-477B-B3C9-F983D6F4E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080" y="2071800"/>
            <a:ext cx="83232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27D-50E8-4126-AFEE-096C5F4FE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娟</cp:lastModifiedBy>
  <dcterms:modified xsi:type="dcterms:W3CDTF">2011-11-16T04:21:56Z</dcterms:modified>
  <cp:revision>1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