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22C-F5C0-4D7D-BF31-F951AF15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4D2-E2E4-4ABE-976E-FAD0732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2F5-A8B8-499B-912B-3CF1C75E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828-A7D4-4D34-9531-03E51818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FFB-AA96-4DE4-9458-9AADB7AF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B48-6FF8-426C-8CDC-EA4DC2D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5AA-0950-4200-A377-6EBEB641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23C-33B0-4A24-86EE-BF54B904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4F8-8076-4D59-BF5B-ABA39810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A12-28C0-4F2F-9B18-A57F156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971-117C-47F6-837E-B784F0EE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37A-752B-4AE5-804E-94B148AE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4A74-52E6-4B6C-A6AF-2F7AAD804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zhang-mpls-tp-rsvpte-ext-associated-lsp-04" TargetMode="External"/><Relationship Id="rId2" Type="http://schemas.openxmlformats.org/officeDocument/2006/relationships/hyperlink" Target="http://tools.ietf.org/html/draft-he-pce-pcep-associated-lsp-extensions-0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nsions to the PCEP for Associated Bidirectional LS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8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E WG, IETF 82th , Tai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draft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-pce-pcep-associated-lsp-extensions-0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771560" y="5159520"/>
            <a:ext cx="57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njuan He    (he.wenjuan1@zte.com.c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5654:MPLS-TP MUST support associated bidirectional LS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ccamp-mpls-tp-rsvpte-ext-associated-lsp describes the signaling of the associated bidirectional L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E can be used for path computation of an associated bidirectional L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4CAA-80A9-460C-836E-8FF45877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ociated bidirectional L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94920" y="4829040"/>
            <a:ext cx="37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example of associated bidirectional L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3962520" y="1676520"/>
            <a:ext cx="5029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oncurrent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head-end submits the computation request   for both two directional LSPs concurren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pplicable to The Single Sided Provision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uccessive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head-end and the tail-end send the forward LSP and  backward LSP computation requests separat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pplicable to both the Single Sided Provisioning model and the Double Sided Provisioning 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96920" y="2152800"/>
            <a:ext cx="4046400" cy="2566800"/>
          </a:xfrm>
          <a:prstGeom prst="rect">
            <a:avLst/>
          </a:prstGeom>
          <a:ln w="0">
            <a:noFill/>
          </a:ln>
        </p:spPr>
      </p:pic>
      <p:sp>
        <p:nvSpPr>
          <p:cNvPr id="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420-2D93-4FCF-8929-7504319E4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EC object can be used to synchronize the   request about the forward and backward LS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v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eful PCE can coordinate the two reverse LSPs to get the optimal path for the associated bidirectional LSP through the ASSOCIATIO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8F4-C76E-410F-8ED8-23CEFA63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SSOCIAT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ssociate the two reverse LSPs, which form an associated bidirectional L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dentical in encoding to the contents of the RSVP-TE Extended ASSOCIATIO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5254-2BBF-4112-9E46-2494133D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thank Jan Medved, Cyril Margaria for their valuable con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08AF-6335-4D10-9F78-5953E6B3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080" y="2071800"/>
            <a:ext cx="83232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985A-C0A6-4D7F-BE26-1ECEAC544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娟</cp:lastModifiedBy>
  <dcterms:modified xsi:type="dcterms:W3CDTF">2011-11-16T04:21:56Z</dcterms:modified>
  <cp:revision>1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