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55C-334C-442A-BFA4-DDC3A11E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A95-5CA8-4914-BB19-069BBD0C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53E-9018-4EAD-A876-618471E1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D36-66FA-4934-83F5-EC15BA16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B6C-7D3E-4F26-9674-3D788A60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350B-FA30-422A-8EF2-4D5235BF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4F54-26FC-41CD-B341-B32594C0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003-5464-4521-B1D2-24A11528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5B6-CA51-4755-88AE-DDD2E28F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FE19-EB22-4BB6-AA71-90A94068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FE0-3014-432C-97D4-AD29238F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040-3DFB-4674-A4D0-3B693923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th Mar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th IETF @ Pra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C144-BE95-46C7-8EC2-2B6C71E8F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hruv.dhody@huawei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Extensions to the PCEP to compute service aware LS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2743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dhody-pce-pcep-service-a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838080" y="4648320"/>
            <a:ext cx="7696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hruv Dhody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dhruv.dhody@huawei.com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Vishwas Manral (vishwas.manral@hp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Many service providers SLA depends on performance metrics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Latency (de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Latency-Variation (jitt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Packet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mportant Applications/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Electronic Financial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High Performance computing on Clo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Moving forward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ndara"/>
              </a:rPr>
              <a:t>service aware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WAN will become more and more crit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Extension to PCEP to support Latency, Latency-variation and Loss as constraints for end to end path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Requirement for PC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57200" y="121932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CE have capability to compute end-to-end path with latency, latency-       variation and packet loss constrai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In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Combination with other constra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CC able to request new constraints in PC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Key constraint to be optim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Boundary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Non-Supporting Service aware 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CE returns end-to-end value of the computed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CEP should handle multiple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PCEP Ext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57200" y="43434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Three new metric types are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* T=13(IANA): end-to-end Latency (delay) 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* T=14(IANA): end-to-end Latency-Variation (Jitter) 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* T=15(IANA): end-to-end Packet Loss 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33520" y="1066680"/>
            <a:ext cx="8229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 per [RFC5440] the format of the METRIC object body is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Reserved             |    Flags  |C|B|       T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metric-value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 (Type - 8 bits):  Specifies the metric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 values are currently defi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  T=1: IGP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  T=2: TE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  T=3: Hop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PCEP Ext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" y="3505320"/>
            <a:ext cx="8229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ndara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f a PCC sends a path computation request to a PCE where the metric to optimize is the latency and the packet loss must not exceed the value of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o  First METRIC object with B=0, T=13, C=1, metric-value=0x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o  Second METRIC object with B=1, T=15, metric-value=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33520" y="137160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 explained in [RFC5440], The METRIC object is optional and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d for several purposes.  In a PCReq message, a PCC MAY inse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 more METRIC ob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  To indicate the metric that MUST be optimized by the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utation algorithm (Latency, Latency-Variation or Lo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  To indicate a bound on the path METRIC (Latency, Latency-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 Loss) that MUST NOT be exceeded for the path to be consid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 acceptable by the PC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Related wor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219320"/>
          <a:ext cx="8381880" cy="3844800"/>
        </p:xfrm>
        <a:graphic>
          <a:graphicData uri="http://schemas.openxmlformats.org/drawingml/2006/table">
            <a:tbl>
              <a:tblPr/>
              <a:tblGrid>
                <a:gridCol w="1219320"/>
                <a:gridCol w="2361960"/>
                <a:gridCol w="480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W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Deta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P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FC 63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acket Loss and Delay Measurement for MPLS Net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raft-ietf-mpls-tp-loss-delay-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acket Loss and Delay Measurement for MPLS Transport Pro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raft-fuxh-mpls-delay-loss-rsvp-te-ext-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SVP-TE extensions for services aware MP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SP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raft-giacalone-ospf-te-express-path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SPF Traffic Engineering (TE) Express Pat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raft-previdi-isis-te-metric-extensions-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S-IS Traffic Engineering (TE) Metric Exten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CA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raft-fuxh-ccamp-delay-loss-te-frame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ramework for latency and loss traffic engineering 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Continue analysi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nter-Domain (especially Inter-as-lin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Multi-Lay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Re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olicy Consi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2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Managebility and security considerations needs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Questions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&amp;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d70584</dc:creator>
  <dc:description/>
  <dc:language>en-US</dc:language>
  <cp:lastModifiedBy>d70584</cp:lastModifiedBy>
  <dcterms:modified xsi:type="dcterms:W3CDTF">2011-11-02T04:17:32Z</dcterms:modified>
  <cp:revision>66</cp:revision>
  <dc:subject/>
  <dc:title>PCEP-P2MP-MI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vAjLXQLByHypPjfuyX7F5VPlQOB8PS6dPBIzjyGydcEJjdy7puAEgZkgOCYcEKPkFI+RA0tD
FwczZaWH+eiOiL0f+lg2O9muWmj/JCigEBAZ4tNel/9LhRj771o6Cj2Mhr6XJkqyvC/d4HYN
Ejp3MsvygNQbQSIDyh446hqNDGC+KME7NRK/OhpnD7BnYNQd5LXkEXS/AKYcnysA38D3ljvo
+lYfq5svoDJRJb3U4OC81</vt:lpwstr>
  </property>
  <property fmtid="{D5CDD505-2E9C-101B-9397-08002B2CF9AE}" pid="3" name="_ms_pID_7253431">
    <vt:lpwstr>j32nTWo+wFx+oOGp45Gszql72q+rY6lZd1DytK0vhhE8F0ZW8Eq
rT6D3HOb4kSivDdjNUe4I+ZxgIx0ZlAoArjJMY2anmBPyEmlU9EyR3HrBd2DMyGdogkYPf7F
HU0K2LESHf7ptyv1oANdn+llY1VWytWg5pOxCAbrUNpmn2l0rlrR8pDvAa/GovLRstU=</vt:lpwstr>
  </property>
  <property fmtid="{D5CDD505-2E9C-101B-9397-08002B2CF9AE}" pid="4" name="sflag">
    <vt:lpwstr>1320207351</vt:lpwstr>
  </property>
</Properties>
</file>