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898F-2C25-4394-BE32-2090567E3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B14E-2616-4FF4-AA03-2FC05A042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1E19-68BD-4B7D-B177-1140FEE7A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320F-3482-413D-95ED-0BB3427679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9136-70F3-4F70-B395-8EF04A094B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EA70-AA4B-457F-B168-2749B4C75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4517-0D41-43B9-832F-6AB8A3C70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A8F4-0A4D-4417-833A-F9C4FF8D2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2B64-A20D-4E59-B79E-3432890A6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8097-A0D7-4AF6-801C-7A1B42540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76F4-1EBC-4032-8620-9AE7A4FAF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5EBB-7A2C-49F7-B84E-26AA7D0D1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579E-3E31-4B5C-A191-364098D4A1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uaimochen@huawei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3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3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3.wmf"/><Relationship Id="rId22" Type="http://schemas.openxmlformats.org/officeDocument/2006/relationships/image" Target="../media/image5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3300"/>
                </a:solidFill>
                <a:uFillTx/>
                <a:latin typeface="Candara"/>
              </a:rPr>
              <a:t>Extensions to PCEP for Backup Ingress and Egress of L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draft-chen-pce-compute-backup-i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draft-chen-pce-compute-backup-e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5105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Huaimo Chen (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huaimochen@huawei.com</a:t>
            </a: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Cyril Margaria (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Candara"/>
              </a:rPr>
              <a:t>cyril.margaria@nsn.com</a:t>
            </a: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Candara"/>
              </a:rPr>
              <a:t>draft-chen-pce-compute-backup-ing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03 just posted, looks 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jor change needs revie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ource Node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1: New External Source Node (ESN)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N Object Body (IPv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657600"/>
            <a:ext cx="6858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37339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source node IPv4 address (4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495680"/>
            <a:ext cx="7924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Option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Existing END-POINTS with new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5029200"/>
            <a:ext cx="6858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5105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(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55627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source node IPv4 address (4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Candara"/>
              </a:rPr>
              <a:t>draft-chen-pce-compute-backup-eg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03 just posted, looks 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jor change needs revie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Destination Node (EDN)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1: ED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N Object Body (IPv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438280"/>
            <a:ext cx="373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Option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END-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ND-POINTS Object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24080"/>
            <a:ext cx="4495680" cy="358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81280"/>
            <a:ext cx="449568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24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 of External Destination Node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7242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9625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343400"/>
            <a:ext cx="449568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581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962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 Destination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8006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 Destination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3341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3244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9436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324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 Destination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3434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181480"/>
            <a:ext cx="449568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3124080"/>
            <a:ext cx="4191120" cy="358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581280"/>
            <a:ext cx="4191120" cy="18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31240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Destination Nodes Type (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4724280"/>
            <a:ext cx="4191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3962520"/>
            <a:ext cx="4191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4343400"/>
            <a:ext cx="4191120" cy="144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581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3962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 Destination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48006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 Destination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5334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6324480"/>
            <a:ext cx="4191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5943600"/>
            <a:ext cx="4191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 Destination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43434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5181480"/>
            <a:ext cx="4191120" cy="18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ndara"/>
              </a:rPr>
              <a:t>Welcome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Request to make it into a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06400" y="1839960"/>
            <a:ext cx="4573800" cy="3052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9920" y="1397160"/>
            <a:ext cx="1614600" cy="184284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81720" y="3913200"/>
            <a:ext cx="120816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820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129360" y="1928880"/>
            <a:ext cx="1395360" cy="1218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2MP LSP Ingress &amp; Egress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ocal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772400" y="1981080"/>
          <a:ext cx="244440" cy="55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1981080"/>
                    <a:ext cx="24444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00708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8247240" y="2517840"/>
            <a:ext cx="277560" cy="26676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6858000" y="2514600"/>
            <a:ext cx="609120" cy="390240"/>
            <a:chOff x="6858000" y="2514600"/>
            <a:chExt cx="609120" cy="390240"/>
          </a:xfrm>
        </p:grpSpPr>
        <p:sp>
          <p:nvSpPr>
            <p:cNvPr id="99" name=""/>
            <p:cNvSpPr/>
            <p:nvPr/>
          </p:nvSpPr>
          <p:spPr>
            <a:xfrm>
              <a:off x="6858000" y="2624040"/>
              <a:ext cx="60912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262404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0" y="251460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67240" y="254664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67240" y="254664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50160" y="26240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50160" y="26240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60960" y="254088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60960" y="254088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0040" y="26312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0040" y="26312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73000" y="255024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73000" y="255024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55560" y="262728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55560" y="262728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64560" y="25466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64560" y="25466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3640" y="26352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63640" y="26352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870600" y="1839960"/>
            <a:ext cx="609480" cy="391680"/>
            <a:chOff x="6870600" y="1839960"/>
            <a:chExt cx="609480" cy="391680"/>
          </a:xfrm>
        </p:grpSpPr>
        <p:sp>
          <p:nvSpPr>
            <p:cNvPr id="119" name=""/>
            <p:cNvSpPr/>
            <p:nvPr/>
          </p:nvSpPr>
          <p:spPr>
            <a:xfrm>
              <a:off x="6870600" y="1949760"/>
              <a:ext cx="609480" cy="281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70600" y="194976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70600" y="1839960"/>
              <a:ext cx="608040" cy="2134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79840" y="1872000"/>
              <a:ext cx="2008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79840" y="1872000"/>
              <a:ext cx="2008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62760" y="1949760"/>
              <a:ext cx="20088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62760" y="1949760"/>
              <a:ext cx="20088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73560" y="186624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73560" y="186624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72640" y="195696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2640" y="195696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85600" y="1875960"/>
              <a:ext cx="196560" cy="676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85600" y="1875960"/>
              <a:ext cx="196560" cy="676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68160" y="1953000"/>
              <a:ext cx="198720" cy="72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68160" y="1953000"/>
              <a:ext cx="198720" cy="72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77520" y="1872000"/>
              <a:ext cx="1990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77520" y="1872000"/>
              <a:ext cx="1990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76600" y="196092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76600" y="196092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157800" y="4238640"/>
            <a:ext cx="610920" cy="388440"/>
            <a:chOff x="6157800" y="4238640"/>
            <a:chExt cx="610920" cy="388440"/>
          </a:xfrm>
        </p:grpSpPr>
        <p:sp>
          <p:nvSpPr>
            <p:cNvPr id="139" name=""/>
            <p:cNvSpPr/>
            <p:nvPr/>
          </p:nvSpPr>
          <p:spPr>
            <a:xfrm>
              <a:off x="6157800" y="4347360"/>
              <a:ext cx="6109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7800" y="4347360"/>
              <a:ext cx="6109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57800" y="4238640"/>
              <a:ext cx="6094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67760" y="4270320"/>
              <a:ext cx="2012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67760" y="4270320"/>
              <a:ext cx="2012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50320" y="4347360"/>
              <a:ext cx="20124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50320" y="4347360"/>
              <a:ext cx="20124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61120" y="4264920"/>
              <a:ext cx="19944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61120" y="4264920"/>
              <a:ext cx="19944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60560" y="435456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60560" y="435456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73520" y="4274280"/>
              <a:ext cx="19692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73520" y="4274280"/>
              <a:ext cx="19692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55720" y="4350960"/>
              <a:ext cx="1990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55720" y="4350960"/>
              <a:ext cx="1990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64720" y="4270320"/>
              <a:ext cx="1994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4720" y="4270320"/>
              <a:ext cx="1994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64520" y="435852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64520" y="435852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8310600" y="1397160"/>
            <a:ext cx="277920" cy="266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8459640" y="2104920"/>
            <a:ext cx="279720" cy="26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8534520" y="281952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8182080" y="1758960"/>
            <a:ext cx="277560" cy="266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7829640" y="152100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7132680" y="1530000"/>
            <a:ext cx="4824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940520" y="227124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02520" y="213984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848720" y="2590920"/>
          <a:ext cx="298440" cy="633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848720" y="2590920"/>
                    <a:ext cx="2984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7564320" y="1212840"/>
          <a:ext cx="287280" cy="633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564320" y="121284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7864560" y="5253120"/>
          <a:ext cx="287280" cy="633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864560" y="5253120"/>
                    <a:ext cx="287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7864560" y="3841920"/>
          <a:ext cx="287280" cy="631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864560" y="3841920"/>
                    <a:ext cx="287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864560" y="4565520"/>
          <a:ext cx="287280" cy="633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864560" y="456552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 flipV="1">
            <a:off x="7315200" y="2819520"/>
            <a:ext cx="5176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8136000" y="416052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8120160" y="555624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8001000" y="297180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4908600"/>
            <a:ext cx="4870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633240"/>
            <a:ext cx="9144000" cy="58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2"/>
          <a:stretch/>
        </p:blipFill>
        <p:spPr>
          <a:xfrm>
            <a:off x="27288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8960" y="205740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21320" y="57456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76200" y="2782800"/>
            <a:ext cx="158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967200">
            <a:off x="5559840" y="400032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85880" y="2878200"/>
            <a:ext cx="607680" cy="388440"/>
            <a:chOff x="785880" y="2878200"/>
            <a:chExt cx="607680" cy="388440"/>
          </a:xfrm>
        </p:grpSpPr>
        <p:sp>
          <p:nvSpPr>
            <p:cNvPr id="188" name=""/>
            <p:cNvSpPr/>
            <p:nvPr/>
          </p:nvSpPr>
          <p:spPr>
            <a:xfrm>
              <a:off x="785880" y="298692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5880" y="298692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5880" y="2878200"/>
              <a:ext cx="6062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94400" y="290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94400" y="290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7680" y="298692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77680" y="298692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88480" y="290448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88480" y="290448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87200" y="29941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87200" y="29941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00160" y="291384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00160" y="291384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83080" y="29905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83080" y="29905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92440" y="290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92440" y="290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90800" y="2998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90800" y="2998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979560" y="3700440"/>
            <a:ext cx="609120" cy="390240"/>
            <a:chOff x="979560" y="3700440"/>
            <a:chExt cx="609120" cy="390240"/>
          </a:xfrm>
        </p:grpSpPr>
        <p:sp>
          <p:nvSpPr>
            <p:cNvPr id="208" name=""/>
            <p:cNvSpPr/>
            <p:nvPr/>
          </p:nvSpPr>
          <p:spPr>
            <a:xfrm>
              <a:off x="979560" y="3809880"/>
              <a:ext cx="60912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79560" y="380988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79560" y="370044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88800" y="3732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88800" y="3732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71720" y="380988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71720" y="380988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825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825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81600" y="3817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81600" y="3817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945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45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77120" y="381312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77120" y="381312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612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8612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85200" y="3821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85200" y="3821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764400" y="4853160"/>
            <a:ext cx="609120" cy="389520"/>
            <a:chOff x="6764400" y="4853160"/>
            <a:chExt cx="609120" cy="389520"/>
          </a:xfrm>
        </p:grpSpPr>
        <p:sp>
          <p:nvSpPr>
            <p:cNvPr id="228" name=""/>
            <p:cNvSpPr/>
            <p:nvPr/>
          </p:nvSpPr>
          <p:spPr>
            <a:xfrm>
              <a:off x="6764400" y="4962240"/>
              <a:ext cx="609120" cy="2804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64400" y="496224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64400" y="485316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73640" y="48852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73640" y="48852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56560" y="49622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56560" y="49622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67360" y="487944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67360" y="487944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66440" y="4969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66440" y="4969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79400" y="488880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79400" y="488880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61960" y="496584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61960" y="496584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0960" y="48852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70960" y="48852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70040" y="49734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70040" y="49734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934320" y="3809880"/>
            <a:ext cx="607680" cy="388800"/>
            <a:chOff x="6934320" y="3809880"/>
            <a:chExt cx="607680" cy="388800"/>
          </a:xfrm>
        </p:grpSpPr>
        <p:sp>
          <p:nvSpPr>
            <p:cNvPr id="248" name=""/>
            <p:cNvSpPr/>
            <p:nvPr/>
          </p:nvSpPr>
          <p:spPr>
            <a:xfrm>
              <a:off x="6934320" y="391896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34320" y="391896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34320" y="3809880"/>
              <a:ext cx="60624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42840" y="384156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42840" y="384156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26120" y="391896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26120" y="391896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36920" y="383616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6920" y="383616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35640" y="39261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35640" y="39261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48600" y="384552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48600" y="384552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31520" y="392220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31520" y="392220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40880" y="384156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40880" y="384156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39240" y="39297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39240" y="39297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7067520" y="4317840"/>
            <a:ext cx="607680" cy="390240"/>
            <a:chOff x="7067520" y="4317840"/>
            <a:chExt cx="607680" cy="390240"/>
          </a:xfrm>
        </p:grpSpPr>
        <p:sp>
          <p:nvSpPr>
            <p:cNvPr id="268" name=""/>
            <p:cNvSpPr/>
            <p:nvPr/>
          </p:nvSpPr>
          <p:spPr>
            <a:xfrm>
              <a:off x="7067520" y="4427280"/>
              <a:ext cx="60768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67520" y="44272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67520" y="4317840"/>
              <a:ext cx="6062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76040" y="434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76040" y="434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59320" y="4427280"/>
              <a:ext cx="2001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59320" y="4427280"/>
              <a:ext cx="2001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70120" y="434412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70120" y="434412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68840" y="44344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68840" y="44344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81800" y="435348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81800" y="435348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64720" y="4430520"/>
              <a:ext cx="19800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64720" y="4430520"/>
              <a:ext cx="19800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74080" y="434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74080" y="434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72440" y="44384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72440" y="44384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7343640" y="4198680"/>
            <a:ext cx="5191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59480" y="449892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54720" y="466416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8904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39720" y="26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35640" y="48690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19640" y="35733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25640" y="35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5392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57800" y="405612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29200" y="223992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0664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5562720"/>
            <a:ext cx="51055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olu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ne P2MP LSP for all: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Every part locally pro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Big resource sav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Faster failure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3"/>
          <a:stretch/>
        </p:blipFill>
        <p:spPr>
          <a:xfrm>
            <a:off x="8388360" y="40323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4"/>
          <a:stretch/>
        </p:blipFill>
        <p:spPr>
          <a:xfrm>
            <a:off x="8461440" y="476892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5"/>
          <a:stretch/>
        </p:blipFill>
        <p:spPr>
          <a:xfrm>
            <a:off x="8423280" y="5423040"/>
            <a:ext cx="279360" cy="2664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791320" y="64771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1320" y="617076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77120" y="5943600"/>
            <a:ext cx="152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78200" y="6324480"/>
            <a:ext cx="143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919840" y="2341440"/>
            <a:ext cx="553680" cy="342720"/>
            <a:chOff x="5919840" y="2341440"/>
            <a:chExt cx="553680" cy="342720"/>
          </a:xfrm>
        </p:grpSpPr>
        <p:sp>
          <p:nvSpPr>
            <p:cNvPr id="308" name=""/>
            <p:cNvSpPr/>
            <p:nvPr/>
          </p:nvSpPr>
          <p:spPr>
            <a:xfrm>
              <a:off x="5919840" y="2437560"/>
              <a:ext cx="553680" cy="2466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19840" y="2437560"/>
              <a:ext cx="553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19840" y="2341440"/>
              <a:ext cx="552240" cy="1868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01000" y="2369520"/>
              <a:ext cx="1825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1000" y="2369520"/>
              <a:ext cx="1825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03360" y="2437560"/>
              <a:ext cx="182520" cy="62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03360" y="2437560"/>
              <a:ext cx="182520" cy="62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13440" y="2364480"/>
              <a:ext cx="180720" cy="59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3440" y="2364480"/>
              <a:ext cx="180720" cy="59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94520" y="24436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94520" y="24436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06040" y="2372760"/>
              <a:ext cx="178560" cy="5904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06040" y="2372760"/>
              <a:ext cx="178560" cy="5904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08400" y="2440440"/>
              <a:ext cx="180360" cy="63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08400" y="2440440"/>
              <a:ext cx="180360" cy="63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6680" y="2369520"/>
              <a:ext cx="1807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6680" y="2369520"/>
              <a:ext cx="1807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97760" y="24472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97760" y="24472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 flipV="1">
            <a:off x="5468760" y="2588760"/>
            <a:ext cx="73692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23040" y="2171880"/>
            <a:ext cx="782640" cy="234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18080" y="2279520"/>
            <a:ext cx="74520" cy="227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67200">
            <a:off x="5592240" y="2106720"/>
            <a:ext cx="4636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73760" y="193032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79880" y="252720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34040" y="2219400"/>
            <a:ext cx="4906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23040" y="2279520"/>
            <a:ext cx="76176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9200" y="2476440"/>
            <a:ext cx="92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(S,G)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592600" y="2669760"/>
            <a:ext cx="168480" cy="252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4059200">
            <a:off x="4726800" y="2405520"/>
            <a:ext cx="380880" cy="131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10240" y="1522440"/>
            <a:ext cx="588960" cy="380880"/>
          </a:xfrm>
          <a:prstGeom prst="wedgeRoundRectCallout">
            <a:avLst>
              <a:gd name="adj1" fmla="val -39703"/>
              <a:gd name="adj2" fmla="val 16543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5400" y="1835280"/>
            <a:ext cx="168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762120"/>
            <a:ext cx="70866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Existing solution: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ingress and every e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two global P2MP LSP from each ingress to egresses, carrying data at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219640" y="3789360"/>
            <a:ext cx="555840" cy="490320"/>
            <a:chOff x="5219640" y="3789360"/>
            <a:chExt cx="555840" cy="490320"/>
          </a:xfrm>
        </p:grpSpPr>
        <p:sp>
          <p:nvSpPr>
            <p:cNvPr id="342" name=""/>
            <p:cNvSpPr/>
            <p:nvPr/>
          </p:nvSpPr>
          <p:spPr>
            <a:xfrm>
              <a:off x="5219640" y="4042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19640" y="3881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21800" y="3881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39080" y="3895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19640" y="3950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19640" y="3791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21800" y="3789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39080" y="3803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18280" y="3862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09640" y="3854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348000" y="3789360"/>
            <a:ext cx="555840" cy="490320"/>
            <a:chOff x="3348000" y="3789360"/>
            <a:chExt cx="555840" cy="490320"/>
          </a:xfrm>
        </p:grpSpPr>
        <p:sp>
          <p:nvSpPr>
            <p:cNvPr id="353" name=""/>
            <p:cNvSpPr/>
            <p:nvPr/>
          </p:nvSpPr>
          <p:spPr>
            <a:xfrm>
              <a:off x="3348000" y="4042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48000" y="3881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50160" y="3881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67440" y="3895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48000" y="3950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348000" y="3791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50160" y="3789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7440" y="3803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6640" y="3862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38000" y="3854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276720" y="2781360"/>
            <a:ext cx="555480" cy="490320"/>
            <a:chOff x="3276720" y="2781360"/>
            <a:chExt cx="555480" cy="490320"/>
          </a:xfrm>
        </p:grpSpPr>
        <p:sp>
          <p:nvSpPr>
            <p:cNvPr id="364" name=""/>
            <p:cNvSpPr/>
            <p:nvPr/>
          </p:nvSpPr>
          <p:spPr>
            <a:xfrm>
              <a:off x="327672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7672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7888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9616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7672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7672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7888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9616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7536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6672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356000" y="2421000"/>
            <a:ext cx="555840" cy="490320"/>
            <a:chOff x="4356000" y="2421000"/>
            <a:chExt cx="555840" cy="490320"/>
          </a:xfrm>
        </p:grpSpPr>
        <p:sp>
          <p:nvSpPr>
            <p:cNvPr id="375" name=""/>
            <p:cNvSpPr/>
            <p:nvPr/>
          </p:nvSpPr>
          <p:spPr>
            <a:xfrm>
              <a:off x="4356000" y="267444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56000" y="25128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58160" y="25128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75440" y="25272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56000" y="258228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56000" y="24228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58160" y="24210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75440" y="243504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54640" y="249444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6000" y="248616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284720" y="4076640"/>
            <a:ext cx="555480" cy="490320"/>
            <a:chOff x="4284720" y="4076640"/>
            <a:chExt cx="555480" cy="490320"/>
          </a:xfrm>
        </p:grpSpPr>
        <p:sp>
          <p:nvSpPr>
            <p:cNvPr id="386" name=""/>
            <p:cNvSpPr/>
            <p:nvPr/>
          </p:nvSpPr>
          <p:spPr>
            <a:xfrm>
              <a:off x="4284720" y="4330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84720" y="4168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86880" y="4168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04160" y="4182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84720" y="4237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84720" y="4078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86880" y="4076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04160" y="4090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83360" y="4150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74720" y="4141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5148360" y="4437000"/>
            <a:ext cx="555480" cy="490320"/>
            <a:chOff x="5148360" y="4437000"/>
            <a:chExt cx="555480" cy="490320"/>
          </a:xfrm>
        </p:grpSpPr>
        <p:sp>
          <p:nvSpPr>
            <p:cNvPr id="397" name=""/>
            <p:cNvSpPr/>
            <p:nvPr/>
          </p:nvSpPr>
          <p:spPr>
            <a:xfrm>
              <a:off x="5148360" y="4690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48360" y="4528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50520" y="4528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67800" y="4543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48360" y="4598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48360" y="4438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50520" y="4437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67800" y="4451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47000" y="4510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38360" y="4502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437000" y="423864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52920" y="4492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443480" y="4090680"/>
            <a:ext cx="97308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706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68840" y="2666520"/>
            <a:ext cx="811080" cy="2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38680" y="40766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076720" y="2133720"/>
            <a:ext cx="555840" cy="490320"/>
            <a:chOff x="5076720" y="2133720"/>
            <a:chExt cx="555840" cy="490320"/>
          </a:xfrm>
        </p:grpSpPr>
        <p:sp>
          <p:nvSpPr>
            <p:cNvPr id="414" name=""/>
            <p:cNvSpPr/>
            <p:nvPr/>
          </p:nvSpPr>
          <p:spPr>
            <a:xfrm>
              <a:off x="5076720" y="2387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76720" y="22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78880" y="2225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96160" y="2239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76720" y="2295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76720" y="21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78880" y="2133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96160" y="2147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75360" y="2207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66720" y="2198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076720" y="2708280"/>
            <a:ext cx="555840" cy="490320"/>
            <a:chOff x="5076720" y="2708280"/>
            <a:chExt cx="555840" cy="490320"/>
          </a:xfrm>
        </p:grpSpPr>
        <p:sp>
          <p:nvSpPr>
            <p:cNvPr id="425" name=""/>
            <p:cNvSpPr/>
            <p:nvPr/>
          </p:nvSpPr>
          <p:spPr>
            <a:xfrm>
              <a:off x="5076720" y="2961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76720" y="2800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78880" y="2800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96160" y="2814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76720" y="2869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76720" y="2710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78880" y="2708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96160" y="2722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75360" y="2781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66720" y="2773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4624560" y="2660760"/>
            <a:ext cx="722160" cy="203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624560" y="2247480"/>
            <a:ext cx="722160" cy="41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2395200">
            <a:off x="5245200" y="2027160"/>
            <a:ext cx="207720" cy="2923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495760" y="2539800"/>
            <a:ext cx="655920" cy="31572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692360" y="2852640"/>
            <a:ext cx="555480" cy="490320"/>
            <a:chOff x="1692360" y="2852640"/>
            <a:chExt cx="555480" cy="490320"/>
          </a:xfrm>
        </p:grpSpPr>
        <p:sp>
          <p:nvSpPr>
            <p:cNvPr id="440" name=""/>
            <p:cNvSpPr/>
            <p:nvPr/>
          </p:nvSpPr>
          <p:spPr>
            <a:xfrm>
              <a:off x="1692360" y="3106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92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94520" y="2944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11800" y="2958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92360" y="3013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92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94520" y="2852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11800" y="2866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91000" y="2926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82360" y="2917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763640" y="3716280"/>
            <a:ext cx="555840" cy="490320"/>
            <a:chOff x="1763640" y="3716280"/>
            <a:chExt cx="555840" cy="490320"/>
          </a:xfrm>
        </p:grpSpPr>
        <p:sp>
          <p:nvSpPr>
            <p:cNvPr id="451" name=""/>
            <p:cNvSpPr/>
            <p:nvPr/>
          </p:nvSpPr>
          <p:spPr>
            <a:xfrm>
              <a:off x="176364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63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6580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8308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6364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63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6580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8308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6228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5364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627280" y="3213000"/>
            <a:ext cx="555480" cy="490320"/>
            <a:chOff x="2627280" y="3213000"/>
            <a:chExt cx="555480" cy="490320"/>
          </a:xfrm>
        </p:grpSpPr>
        <p:sp>
          <p:nvSpPr>
            <p:cNvPr id="462" name=""/>
            <p:cNvSpPr/>
            <p:nvPr/>
          </p:nvSpPr>
          <p:spPr>
            <a:xfrm>
              <a:off x="2627280" y="3466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27280" y="3304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29440" y="3304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646720" y="3319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627280" y="3374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27280" y="3214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29440" y="3213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46720" y="3227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25920" y="3286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17280" y="3278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 flipV="1">
            <a:off x="2855880" y="3034800"/>
            <a:ext cx="600120" cy="44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55880" y="347832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86120" y="3024360"/>
            <a:ext cx="86976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78000" y="3938760"/>
            <a:ext cx="6350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69840" y="3059280"/>
            <a:ext cx="7826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2395200">
            <a:off x="1803240" y="27432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00200" y="2590920"/>
            <a:ext cx="1374840" cy="171612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987640" y="2205000"/>
            <a:ext cx="555840" cy="490320"/>
            <a:chOff x="2987640" y="2205000"/>
            <a:chExt cx="555840" cy="490320"/>
          </a:xfrm>
        </p:grpSpPr>
        <p:sp>
          <p:nvSpPr>
            <p:cNvPr id="480" name=""/>
            <p:cNvSpPr/>
            <p:nvPr/>
          </p:nvSpPr>
          <p:spPr>
            <a:xfrm>
              <a:off x="2987640" y="245844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87640" y="22968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89800" y="22968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07080" y="23112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87640" y="236628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87640" y="22068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89800" y="220500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07080" y="221904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86280" y="227844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77640" y="227016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 flipV="1">
            <a:off x="2870280" y="2514600"/>
            <a:ext cx="3045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438280" y="3809880"/>
            <a:ext cx="555840" cy="490320"/>
            <a:chOff x="2438280" y="3809880"/>
            <a:chExt cx="555840" cy="490320"/>
          </a:xfrm>
        </p:grpSpPr>
        <p:sp>
          <p:nvSpPr>
            <p:cNvPr id="492" name=""/>
            <p:cNvSpPr/>
            <p:nvPr/>
          </p:nvSpPr>
          <p:spPr>
            <a:xfrm>
              <a:off x="2438280" y="40633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38280" y="39016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440440" y="39016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7720" y="39160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38280" y="39711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38280" y="38116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40440" y="38098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57720" y="38239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36920" y="38833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28280" y="38750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 flipV="1">
            <a:off x="2643120" y="3428640"/>
            <a:ext cx="22716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86120" y="3938760"/>
            <a:ext cx="73152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2280" y="4495680"/>
            <a:ext cx="1371600" cy="533520"/>
          </a:xfrm>
          <a:prstGeom prst="wedgeRoundRectCallout">
            <a:avLst>
              <a:gd name="adj1" fmla="val 24537"/>
              <a:gd name="adj2" fmla="val -14106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ource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4724280"/>
            <a:ext cx="1371600" cy="533520"/>
          </a:xfrm>
          <a:prstGeom prst="wedgeRoundRectCallout">
            <a:avLst>
              <a:gd name="adj1" fmla="val -48495"/>
              <a:gd name="adj2" fmla="val -1782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Ingress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3200400"/>
            <a:ext cx="1600200" cy="533520"/>
          </a:xfrm>
          <a:prstGeom prst="wedgeRoundRectCallout">
            <a:avLst>
              <a:gd name="adj1" fmla="val -91865"/>
              <a:gd name="adj2" fmla="val -7262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Egress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5105520"/>
            <a:ext cx="1600200" cy="533160"/>
          </a:xfrm>
          <a:prstGeom prst="wedgeRoundRectCallout">
            <a:avLst>
              <a:gd name="adj1" fmla="val 31546"/>
              <a:gd name="adj2" fmla="val -1625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Destination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14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hc</dc:creator>
  <dc:description/>
  <dc:language>en-US</dc:language>
  <cp:lastModifiedBy>C73676</cp:lastModifiedBy>
  <dcterms:modified xsi:type="dcterms:W3CDTF">2011-11-10T19:45:44Z</dcterms:modified>
  <cp:revision>196</cp:revision>
  <dc:subject/>
  <dc:title>PCE-Backup-I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7xd1nYWBLHWrMW3ho3HfHYwWs3GXV3ujdpMSrDMY0gk5m/jSukrLASsXI2sbyu/FGhhX0myl
pbtv1C8ARDpTIEdtvsfX6mxGNqr393IVj1/aVfz2uaa67lwpFSt5glP+spFgIuXO4sZq41qh
ihnF0WgKmmeUyQblH5wTVPFLcmBet75zRyh1sSn5OpIoTfGn8DF2a4SbaEIRvMgkFOqdNQq2
DywsN2VVVLjDSj9FdzUUf</vt:lpwstr>
  </property>
  <property fmtid="{D5CDD505-2E9C-101B-9397-08002B2CF9AE}" pid="3" name="_ms_pID_7253431">
    <vt:lpwstr>gxYWPMMEJciW0qJszwLSwvF2T0FndtW5jnWMaeCaih31Lkguk1M
8j6DtYm3R0OHCiu7dgz936Hy0tyVYMQLC7VMK7Z4N/XFHcF7KtYly3SMl9LQXt5wexVUe5Qp
Se1eXs4GVdqAehxImAXTy+ZHjTO4E33FKWcbdH9xBkh3eA==</vt:lpwstr>
  </property>
  <property fmtid="{D5CDD505-2E9C-101B-9397-08002B2CF9AE}" pid="4" name="sflag">
    <vt:lpwstr>1320954193</vt:lpwstr>
  </property>
</Properties>
</file>