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250-CDA7-4D4A-98E5-756E49A3F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78AF-CBFD-483F-A3CF-84C47E8FF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042B-409E-4999-A113-C56D63E93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9FE9-7BD6-493C-AFFF-9BB6FEA92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C976-5A2C-4BB7-98CD-F2896D1FE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1610-B3F8-4976-A343-B84D3D33F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026-E539-41E2-9416-18CD56B3A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3830-F1BD-462E-8A14-31119D88D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4856-A086-44B6-8E9E-727A0D89C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9E82-F55C-4ABC-A908-769D91B5F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F925-FA57-481C-B3C3-D3B00BF5F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46BF-4DC8-41A9-B317-C6BA4AAB4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3515-140F-44EE-8A8B-79B00A41C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3.wmf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Extensions to PCEP for Backup Ingress and Egress of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draft-chen-pce-compute-backup-i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draft-chen-pce-compute-backup-e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Cyril Margaria (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ndara"/>
              </a:rPr>
              <a:t>cyril.margaria@nsn.com</a:t>
            </a:r>
            <a:r>
              <a:rPr b="0" lang="zh-CN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Candara"/>
              </a:rPr>
              <a:t>draft-chen-pce-compute-backup-i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3 just posted, look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nge needs 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ource Nod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: New External Source Node (ESN)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N Object Body (IP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657600"/>
            <a:ext cx="6858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source node IPv4 address (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495680"/>
            <a:ext cx="7924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Op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xisting END-POINTS with new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502920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105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source node IPv4 address (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Candara"/>
              </a:rPr>
              <a:t>draft-chen-pce-compute-backup-e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3 just posted, looks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nge needs 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Destination Node (EDN)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: ED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N Object Body (IPv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43828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Op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ND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ND-POINTS Object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24080"/>
            <a:ext cx="449568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of External Destination Node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62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4340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8006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41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244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943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324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181480"/>
            <a:ext cx="44956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124080"/>
            <a:ext cx="4191120" cy="358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581280"/>
            <a:ext cx="4191120" cy="1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124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Destination Nodes Type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724280"/>
            <a:ext cx="419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96252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343400"/>
            <a:ext cx="4191120" cy="14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962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8006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6324480"/>
            <a:ext cx="419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 Destination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181480"/>
            <a:ext cx="4191120" cy="18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1981080"/>
          <a:ext cx="244440" cy="5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1981080"/>
                    <a:ext cx="24444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858000" y="2514600"/>
            <a:ext cx="609120" cy="390240"/>
            <a:chOff x="6858000" y="2514600"/>
            <a:chExt cx="609120" cy="390240"/>
          </a:xfrm>
        </p:grpSpPr>
        <p:sp>
          <p:nvSpPr>
            <p:cNvPr id="99" name=""/>
            <p:cNvSpPr/>
            <p:nvPr/>
          </p:nvSpPr>
          <p:spPr>
            <a:xfrm>
              <a:off x="6858000" y="262404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26240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0" y="251460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7240" y="25466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7240" y="254664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50160" y="26240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0160" y="26240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60960" y="25408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60960" y="25408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0040" y="26312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0040" y="26312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73000" y="25502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3000" y="25502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55560" y="262728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55560" y="262728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64560" y="25466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64560" y="25466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3640" y="2635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3640" y="2635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119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39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8534520" y="281952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848720" y="2590920"/>
          <a:ext cx="298440" cy="63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259092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flipV="1">
            <a:off x="7315200" y="2819520"/>
            <a:ext cx="5176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001000" y="297180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2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960" y="2057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88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208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228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934320" y="3809880"/>
            <a:ext cx="607680" cy="388800"/>
            <a:chOff x="6934320" y="3809880"/>
            <a:chExt cx="607680" cy="388800"/>
          </a:xfrm>
        </p:grpSpPr>
        <p:sp>
          <p:nvSpPr>
            <p:cNvPr id="248" name=""/>
            <p:cNvSpPr/>
            <p:nvPr/>
          </p:nvSpPr>
          <p:spPr>
            <a:xfrm>
              <a:off x="6934320" y="391896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34320" y="391896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4320" y="380988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2840" y="384156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2840" y="384156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26120" y="39189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6120" y="39189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6920" y="383616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920" y="383616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5640" y="39261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5640" y="39261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8600" y="384552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8600" y="384552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1520" y="392220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1520" y="392220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40880" y="384156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0880" y="384156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39240" y="39297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9240" y="39297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268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562720"/>
            <a:ext cx="5105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3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4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5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791320" y="64771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61707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5943600"/>
            <a:ext cx="152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8200" y="632448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308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4059200">
            <a:off x="4726800" y="2405520"/>
            <a:ext cx="380880" cy="13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0240" y="1522440"/>
            <a:ext cx="588960" cy="380880"/>
          </a:xfrm>
          <a:prstGeom prst="wedgeRoundRectCallout">
            <a:avLst>
              <a:gd name="adj1" fmla="val -39703"/>
              <a:gd name="adj2" fmla="val 16543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70866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olution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ingress and every e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ingress to egress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342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353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364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375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386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397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414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425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395200">
            <a:off x="5245200" y="2027160"/>
            <a:ext cx="207720" cy="2923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440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451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462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59092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480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38280" y="3809880"/>
            <a:ext cx="555840" cy="490320"/>
            <a:chOff x="2438280" y="3809880"/>
            <a:chExt cx="555840" cy="490320"/>
          </a:xfrm>
        </p:grpSpPr>
        <p:sp>
          <p:nvSpPr>
            <p:cNvPr id="492" name=""/>
            <p:cNvSpPr/>
            <p:nvPr/>
          </p:nvSpPr>
          <p:spPr>
            <a:xfrm>
              <a:off x="2438280" y="40633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38280" y="3901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0440" y="39016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7720" y="39160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38280" y="39711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3811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0440" y="38098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57720" y="3823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36920" y="38833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28280" y="38750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4495680"/>
            <a:ext cx="1371600" cy="533520"/>
          </a:xfrm>
          <a:prstGeom prst="wedgeRoundRectCallout">
            <a:avLst>
              <a:gd name="adj1" fmla="val 24537"/>
              <a:gd name="adj2" fmla="val -141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ource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724280"/>
            <a:ext cx="1371600" cy="533520"/>
          </a:xfrm>
          <a:prstGeom prst="wedgeRoundRectCallout">
            <a:avLst>
              <a:gd name="adj1" fmla="val -48495"/>
              <a:gd name="adj2" fmla="val -178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Ingress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200400"/>
            <a:ext cx="1600200" cy="533520"/>
          </a:xfrm>
          <a:prstGeom prst="wedgeRoundRectCallout">
            <a:avLst>
              <a:gd name="adj1" fmla="val -91865"/>
              <a:gd name="adj2" fmla="val -72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Egress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5105520"/>
            <a:ext cx="1600200" cy="533160"/>
          </a:xfrm>
          <a:prstGeom prst="wedgeRoundRectCallout">
            <a:avLst>
              <a:gd name="adj1" fmla="val 31546"/>
              <a:gd name="adj2" fmla="val -1625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Destination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14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0T19:45:44Z</dcterms:modified>
  <cp:revision>196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7xd1nYWBLHWrMW3ho3HfHYwWs3GXV3ujdpMSrDMY0gk5m/jSukrLASsXI2sbyu/FGhhX0myl
pbtv1C8ARDpTIEdtvsfX6mxGNqr393IVj1/aVfz2uaa67lwpFSt5glP+spFgIuXO4sZq41qh
ihnF0WgKmmeUyQblH5wTVPFLcmBet75zRyh1sSn5OpIoTfGn8DF2a4SbaEIRvMgkFOqdNQq2
DywsN2VVVLjDSj9FdzUUf</vt:lpwstr>
  </property>
  <property fmtid="{D5CDD505-2E9C-101B-9397-08002B2CF9AE}" pid="3" name="_ms_pID_7253431">
    <vt:lpwstr>gxYWPMMEJciW0qJszwLSwvF2T0FndtW5jnWMaeCaih31Lkguk1M
8j6DtYm3R0OHCiu7dgz936Hy0tyVYMQLC7VMK7Z4N/XFHcF7KtYly3SMl9LQXt5wexVUe5Qp
Se1eXs4GVdqAehxImAXTy+ZHjTO4E33FKWcbdH9xBkh3eA==</vt:lpwstr>
  </property>
  <property fmtid="{D5CDD505-2E9C-101B-9397-08002B2CF9AE}" pid="4" name="sflag">
    <vt:lpwstr>1320954193</vt:lpwstr>
  </property>
</Properties>
</file>