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A42-6466-47A3-8D7D-8BA19235DD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6D9-4911-42D3-A396-D21C325B92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322-19BA-4195-970B-1A23F53BDD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C22-C04A-4191-9241-212B120AF1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1593-74C2-45A6-A8DE-2427C5F8DD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2184-E5B1-42C2-A61E-EB0E0098D1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9EF8-01BB-40C3-B7BA-E35308A210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8FB-0BCE-484D-A67F-84034013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D28-B9FD-4647-ACF6-9B929A8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A92-47E6-48A8-80CB-E732199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A7A-7CB7-416B-B305-3C877D11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8A7-AA26-4DC3-A9C5-8DD36433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576-3CB7-4A66-8EF7-C9CEB33C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266-6A11-42BC-9ED8-8BBB6667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5D2-4F38-422C-A658-C971778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742-9E7F-4284-9163-2EB7CFC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5E5-D266-435F-8B2E-3542EA72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D9D-550A-4FAF-8C88-F374F9D3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5CE-9D8A-4E73-852A-3A18995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6D2-8D98-4000-A587-2028F72A86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CEP extensions for GMP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PCE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G, IETF 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82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ietf-pce-gmpls-pcep-extensions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22860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3720" y="41148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yril Mar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kia Sieme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scar González de 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efonica Investigacio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awei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from previous re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from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8600" y="10666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editorial points (formatting, referenc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point TLV error code clarification : distinguish between unsupported TLVs and supported TLVs causing NO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re essentially local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affic spec, switching type and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: SDH or ODU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LABEL_SET cannot b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revision will remove those in PCReq, if no further com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pecify the RSVP LABEL s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LABEL_SET object in PC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LABEL_SET TLV in 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 raised on the mailing list and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LABEL can be specified p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IRO and XRO with LABEL sub-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_SET and SUGGESTED_LABEL_SET could be int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document according to W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vision ready for LC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sfg47</cp:lastModifiedBy>
  <dcterms:modified xsi:type="dcterms:W3CDTF">2011-11-17T02:28:08Z</dcterms:modified>
  <cp:revision>1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