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ABA97-F498-43F7-845A-402D99DE86E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ED26C-D1AA-4BD8-993A-60354592FEB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3C5F5-545B-4553-B278-FF8A10A747F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A3260-EAFC-44AA-8F8C-DA601041C1F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69DF3-EF88-4F7A-ACD6-A9739A1D220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884ED-D79D-4670-BED9-74541D5287F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390C7-2B0A-4652-A3D7-81B9401C828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94A9-8B75-43AB-B4C8-16A6E22E7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DF87-68E7-4864-A2DB-50CE36FAC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5762-12B9-416C-A3B1-190F8B8A5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AB71-AEEA-4685-921B-954E094C4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67AF-0158-4600-84A7-A04D25F2F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9223-EB86-48AB-802E-20FAF1D06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20F0-C59B-4036-A111-FFF9EB273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428A-DE50-486B-A706-ECE344676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4C7A-E3C8-4813-8381-E9CF383B5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65A0-B035-48DD-B02F-ABB24229C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436B-8F3B-412D-996D-EE130525E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267C-F671-49BE-BE8C-F052793F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4B3DE-9578-4DF4-BEED-A170AF29816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PCEP extensions for GMP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2133360"/>
            <a:ext cx="85345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PCE </a:t>
            </a:r>
            <a:r>
              <a:rPr b="0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WG, IETF </a:t>
            </a:r>
            <a:r>
              <a:rPr b="0" lang="de-DE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82</a:t>
            </a:r>
            <a:r>
              <a:rPr b="0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raft-ietf-pce-gmpls-pcep-extensions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457200" y="228600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2133720" y="4114800"/>
            <a:ext cx="6324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Cyril Marg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okia Siemens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Oscar González de D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elefonica Investigacion y Desarro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tai Zh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uawei Technolog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ce from previous revi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pic raised on the mailing list and re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ce from 0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4"/>
          <p:cNvSpPr/>
          <p:nvPr/>
        </p:nvSpPr>
        <p:spPr>
          <a:xfrm>
            <a:off x="228600" y="1066680"/>
            <a:ext cx="8534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or editorial points (formatting, reference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point TLV error code clarification : distinguish between unsupported TLVs and supported TLVs causing NO-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pic raised on the mailing list and res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EL are essentially local to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Traffic spec, switching type and en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 : SDH or ODU la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-to-End LABEL_SET cannot be appl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revision will remove those in PCReq, if no further com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specify the RSVP LABEL set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LABEL_SET object in PCR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a LABEL_SET TLV in ER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pic raised on the mailing list and res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 LABEL can be specified per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 IRO and XRO with LABEL sub-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EL_SET and SUGGESTED_LABEL_SET could be introduc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se document according to WG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revision ready for LC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533520" y="3124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emsfg47</cp:lastModifiedBy>
  <dcterms:modified xsi:type="dcterms:W3CDTF">2011-11-17T02:28:08Z</dcterms:modified>
  <cp:revision>17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