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DCC3-3BE4-4F03-AADA-7AB4151E38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448-AA25-4360-8102-51768FEFA6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44C-4700-4147-A36E-3F8962C0E3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1CA-359B-47DF-A8B6-38254351F1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A90-0068-459B-8A92-D2070D25B2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7664-B86F-485F-982C-56898394B4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4C59-D303-4431-B376-C4454C6A33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54E9-340E-4FAB-9C21-0437A9B645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9C3-5292-49B8-A94C-C0B3B8359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087-34C9-4CA1-8D9F-DD4AE608FF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76A-13EF-4C60-8219-95A0F42CEF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B21-0E8E-4A28-B0B6-8EAE229CEA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CDE-CF45-46F6-8640-8F02039D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0F7-470F-4C68-A93C-38D3854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ABA-623C-49A9-8091-453EE0EC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3A3-E2A4-4919-AD22-D82CB155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751-C33A-4D78-B8C4-D7F94EC7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8C4-14B3-40D0-8DB9-42A02CF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138-CF8E-428B-8ED5-3193A27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8BF-ADFC-4365-9E16-EF33AF2F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FE7-2D3C-4864-A390-6D9A8251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2E6-A72A-40E8-B564-3F5843B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DA6-B7F6-43F7-BBEA-CDBD885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692-9306-49BE-8748-62759C5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116B-98AD-4768-8CFE-21590BEB40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439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CEP Protocol Extension for Spectrum Utilization Optimization in Flexi-Grid Networks</a:t>
            </a:r>
            <a:br>
              <a:rPr sz="2400"/>
            </a:b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raft-zhaoyl-pce-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lexi-grid-pcep-ex-00.txt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3716280"/>
            <a:ext cx="69246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ngli Zhao, Jie Zhang, Tiantian Peng, Xiaosong  Y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ijing University of Posts and Tele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uping Cao , Dajiang W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TE Corp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143160" y="61437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82th IETF  Taip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0400" y="693360"/>
            <a:ext cx="60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6200" y="2463480"/>
            <a:ext cx="7378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document according to the feedback from meeting or mail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204640"/>
            <a:ext cx="60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971640" y="1481040"/>
            <a:ext cx="77896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-grid networ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anularity of flexi-grid networks can be small and agile, which can accommodate the bandwidth requirement of various client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guous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assigning the client LSP, we have t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suitable route and fit    contiguous spectrum for it, and it is 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x proc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 dynamic traffic scenario, the procedure of channel setup an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r down leads to fragmentation of spectral resour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213920"/>
            <a:ext cx="84297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s above two problems that would affect Spect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ation, we introduce some optimization in Routing and Spectrum assignment (RSA ) and propose defragment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from RWA, RSA has to find contiguous spectrum for every client L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WA , there are also several spectrum assignment algorithms. To increase utilization rate of spectrum resources, we have to select different RSA algorithms for different net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642960" y="500040"/>
            <a:ext cx="850104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ra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dure of channel setup an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r down lead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mentation of spectral resources, defragmentation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ed to  improve the continuity of spectrum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 of defra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onsolidate discontinuous spectrum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crease utilization rate of spectrum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educe the blocking prob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ragmentation doesn’t exist in traditional networks.  Flexi-grid networks require to extend PCEP protocol to support i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 Extension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92480" y="1428840"/>
            <a:ext cx="87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R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RAEO-list information to support RSA algorithms sele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 &lt;RP&gt;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NO-PATH&gt;] information to find whether contiguous spectrum is satisf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714240" y="2700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quest&gt;::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END-POINT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LSPA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BANDWIDTH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metric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RO&gt;[&lt;BANDWIDTH&gt;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IRO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LOAD-BALANCING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37640" y="2714760"/>
            <a:ext cx="305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sponse&gt;::=&lt;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&lt;NO-PATH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attribute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path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343240" y="1500120"/>
            <a:ext cx="3800520" cy="14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143080" y="4929120"/>
            <a:ext cx="3800520" cy="125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6"/>
          <p:cNvSpPr/>
          <p:nvPr/>
        </p:nvSpPr>
        <p:spPr>
          <a:xfrm>
            <a:off x="822960" y="571680"/>
            <a:ext cx="75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P Objec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bit is the Cascade bit, if C=1,assign continuous spectrum for traffic else as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ontinuous spectr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785880" y="292896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-PA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 -Nature of Issue (8 bits):  The NI field is used to report th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e of the issue that leads to a negative reply.  Two values ar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defin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: No path satisfying the set of constraints could be f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PCE chain bro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No path satisfying the Continuous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653160" cy="2584440"/>
          </a:xfrm>
          <a:prstGeom prst="rect">
            <a:avLst/>
          </a:prstGeom>
          <a:ln w="0">
            <a:noFill/>
          </a:ln>
        </p:spPr>
      </p:pic>
      <p:sp>
        <p:nvSpPr>
          <p:cNvPr id="66" name="矩形 3"/>
          <p:cNvSpPr/>
          <p:nvPr/>
        </p:nvSpPr>
        <p:spPr>
          <a:xfrm>
            <a:off x="1004760" y="1000080"/>
            <a:ext cx="64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 defined as fol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 Id”, which stands for the number o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Pri" that means priority of thes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ragment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 Extension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785880" y="13572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wo messages to support defrag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trum Defragmentation Request Mess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trum Defragmentation Reply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928800" y="2643120"/>
            <a:ext cx="635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um Defragmentation Request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Req Message&gt;::= &lt;Common Heade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TO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LSPA Object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um Defragmentation Reply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Rep Message&gt;::= &lt;Common Heade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TO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route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LSPA Object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87440" y="5300640"/>
            <a:ext cx="3781440" cy="67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sweety\Documents\Tencent Files\362633476\Image\W)[9%$002O95OSG0Q7M@X(C.jpg"/>
          <p:cNvPicPr/>
          <p:nvPr/>
        </p:nvPicPr>
        <p:blipFill>
          <a:blip r:embed="rId2"/>
          <a:stretch/>
        </p:blipFill>
        <p:spPr>
          <a:xfrm>
            <a:off x="2071800" y="1857240"/>
            <a:ext cx="4214880" cy="1916280"/>
          </a:xfrm>
          <a:prstGeom prst="rect">
            <a:avLst/>
          </a:prstGeom>
          <a:ln w="0">
            <a:noFill/>
          </a:ln>
        </p:spPr>
      </p:pic>
      <p:sp>
        <p:nvSpPr>
          <p:cNvPr id="72" name="矩形 3"/>
          <p:cNvSpPr/>
          <p:nvPr/>
        </p:nvSpPr>
        <p:spPr>
          <a:xfrm>
            <a:off x="1143000" y="85716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TO: Spectrum Defragmentation Target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Target Clutter Value" stand for th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 of defragment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R" means whether the network MUST mak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1071720" y="39290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route&gt;::=&lt;RP Objec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path&gt;&lt;Center Frequency&gt;&lt;Bandwidt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path&gt;&lt;Center Frequency&gt;&lt;Bandwidt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Center Frequency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1:55:12Z</dcterms:created>
  <dc:creator>sweety</dc:creator>
  <dc:description/>
  <dc:language>en-US</dc:language>
  <cp:lastModifiedBy>推荐书</cp:lastModifiedBy>
  <dcterms:modified xsi:type="dcterms:W3CDTF">2011-11-16T06:24:59Z</dcterms:modified>
  <cp:revision>91</cp:revision>
  <dc:subject/>
  <dc:title>Protocol Extension Requirement for Cooperation between PCE and             Distributed Routing Controller in GMPLS Networks draft-zhaoyl-pce-dre-01.txt</dc:title>
</cp:coreProperties>
</file>