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EA49-AD1F-44CB-8D53-0D6B25D3AD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3E8D-13DD-4722-90C4-FC22D56B53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621F-959D-4533-9D55-A49EC6F369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A11B-0C9C-498D-A685-951BADF90B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C928-EBC6-4563-9454-A312F9F482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4F92-C951-4B82-A12B-C32F7E07E5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AE37-A502-46D6-8A43-E1243FD735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E075-FA55-4BD8-821E-1C89BEDC61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7626-C1BB-4468-ACB3-0BD9BCCCDA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6C87-98CB-408B-900B-8097B7E49E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0C2C-F79B-40CC-BDFF-C6B2FE9707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E729-3C7D-4F97-8D4C-493DEF4F4C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B10-67E6-4A73-B653-6B625F4E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4FE-963E-4198-B751-56B093AA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D6D-E112-4161-8BBF-50348618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097-C813-4233-AEC1-F1E27161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619-ACB1-4CFB-B3AA-AF2989F6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C3D-E638-4F8C-8972-F040FC60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A00-BB7C-48AC-8F55-ED88CA69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B01-EC24-4571-87B3-1572D082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9E8-8681-47F1-82FE-4C7B5E60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F0A-5B8F-4F95-942F-B5173C36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736-E612-4C62-8D0D-0836479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B48-D9BD-414C-AA0D-4B88CEDB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734F-10C9-45C0-94D7-BA72E9FF8A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439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CEP Protocol Extension for Spectrum Utilization Optimization in Flexi-Grid Networks</a:t>
            </a:r>
            <a:br>
              <a:rPr sz="2400"/>
            </a:b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draft-zhaoyl-pce-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lexi-grid-pcep-ex-00.txt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5640" y="3716280"/>
            <a:ext cx="69246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ngli Zhao, Jie Zhang, Tiantian Peng, Xiaosong  Y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ijing University of Posts and Tele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uping Cao , Dajiang Wa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TE Corpo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143160" y="61437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82th IETF  Taip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0400" y="693360"/>
            <a:ext cx="600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6200" y="2463480"/>
            <a:ext cx="7378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document according to the feedback from meeting or mailing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 are always appreci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2204640"/>
            <a:ext cx="600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971640" y="1481040"/>
            <a:ext cx="77896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exi-grid network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exi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ranularity of flexi-grid networks can be small and agile, which can accommodate the bandwidth requirement of various client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guous spec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assigning the client LSP, we have t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 suitable route and fit    contiguous spectrum for it, and it is a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x proc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ag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a dynamic traffic scenario, the procedure of channel setup an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r down leads to fragmentation of spectral resour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Assum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1213920"/>
            <a:ext cx="84297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vercomes above two problems that would affect Spectr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ation, we introduce some optimization in Routing and Spectrum assignment (RSA ) and propose defragment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from RWA, RSA has to find contiguous spectrum for every client L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WA , there are also several spectrum assignment algorithms. To increase utilization rate of spectrum resources, we have to select different RSA algorithms for different net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642960" y="500040"/>
            <a:ext cx="850104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rag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dure of channel setup an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r down leads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gmentation of spectral resources, defragmentation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osed to  improve the continuity of spectrum resour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 of defrag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consolidate discontinuous spectrum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ncrease utilization rate of spectrum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reduce the blocking prob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ragmentation doesn’t exist in traditional networks.  Flexi-grid networks require to extend PCEP protocol to support i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A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EP Extension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92480" y="1428840"/>
            <a:ext cx="87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R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RAEO-list information to support RSA algorithms sele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 &lt;RP&gt;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NO-PATH&gt;] information to find whether contiguous spectrum is satisfi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714240" y="27003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request&gt;::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lt;R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END-POINTS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&lt;RAEO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LSPA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BANDWIDTH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metric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RRO&gt;[&lt;BANDWIDTH&gt;]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IRO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LOAD-BALANCING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37640" y="2714760"/>
            <a:ext cx="305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response&gt;::=&lt;R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&lt;NO-PATH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attribute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path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343240" y="1500120"/>
            <a:ext cx="3800520" cy="14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143080" y="4929120"/>
            <a:ext cx="3800520" cy="1257480"/>
          </a:xfrm>
          <a:prstGeom prst="rect">
            <a:avLst/>
          </a:prstGeom>
          <a:ln w="0">
            <a:noFill/>
          </a:ln>
        </p:spPr>
      </p:pic>
      <p:sp>
        <p:nvSpPr>
          <p:cNvPr id="63" name="矩形 6"/>
          <p:cNvSpPr/>
          <p:nvPr/>
        </p:nvSpPr>
        <p:spPr>
          <a:xfrm>
            <a:off x="822960" y="571680"/>
            <a:ext cx="751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P Object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bit is the Cascade bit, if C=1,assign continuous spectrum for traffic else as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ontinuous spectru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785880" y="292896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-PA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 -Nature of Issue (8 bits):  The NI field is used to report th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ure of the issue that leads to a negative reply.  Two values ar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ly defin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: No path satisfying the set of constraints could be f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: PCE chain bro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: No path satisfying the Continuous spec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653160" cy="2584440"/>
          </a:xfrm>
          <a:prstGeom prst="rect">
            <a:avLst/>
          </a:prstGeom>
          <a:ln w="0">
            <a:noFill/>
          </a:ln>
        </p:spPr>
      </p:pic>
      <p:sp>
        <p:nvSpPr>
          <p:cNvPr id="66" name="矩形 3"/>
          <p:cNvSpPr/>
          <p:nvPr/>
        </p:nvSpPr>
        <p:spPr>
          <a:xfrm>
            <a:off x="1004760" y="1000080"/>
            <a:ext cx="64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RAEO-list&gt;] defined as follow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 Id”, which stands for the number of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t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Pri" that means priority of thes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ragmentat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EP Extension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785880" y="13572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wo messages to support defrag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trum Defragmentation Request Mess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trum Defragmentation Reply Me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928800" y="2643120"/>
            <a:ext cx="6357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trum Defragmentation Request Me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DReq Message&gt;::= &lt;Common Heade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DTO-lis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LSPA Object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RAEO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trum Defragmentation Reply Me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DRep Message&gt;::= &lt;Common Heade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DTO-lis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Reroute-lis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LSPA Object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&lt;RAEO-list&gt;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287440" y="5300640"/>
            <a:ext cx="3781440" cy="676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sweety\Documents\Tencent Files\362633476\Image\W)[9%$002O95OSG0Q7M@X(C.jpg"/>
          <p:cNvPicPr/>
          <p:nvPr/>
        </p:nvPicPr>
        <p:blipFill>
          <a:blip r:embed="rId2"/>
          <a:stretch/>
        </p:blipFill>
        <p:spPr>
          <a:xfrm>
            <a:off x="2071800" y="1857240"/>
            <a:ext cx="4214880" cy="1916280"/>
          </a:xfrm>
          <a:prstGeom prst="rect">
            <a:avLst/>
          </a:prstGeom>
          <a:ln w="0">
            <a:noFill/>
          </a:ln>
        </p:spPr>
      </p:pic>
      <p:sp>
        <p:nvSpPr>
          <p:cNvPr id="72" name="矩形 3"/>
          <p:cNvSpPr/>
          <p:nvPr/>
        </p:nvSpPr>
        <p:spPr>
          <a:xfrm>
            <a:off x="1143000" y="85716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TO: Spectrum Defragmentation Target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Target Clutter Value" stand for th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al of defragment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R" means whether the network MUST make 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4"/>
          <p:cNvSpPr/>
          <p:nvPr/>
        </p:nvSpPr>
        <p:spPr>
          <a:xfrm>
            <a:off x="1071720" y="392904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Reroute&gt;::=&lt;RP Objec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path&gt;&lt;Center Frequency&gt;&lt;Bandwidth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path&gt;&lt;Center Frequency&gt;&lt;Bandwidth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Center Frequency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1:55:12Z</dcterms:created>
  <dc:creator>sweety</dc:creator>
  <dc:description/>
  <dc:language>en-US</dc:language>
  <cp:lastModifiedBy>推荐书</cp:lastModifiedBy>
  <dcterms:modified xsi:type="dcterms:W3CDTF">2011-11-16T06:24:59Z</dcterms:modified>
  <cp:revision>91</cp:revision>
  <dc:subject/>
  <dc:title>Protocol Extension Requirement for Cooperation between PCE and             Distributed Routing Controller in GMPLS Networks draft-zhaoyl-pce-dre-01.txt</dc:title>
</cp:coreProperties>
</file>